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59A34-6860-4EFA-AC84-D3352942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3DE4-1556-4EA1-AB48-540A09BD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E97-98B4-4E20-B01F-6892BE11B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FAF-3332-4CA8-B20E-0643AE13C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0623-B3E0-4266-96C2-9DAC836CE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3F72-CA7D-45DB-B9B7-C8BC0068C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4F86-FC27-4D46-89A6-2209ABC8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D57-F892-46FD-956A-F194A4A9C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BEC6-939D-4148-92A0-A47D5501C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51F-F14C-4AEA-B127-C5050DA5F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9C75E-AB0E-4D73-B1B4-94A64EE67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5C78-1A6C-4060-B263-6BDBDCC6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B163-2CBE-40BB-AFA1-484FEED8B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hyperlink" Target="http://www.basmanov.photoshopsecrets.ru/wp-content/gallery/raznoe/1242319338_73370_1.jpg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www.nikadent.ru/images/med_karta.jpg" TargetMode="External"/><Relationship Id="rId6" Type="http://schemas.openxmlformats.org/officeDocument/2006/relationships/image" Target="../media/image17.png"/><Relationship Id="rId7" Type="http://schemas.openxmlformats.org/officeDocument/2006/relationships/hyperlink" Target="http://radko.at.tut.by/antenna/lokus-12/map.gif" TargetMode="External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904760" cy="2417760"/>
          </a:xfrm>
          <a:prstGeom prst="rect">
            <a:avLst/>
          </a:prstGeom>
          <a:ln w="0">
            <a:noFill/>
          </a:ln>
        </p:spPr>
      </p:pic>
      <p:pic>
        <p:nvPicPr>
          <p:cNvPr id="42" name="1252851343_1252683917_121321" descr=""/>
          <p:cNvPicPr/>
          <p:nvPr/>
        </p:nvPicPr>
        <p:blipFill>
          <a:blip r:embed="rId2"/>
          <a:stretch/>
        </p:blipFill>
        <p:spPr>
          <a:xfrm>
            <a:off x="5580000" y="2421000"/>
            <a:ext cx="3429000" cy="42926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755640" y="2781360"/>
            <a:ext cx="4753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Иг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«Юный хим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00360" y="2565360"/>
            <a:ext cx="3889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Bookman Old Style"/>
              </a:rPr>
              <a:t>Карта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0436" descr=""/>
          <p:cNvPicPr/>
          <p:nvPr/>
        </p:nvPicPr>
        <p:blipFill>
          <a:blip r:embed="rId1"/>
          <a:srcRect l="0" t="0" r="25002" b="0"/>
          <a:stretch/>
        </p:blipFill>
        <p:spPr>
          <a:xfrm>
            <a:off x="3132000" y="692280"/>
            <a:ext cx="2857680" cy="1523880"/>
          </a:xfrm>
          <a:prstGeom prst="rect">
            <a:avLst/>
          </a:prstGeom>
          <a:ln w="0">
            <a:noFill/>
          </a:ln>
        </p:spPr>
      </p:pic>
      <p:pic>
        <p:nvPicPr>
          <p:cNvPr id="92" name="800px-Credit-cards" descr="Файл:Credit-cards.jpg"/>
          <p:cNvPicPr/>
          <p:nvPr/>
        </p:nvPicPr>
        <p:blipFill>
          <a:blip r:embed="rId2"/>
          <a:stretch/>
        </p:blipFill>
        <p:spPr>
          <a:xfrm>
            <a:off x="5942160" y="765000"/>
            <a:ext cx="3201840" cy="2401920"/>
          </a:xfrm>
          <a:prstGeom prst="rect">
            <a:avLst/>
          </a:prstGeom>
          <a:ln w="0">
            <a:noFill/>
          </a:ln>
        </p:spPr>
      </p:pic>
      <p:pic>
        <p:nvPicPr>
          <p:cNvPr id="93" name="i-main-pic" descr="Картинка 1 из 11497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55640" y="4581360"/>
            <a:ext cx="3022560" cy="2130480"/>
          </a:xfrm>
          <a:prstGeom prst="rect">
            <a:avLst/>
          </a:prstGeom>
          <a:ln w="0">
            <a:noFill/>
          </a:ln>
        </p:spPr>
      </p:pic>
      <p:pic>
        <p:nvPicPr>
          <p:cNvPr id="94" name="i-main-pic" descr="Картинка 7 из 9714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932360" y="4076640"/>
            <a:ext cx="3708360" cy="2559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916360" y="2205000"/>
            <a:ext cx="2950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2637000"/>
            <a:ext cx="25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ookman Old Style"/>
              </a:rPr>
              <a:t>Карт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i-main-pic" descr="Картинка 15 из 9526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50920" y="1197000"/>
            <a:ext cx="2557440" cy="26636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549360"/>
            <a:ext cx="24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Мес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360" y="189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Играль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16720" y="69228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Пластиковая</a:t>
            </a: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1280" y="400536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Памя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80000" y="3573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Bookman Old Style"/>
              </a:rPr>
              <a:t>Медицинск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11280" y="0"/>
            <a:ext cx="799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</a:rPr>
              <a:t>Географическая карта — карта земной поверхности, показывающая размещение, состояние и связи различных природных и общественных явлений, их изменения во времени, развитие и перемещ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Картинка 3 из 69821"/>
          <p:cNvPicPr/>
          <p:nvPr/>
        </p:nvPicPr>
        <p:blipFill>
          <a:blip r:embed="rId1"/>
          <a:srcRect l="0" t="0" r="0" b="3555"/>
          <a:stretch/>
        </p:blipFill>
        <p:spPr>
          <a:xfrm>
            <a:off x="0" y="1484280"/>
            <a:ext cx="3924360" cy="2428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867280" y="1341360"/>
            <a:ext cx="3171960" cy="3810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Картинка 10 из 1923"/>
          <p:cNvPicPr/>
          <p:nvPr/>
        </p:nvPicPr>
        <p:blipFill>
          <a:blip r:embed="rId3"/>
          <a:stretch/>
        </p:blipFill>
        <p:spPr>
          <a:xfrm>
            <a:off x="3121200" y="3357720"/>
            <a:ext cx="3132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11280" y="404640"/>
            <a:ext cx="792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Карта материка неорганических вещест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0200" y="2852640"/>
            <a:ext cx="871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Государства (стран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Горо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Bookman Old Style"/>
              </a:rPr>
              <a:t>Жители (фотографии, имена и т.п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-57240" y="-316080"/>
            <a:ext cx="9201240" cy="8218800"/>
          </a:xfrm>
          <a:custGeom>
            <a:avLst/>
            <a:gdLst/>
            <a:ahLst/>
            <a:rect l="l" t="t" r="r" b="b"/>
            <a:pathLst>
              <a:path w="5796" h="5177">
                <a:moveTo>
                  <a:pt x="1351" y="305"/>
                </a:moveTo>
                <a:cubicBezTo>
                  <a:pt x="1254" y="158"/>
                  <a:pt x="1340" y="264"/>
                  <a:pt x="944" y="271"/>
                </a:cubicBezTo>
                <a:cubicBezTo>
                  <a:pt x="864" y="279"/>
                  <a:pt x="821" y="298"/>
                  <a:pt x="748" y="311"/>
                </a:cubicBezTo>
                <a:cubicBezTo>
                  <a:pt x="661" y="326"/>
                  <a:pt x="579" y="334"/>
                  <a:pt x="490" y="339"/>
                </a:cubicBezTo>
                <a:cubicBezTo>
                  <a:pt x="449" y="346"/>
                  <a:pt x="416" y="365"/>
                  <a:pt x="375" y="372"/>
                </a:cubicBezTo>
                <a:cubicBezTo>
                  <a:pt x="370" y="379"/>
                  <a:pt x="367" y="387"/>
                  <a:pt x="361" y="393"/>
                </a:cubicBezTo>
                <a:cubicBezTo>
                  <a:pt x="355" y="399"/>
                  <a:pt x="346" y="400"/>
                  <a:pt x="341" y="406"/>
                </a:cubicBezTo>
                <a:cubicBezTo>
                  <a:pt x="336" y="412"/>
                  <a:pt x="339" y="421"/>
                  <a:pt x="334" y="427"/>
                </a:cubicBezTo>
                <a:cubicBezTo>
                  <a:pt x="327" y="436"/>
                  <a:pt x="272" y="500"/>
                  <a:pt x="260" y="508"/>
                </a:cubicBezTo>
                <a:cubicBezTo>
                  <a:pt x="240" y="536"/>
                  <a:pt x="220" y="571"/>
                  <a:pt x="192" y="589"/>
                </a:cubicBezTo>
                <a:cubicBezTo>
                  <a:pt x="169" y="658"/>
                  <a:pt x="207" y="555"/>
                  <a:pt x="165" y="630"/>
                </a:cubicBezTo>
                <a:cubicBezTo>
                  <a:pt x="158" y="643"/>
                  <a:pt x="159" y="659"/>
                  <a:pt x="151" y="671"/>
                </a:cubicBezTo>
                <a:cubicBezTo>
                  <a:pt x="147" y="678"/>
                  <a:pt x="142" y="684"/>
                  <a:pt x="138" y="691"/>
                </a:cubicBezTo>
                <a:cubicBezTo>
                  <a:pt x="132" y="716"/>
                  <a:pt x="123" y="740"/>
                  <a:pt x="117" y="765"/>
                </a:cubicBezTo>
                <a:cubicBezTo>
                  <a:pt x="111" y="864"/>
                  <a:pt x="102" y="968"/>
                  <a:pt x="56" y="1057"/>
                </a:cubicBezTo>
                <a:cubicBezTo>
                  <a:pt x="21" y="1257"/>
                  <a:pt x="0" y="1471"/>
                  <a:pt x="56" y="1667"/>
                </a:cubicBezTo>
                <a:cubicBezTo>
                  <a:pt x="64" y="1753"/>
                  <a:pt x="80" y="1840"/>
                  <a:pt x="97" y="1924"/>
                </a:cubicBezTo>
                <a:cubicBezTo>
                  <a:pt x="87" y="2279"/>
                  <a:pt x="86" y="2288"/>
                  <a:pt x="63" y="2514"/>
                </a:cubicBezTo>
                <a:cubicBezTo>
                  <a:pt x="65" y="2663"/>
                  <a:pt x="66" y="2812"/>
                  <a:pt x="70" y="2961"/>
                </a:cubicBezTo>
                <a:cubicBezTo>
                  <a:pt x="72" y="3026"/>
                  <a:pt x="96" y="3098"/>
                  <a:pt x="104" y="3164"/>
                </a:cubicBezTo>
                <a:cubicBezTo>
                  <a:pt x="106" y="3259"/>
                  <a:pt x="111" y="3354"/>
                  <a:pt x="111" y="3449"/>
                </a:cubicBezTo>
                <a:cubicBezTo>
                  <a:pt x="111" y="3474"/>
                  <a:pt x="104" y="3498"/>
                  <a:pt x="104" y="3523"/>
                </a:cubicBezTo>
                <a:cubicBezTo>
                  <a:pt x="104" y="3607"/>
                  <a:pt x="106" y="3639"/>
                  <a:pt x="117" y="3706"/>
                </a:cubicBezTo>
                <a:cubicBezTo>
                  <a:pt x="121" y="3733"/>
                  <a:pt x="131" y="3788"/>
                  <a:pt x="131" y="3788"/>
                </a:cubicBezTo>
                <a:cubicBezTo>
                  <a:pt x="136" y="3856"/>
                  <a:pt x="136" y="3871"/>
                  <a:pt x="151" y="3923"/>
                </a:cubicBezTo>
                <a:cubicBezTo>
                  <a:pt x="172" y="4064"/>
                  <a:pt x="162" y="4123"/>
                  <a:pt x="260" y="4221"/>
                </a:cubicBezTo>
                <a:cubicBezTo>
                  <a:pt x="302" y="4263"/>
                  <a:pt x="271" y="4239"/>
                  <a:pt x="328" y="4276"/>
                </a:cubicBezTo>
                <a:cubicBezTo>
                  <a:pt x="350" y="4290"/>
                  <a:pt x="363" y="4309"/>
                  <a:pt x="388" y="4316"/>
                </a:cubicBezTo>
                <a:cubicBezTo>
                  <a:pt x="416" y="4335"/>
                  <a:pt x="451" y="4360"/>
                  <a:pt x="483" y="4371"/>
                </a:cubicBezTo>
                <a:cubicBezTo>
                  <a:pt x="499" y="4377"/>
                  <a:pt x="531" y="4384"/>
                  <a:pt x="531" y="4384"/>
                </a:cubicBezTo>
                <a:cubicBezTo>
                  <a:pt x="572" y="4408"/>
                  <a:pt x="620" y="4431"/>
                  <a:pt x="666" y="4438"/>
                </a:cubicBezTo>
                <a:cubicBezTo>
                  <a:pt x="741" y="4463"/>
                  <a:pt x="822" y="4434"/>
                  <a:pt x="897" y="4459"/>
                </a:cubicBezTo>
                <a:cubicBezTo>
                  <a:pt x="925" y="4487"/>
                  <a:pt x="981" y="4520"/>
                  <a:pt x="1019" y="4533"/>
                </a:cubicBezTo>
                <a:cubicBezTo>
                  <a:pt x="1080" y="4527"/>
                  <a:pt x="1128" y="4528"/>
                  <a:pt x="1188" y="4540"/>
                </a:cubicBezTo>
                <a:cubicBezTo>
                  <a:pt x="1204" y="4550"/>
                  <a:pt x="1238" y="4541"/>
                  <a:pt x="1242" y="4560"/>
                </a:cubicBezTo>
                <a:cubicBezTo>
                  <a:pt x="1296" y="4844"/>
                  <a:pt x="1200" y="4704"/>
                  <a:pt x="1269" y="4797"/>
                </a:cubicBezTo>
                <a:cubicBezTo>
                  <a:pt x="1280" y="4862"/>
                  <a:pt x="1284" y="4942"/>
                  <a:pt x="1358" y="4960"/>
                </a:cubicBezTo>
                <a:cubicBezTo>
                  <a:pt x="1509" y="5072"/>
                  <a:pt x="1850" y="5026"/>
                  <a:pt x="1967" y="5028"/>
                </a:cubicBezTo>
                <a:cubicBezTo>
                  <a:pt x="2030" y="5039"/>
                  <a:pt x="2093" y="5048"/>
                  <a:pt x="2157" y="5055"/>
                </a:cubicBezTo>
                <a:cubicBezTo>
                  <a:pt x="2469" y="5034"/>
                  <a:pt x="2769" y="5016"/>
                  <a:pt x="3086" y="5008"/>
                </a:cubicBezTo>
                <a:cubicBezTo>
                  <a:pt x="3155" y="4996"/>
                  <a:pt x="3211" y="4979"/>
                  <a:pt x="3282" y="4974"/>
                </a:cubicBezTo>
                <a:cubicBezTo>
                  <a:pt x="3359" y="4946"/>
                  <a:pt x="3431" y="4910"/>
                  <a:pt x="3506" y="4879"/>
                </a:cubicBezTo>
                <a:cubicBezTo>
                  <a:pt x="3548" y="4835"/>
                  <a:pt x="3598" y="4803"/>
                  <a:pt x="3648" y="4770"/>
                </a:cubicBezTo>
                <a:cubicBezTo>
                  <a:pt x="3695" y="4739"/>
                  <a:pt x="3735" y="4703"/>
                  <a:pt x="3784" y="4675"/>
                </a:cubicBezTo>
                <a:cubicBezTo>
                  <a:pt x="3799" y="4652"/>
                  <a:pt x="3844" y="4621"/>
                  <a:pt x="3844" y="4621"/>
                </a:cubicBezTo>
                <a:cubicBezTo>
                  <a:pt x="3772" y="4602"/>
                  <a:pt x="3857" y="4592"/>
                  <a:pt x="3878" y="4587"/>
                </a:cubicBezTo>
                <a:cubicBezTo>
                  <a:pt x="3873" y="4571"/>
                  <a:pt x="3857" y="4532"/>
                  <a:pt x="3892" y="4526"/>
                </a:cubicBezTo>
                <a:cubicBezTo>
                  <a:pt x="3986" y="4509"/>
                  <a:pt x="4082" y="4517"/>
                  <a:pt x="4177" y="4513"/>
                </a:cubicBezTo>
                <a:cubicBezTo>
                  <a:pt x="4229" y="4500"/>
                  <a:pt x="4242" y="4493"/>
                  <a:pt x="4299" y="4493"/>
                </a:cubicBezTo>
                <a:cubicBezTo>
                  <a:pt x="4306" y="4493"/>
                  <a:pt x="4285" y="4497"/>
                  <a:pt x="4278" y="4499"/>
                </a:cubicBezTo>
                <a:cubicBezTo>
                  <a:pt x="4255" y="4522"/>
                  <a:pt x="4241" y="4537"/>
                  <a:pt x="4210" y="4547"/>
                </a:cubicBezTo>
                <a:cubicBezTo>
                  <a:pt x="4166" y="4584"/>
                  <a:pt x="4122" y="4627"/>
                  <a:pt x="4068" y="4648"/>
                </a:cubicBezTo>
                <a:cubicBezTo>
                  <a:pt x="3962" y="4740"/>
                  <a:pt x="4074" y="4653"/>
                  <a:pt x="3980" y="4703"/>
                </a:cubicBezTo>
                <a:cubicBezTo>
                  <a:pt x="3933" y="4728"/>
                  <a:pt x="3888" y="4774"/>
                  <a:pt x="3838" y="4791"/>
                </a:cubicBezTo>
                <a:cubicBezTo>
                  <a:pt x="3847" y="4750"/>
                  <a:pt x="3856" y="4764"/>
                  <a:pt x="3892" y="4750"/>
                </a:cubicBezTo>
                <a:cubicBezTo>
                  <a:pt x="3938" y="4732"/>
                  <a:pt x="3978" y="4706"/>
                  <a:pt x="4027" y="4696"/>
                </a:cubicBezTo>
                <a:cubicBezTo>
                  <a:pt x="4047" y="4686"/>
                  <a:pt x="4069" y="4680"/>
                  <a:pt x="4088" y="4669"/>
                </a:cubicBezTo>
                <a:cubicBezTo>
                  <a:pt x="4141" y="4638"/>
                  <a:pt x="4175" y="4602"/>
                  <a:pt x="4231" y="4587"/>
                </a:cubicBezTo>
                <a:cubicBezTo>
                  <a:pt x="4291" y="4552"/>
                  <a:pt x="4311" y="4552"/>
                  <a:pt x="4387" y="4547"/>
                </a:cubicBezTo>
                <a:cubicBezTo>
                  <a:pt x="4504" y="4549"/>
                  <a:pt x="4622" y="4546"/>
                  <a:pt x="4739" y="4553"/>
                </a:cubicBezTo>
                <a:cubicBezTo>
                  <a:pt x="4747" y="4553"/>
                  <a:pt x="4725" y="4561"/>
                  <a:pt x="4719" y="4567"/>
                </a:cubicBezTo>
                <a:cubicBezTo>
                  <a:pt x="4713" y="4573"/>
                  <a:pt x="4712" y="4582"/>
                  <a:pt x="4705" y="4587"/>
                </a:cubicBezTo>
                <a:cubicBezTo>
                  <a:pt x="4674" y="4609"/>
                  <a:pt x="4625" y="4611"/>
                  <a:pt x="4590" y="4614"/>
                </a:cubicBezTo>
                <a:cubicBezTo>
                  <a:pt x="4477" y="4637"/>
                  <a:pt x="4541" y="4647"/>
                  <a:pt x="4529" y="4574"/>
                </a:cubicBezTo>
                <a:cubicBezTo>
                  <a:pt x="4527" y="4563"/>
                  <a:pt x="4516" y="4556"/>
                  <a:pt x="4509" y="4547"/>
                </a:cubicBezTo>
                <a:cubicBezTo>
                  <a:pt x="4469" y="4614"/>
                  <a:pt x="4413" y="4666"/>
                  <a:pt x="4360" y="4723"/>
                </a:cubicBezTo>
                <a:cubicBezTo>
                  <a:pt x="4100" y="5001"/>
                  <a:pt x="3862" y="5121"/>
                  <a:pt x="3479" y="5177"/>
                </a:cubicBezTo>
                <a:cubicBezTo>
                  <a:pt x="3341" y="5172"/>
                  <a:pt x="3203" y="5169"/>
                  <a:pt x="3065" y="5163"/>
                </a:cubicBezTo>
                <a:cubicBezTo>
                  <a:pt x="3047" y="5162"/>
                  <a:pt x="3026" y="5167"/>
                  <a:pt x="3011" y="5157"/>
                </a:cubicBezTo>
                <a:cubicBezTo>
                  <a:pt x="3004" y="5152"/>
                  <a:pt x="3017" y="5139"/>
                  <a:pt x="3025" y="5136"/>
                </a:cubicBezTo>
                <a:cubicBezTo>
                  <a:pt x="3046" y="5127"/>
                  <a:pt x="3070" y="5127"/>
                  <a:pt x="3092" y="5123"/>
                </a:cubicBezTo>
                <a:cubicBezTo>
                  <a:pt x="3159" y="5128"/>
                  <a:pt x="3209" y="5148"/>
                  <a:pt x="3275" y="5157"/>
                </a:cubicBezTo>
                <a:cubicBezTo>
                  <a:pt x="3416" y="5147"/>
                  <a:pt x="3550" y="5127"/>
                  <a:pt x="3689" y="5109"/>
                </a:cubicBezTo>
                <a:cubicBezTo>
                  <a:pt x="3757" y="5089"/>
                  <a:pt x="3822" y="5080"/>
                  <a:pt x="3892" y="5069"/>
                </a:cubicBezTo>
                <a:cubicBezTo>
                  <a:pt x="4033" y="4997"/>
                  <a:pt x="4183" y="4957"/>
                  <a:pt x="4326" y="4892"/>
                </a:cubicBezTo>
                <a:cubicBezTo>
                  <a:pt x="4350" y="4881"/>
                  <a:pt x="4369" y="4863"/>
                  <a:pt x="4393" y="4852"/>
                </a:cubicBezTo>
                <a:cubicBezTo>
                  <a:pt x="4493" y="4805"/>
                  <a:pt x="4602" y="4777"/>
                  <a:pt x="4705" y="4736"/>
                </a:cubicBezTo>
                <a:cubicBezTo>
                  <a:pt x="4773" y="4709"/>
                  <a:pt x="4826" y="4666"/>
                  <a:pt x="4895" y="4648"/>
                </a:cubicBezTo>
                <a:cubicBezTo>
                  <a:pt x="4934" y="4625"/>
                  <a:pt x="4969" y="4620"/>
                  <a:pt x="5010" y="4601"/>
                </a:cubicBezTo>
                <a:cubicBezTo>
                  <a:pt x="5106" y="4556"/>
                  <a:pt x="5005" y="4587"/>
                  <a:pt x="5112" y="4560"/>
                </a:cubicBezTo>
                <a:cubicBezTo>
                  <a:pt x="5137" y="4544"/>
                  <a:pt x="5165" y="4533"/>
                  <a:pt x="5186" y="4513"/>
                </a:cubicBezTo>
                <a:cubicBezTo>
                  <a:pt x="5193" y="4506"/>
                  <a:pt x="5198" y="4497"/>
                  <a:pt x="5207" y="4493"/>
                </a:cubicBezTo>
                <a:cubicBezTo>
                  <a:pt x="5224" y="4485"/>
                  <a:pt x="5243" y="4484"/>
                  <a:pt x="5261" y="4479"/>
                </a:cubicBezTo>
                <a:cubicBezTo>
                  <a:pt x="5424" y="4483"/>
                  <a:pt x="5526" y="4461"/>
                  <a:pt x="5661" y="4506"/>
                </a:cubicBezTo>
                <a:cubicBezTo>
                  <a:pt x="5703" y="4535"/>
                  <a:pt x="5665" y="4559"/>
                  <a:pt x="5708" y="4587"/>
                </a:cubicBezTo>
                <a:cubicBezTo>
                  <a:pt x="5694" y="4594"/>
                  <a:pt x="5673" y="4615"/>
                  <a:pt x="5661" y="4587"/>
                </a:cubicBezTo>
                <a:cubicBezTo>
                  <a:pt x="5658" y="4581"/>
                  <a:pt x="5674" y="4569"/>
                  <a:pt x="5667" y="4567"/>
                </a:cubicBezTo>
                <a:cubicBezTo>
                  <a:pt x="5654" y="4562"/>
                  <a:pt x="5640" y="4572"/>
                  <a:pt x="5627" y="4574"/>
                </a:cubicBezTo>
                <a:cubicBezTo>
                  <a:pt x="5634" y="4532"/>
                  <a:pt x="5641" y="4510"/>
                  <a:pt x="5667" y="4479"/>
                </a:cubicBezTo>
                <a:cubicBezTo>
                  <a:pt x="5686" y="4456"/>
                  <a:pt x="5685" y="4441"/>
                  <a:pt x="5715" y="4432"/>
                </a:cubicBezTo>
                <a:cubicBezTo>
                  <a:pt x="5719" y="4425"/>
                  <a:pt x="5722" y="4417"/>
                  <a:pt x="5728" y="4411"/>
                </a:cubicBezTo>
                <a:cubicBezTo>
                  <a:pt x="5734" y="4405"/>
                  <a:pt x="5744" y="4404"/>
                  <a:pt x="5749" y="4398"/>
                </a:cubicBezTo>
                <a:cubicBezTo>
                  <a:pt x="5754" y="4392"/>
                  <a:pt x="5751" y="4383"/>
                  <a:pt x="5755" y="4377"/>
                </a:cubicBezTo>
                <a:cubicBezTo>
                  <a:pt x="5771" y="4353"/>
                  <a:pt x="5786" y="4345"/>
                  <a:pt x="5796" y="4316"/>
                </a:cubicBezTo>
                <a:cubicBezTo>
                  <a:pt x="5786" y="4216"/>
                  <a:pt x="5780" y="4223"/>
                  <a:pt x="5735" y="4133"/>
                </a:cubicBezTo>
                <a:cubicBezTo>
                  <a:pt x="5723" y="4110"/>
                  <a:pt x="5694" y="4066"/>
                  <a:pt x="5694" y="4066"/>
                </a:cubicBezTo>
                <a:cubicBezTo>
                  <a:pt x="5672" y="3991"/>
                  <a:pt x="5689" y="3923"/>
                  <a:pt x="5708" y="3849"/>
                </a:cubicBezTo>
                <a:cubicBezTo>
                  <a:pt x="5711" y="3839"/>
                  <a:pt x="5718" y="3831"/>
                  <a:pt x="5722" y="3822"/>
                </a:cubicBezTo>
                <a:cubicBezTo>
                  <a:pt x="5725" y="3815"/>
                  <a:pt x="5726" y="3808"/>
                  <a:pt x="5728" y="3801"/>
                </a:cubicBezTo>
                <a:cubicBezTo>
                  <a:pt x="5738" y="3756"/>
                  <a:pt x="5747" y="3711"/>
                  <a:pt x="5755" y="3666"/>
                </a:cubicBezTo>
                <a:cubicBezTo>
                  <a:pt x="5744" y="3559"/>
                  <a:pt x="5736" y="3416"/>
                  <a:pt x="5654" y="3334"/>
                </a:cubicBezTo>
                <a:cubicBezTo>
                  <a:pt x="5645" y="3308"/>
                  <a:pt x="5628" y="3295"/>
                  <a:pt x="5613" y="3273"/>
                </a:cubicBezTo>
                <a:cubicBezTo>
                  <a:pt x="5602" y="3239"/>
                  <a:pt x="5597" y="3212"/>
                  <a:pt x="5566" y="3191"/>
                </a:cubicBezTo>
                <a:cubicBezTo>
                  <a:pt x="5540" y="3141"/>
                  <a:pt x="5532" y="3083"/>
                  <a:pt x="5518" y="3029"/>
                </a:cubicBezTo>
                <a:cubicBezTo>
                  <a:pt x="5514" y="2975"/>
                  <a:pt x="5512" y="2920"/>
                  <a:pt x="5505" y="2866"/>
                </a:cubicBezTo>
                <a:cubicBezTo>
                  <a:pt x="5490" y="2740"/>
                  <a:pt x="5444" y="2618"/>
                  <a:pt x="5423" y="2493"/>
                </a:cubicBezTo>
                <a:cubicBezTo>
                  <a:pt x="5418" y="2281"/>
                  <a:pt x="5435" y="2218"/>
                  <a:pt x="5342" y="2060"/>
                </a:cubicBezTo>
                <a:cubicBezTo>
                  <a:pt x="5326" y="1995"/>
                  <a:pt x="5301" y="1928"/>
                  <a:pt x="5268" y="1870"/>
                </a:cubicBezTo>
                <a:cubicBezTo>
                  <a:pt x="5254" y="1791"/>
                  <a:pt x="5275" y="1866"/>
                  <a:pt x="5220" y="1782"/>
                </a:cubicBezTo>
                <a:cubicBezTo>
                  <a:pt x="5194" y="1743"/>
                  <a:pt x="5194" y="1683"/>
                  <a:pt x="5173" y="1640"/>
                </a:cubicBezTo>
                <a:cubicBezTo>
                  <a:pt x="5158" y="1566"/>
                  <a:pt x="5179" y="1644"/>
                  <a:pt x="5146" y="1579"/>
                </a:cubicBezTo>
                <a:cubicBezTo>
                  <a:pt x="5117" y="1522"/>
                  <a:pt x="5100" y="1459"/>
                  <a:pt x="5071" y="1402"/>
                </a:cubicBezTo>
                <a:cubicBezTo>
                  <a:pt x="5060" y="1349"/>
                  <a:pt x="5024" y="1297"/>
                  <a:pt x="5003" y="1247"/>
                </a:cubicBezTo>
                <a:cubicBezTo>
                  <a:pt x="4961" y="1149"/>
                  <a:pt x="4931" y="1032"/>
                  <a:pt x="4854" y="955"/>
                </a:cubicBezTo>
                <a:cubicBezTo>
                  <a:pt x="4844" y="917"/>
                  <a:pt x="4836" y="898"/>
                  <a:pt x="4800" y="881"/>
                </a:cubicBezTo>
                <a:cubicBezTo>
                  <a:pt x="4789" y="816"/>
                  <a:pt x="4769" y="815"/>
                  <a:pt x="4732" y="765"/>
                </a:cubicBezTo>
                <a:cubicBezTo>
                  <a:pt x="4700" y="722"/>
                  <a:pt x="4674" y="670"/>
                  <a:pt x="4631" y="637"/>
                </a:cubicBezTo>
                <a:cubicBezTo>
                  <a:pt x="4541" y="568"/>
                  <a:pt x="4442" y="520"/>
                  <a:pt x="4332" y="488"/>
                </a:cubicBezTo>
                <a:cubicBezTo>
                  <a:pt x="4269" y="448"/>
                  <a:pt x="4195" y="426"/>
                  <a:pt x="4129" y="393"/>
                </a:cubicBezTo>
                <a:cubicBezTo>
                  <a:pt x="4105" y="381"/>
                  <a:pt x="4103" y="391"/>
                  <a:pt x="4075" y="372"/>
                </a:cubicBezTo>
                <a:cubicBezTo>
                  <a:pt x="3991" y="316"/>
                  <a:pt x="3951" y="256"/>
                  <a:pt x="3851" y="230"/>
                </a:cubicBezTo>
                <a:cubicBezTo>
                  <a:pt x="3828" y="195"/>
                  <a:pt x="3802" y="192"/>
                  <a:pt x="3763" y="183"/>
                </a:cubicBezTo>
                <a:cubicBezTo>
                  <a:pt x="3629" y="100"/>
                  <a:pt x="3463" y="101"/>
                  <a:pt x="3316" y="54"/>
                </a:cubicBezTo>
                <a:cubicBezTo>
                  <a:pt x="3269" y="21"/>
                  <a:pt x="3214" y="17"/>
                  <a:pt x="3160" y="0"/>
                </a:cubicBezTo>
                <a:cubicBezTo>
                  <a:pt x="2918" y="6"/>
                  <a:pt x="2677" y="18"/>
                  <a:pt x="2435" y="27"/>
                </a:cubicBezTo>
                <a:cubicBezTo>
                  <a:pt x="2211" y="73"/>
                  <a:pt x="1965" y="58"/>
                  <a:pt x="1744" y="61"/>
                </a:cubicBezTo>
                <a:cubicBezTo>
                  <a:pt x="1652" y="81"/>
                  <a:pt x="1587" y="90"/>
                  <a:pt x="1486" y="95"/>
                </a:cubicBezTo>
                <a:cubicBezTo>
                  <a:pt x="1447" y="107"/>
                  <a:pt x="1446" y="125"/>
                  <a:pt x="1425" y="156"/>
                </a:cubicBezTo>
                <a:cubicBezTo>
                  <a:pt x="1419" y="176"/>
                  <a:pt x="1419" y="197"/>
                  <a:pt x="1412" y="217"/>
                </a:cubicBezTo>
                <a:cubicBezTo>
                  <a:pt x="1404" y="239"/>
                  <a:pt x="1377" y="258"/>
                  <a:pt x="1364" y="278"/>
                </a:cubicBezTo>
                <a:cubicBezTo>
                  <a:pt x="1357" y="301"/>
                  <a:pt x="1363" y="293"/>
                  <a:pt x="1351" y="305"/>
                </a:cubicBezTo>
                <a:close/>
              </a:path>
            </a:pathLst>
          </a:custGeom>
          <a:solidFill>
            <a:srgbClr val="b2b8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258920" y="-171360"/>
            <a:ext cx="6635880" cy="7677000"/>
            <a:chOff x="1258920" y="-171360"/>
            <a:chExt cx="6635880" cy="7677000"/>
          </a:xfrm>
        </p:grpSpPr>
        <p:grpSp>
          <p:nvGrpSpPr>
            <p:cNvPr id="111" name=""/>
            <p:cNvGrpSpPr/>
            <p:nvPr/>
          </p:nvGrpSpPr>
          <p:grpSpPr>
            <a:xfrm>
              <a:off x="1258920" y="-171360"/>
              <a:ext cx="6635880" cy="7677000"/>
              <a:chOff x="1258920" y="-171360"/>
              <a:chExt cx="6635880" cy="7677000"/>
            </a:xfrm>
          </p:grpSpPr>
          <p:grpSp>
            <p:nvGrpSpPr>
              <p:cNvPr id="112" name=""/>
              <p:cNvGrpSpPr/>
              <p:nvPr/>
            </p:nvGrpSpPr>
            <p:grpSpPr>
              <a:xfrm>
                <a:off x="1258920" y="-171360"/>
                <a:ext cx="6635880" cy="7677000"/>
                <a:chOff x="1258920" y="-171360"/>
                <a:chExt cx="6635880" cy="7677000"/>
              </a:xfrm>
            </p:grpSpPr>
            <p:sp>
              <p:nvSpPr>
                <p:cNvPr id="113" name=""/>
                <p:cNvSpPr/>
                <p:nvPr/>
              </p:nvSpPr>
              <p:spPr>
                <a:xfrm>
                  <a:off x="1258920" y="-171360"/>
                  <a:ext cx="6635880" cy="7677000"/>
                </a:xfrm>
                <a:custGeom>
                  <a:avLst/>
                  <a:gdLst/>
                  <a:ahLst/>
                  <a:rect l="l" t="t" r="r" b="b"/>
                  <a:pathLst>
                    <a:path w="10372" h="13055">
                      <a:moveTo>
                        <a:pt x="412" y="755"/>
                      </a:moveTo>
                      <a:cubicBezTo>
                        <a:pt x="545" y="733"/>
                        <a:pt x="663" y="687"/>
                        <a:pt x="792" y="655"/>
                      </a:cubicBezTo>
                      <a:cubicBezTo>
                        <a:pt x="969" y="611"/>
                        <a:pt x="1112" y="595"/>
                        <a:pt x="1292" y="535"/>
                      </a:cubicBezTo>
                      <a:cubicBezTo>
                        <a:pt x="2171" y="242"/>
                        <a:pt x="3145" y="522"/>
                        <a:pt x="4072" y="515"/>
                      </a:cubicBezTo>
                      <a:cubicBezTo>
                        <a:pt x="4316" y="445"/>
                        <a:pt x="4561" y="371"/>
                        <a:pt x="4812" y="335"/>
                      </a:cubicBezTo>
                      <a:cubicBezTo>
                        <a:pt x="4997" y="243"/>
                        <a:pt x="4914" y="269"/>
                        <a:pt x="5052" y="235"/>
                      </a:cubicBezTo>
                      <a:cubicBezTo>
                        <a:pt x="5079" y="215"/>
                        <a:pt x="5102" y="190"/>
                        <a:pt x="5132" y="175"/>
                      </a:cubicBezTo>
                      <a:cubicBezTo>
                        <a:pt x="5157" y="163"/>
                        <a:pt x="5188" y="169"/>
                        <a:pt x="5212" y="155"/>
                      </a:cubicBezTo>
                      <a:cubicBezTo>
                        <a:pt x="5237" y="141"/>
                        <a:pt x="5247" y="109"/>
                        <a:pt x="5272" y="95"/>
                      </a:cubicBezTo>
                      <a:cubicBezTo>
                        <a:pt x="5309" y="75"/>
                        <a:pt x="5392" y="55"/>
                        <a:pt x="5392" y="55"/>
                      </a:cubicBezTo>
                      <a:cubicBezTo>
                        <a:pt x="5409" y="56"/>
                        <a:pt x="6032" y="0"/>
                        <a:pt x="6212" y="135"/>
                      </a:cubicBezTo>
                      <a:cubicBezTo>
                        <a:pt x="6320" y="216"/>
                        <a:pt x="6399" y="366"/>
                        <a:pt x="6472" y="475"/>
                      </a:cubicBezTo>
                      <a:cubicBezTo>
                        <a:pt x="6530" y="562"/>
                        <a:pt x="6588" y="653"/>
                        <a:pt x="6652" y="735"/>
                      </a:cubicBezTo>
                      <a:cubicBezTo>
                        <a:pt x="6669" y="757"/>
                        <a:pt x="6696" y="772"/>
                        <a:pt x="6712" y="795"/>
                      </a:cubicBezTo>
                      <a:cubicBezTo>
                        <a:pt x="6729" y="819"/>
                        <a:pt x="6736" y="850"/>
                        <a:pt x="6752" y="875"/>
                      </a:cubicBezTo>
                      <a:cubicBezTo>
                        <a:pt x="6811" y="969"/>
                        <a:pt x="6908" y="1083"/>
                        <a:pt x="7012" y="1135"/>
                      </a:cubicBezTo>
                      <a:cubicBezTo>
                        <a:pt x="7287" y="1273"/>
                        <a:pt x="7637" y="1275"/>
                        <a:pt x="7932" y="1295"/>
                      </a:cubicBezTo>
                      <a:cubicBezTo>
                        <a:pt x="8151" y="1368"/>
                        <a:pt x="7819" y="1252"/>
                        <a:pt x="8052" y="1355"/>
                      </a:cubicBezTo>
                      <a:cubicBezTo>
                        <a:pt x="8091" y="1372"/>
                        <a:pt x="8135" y="1375"/>
                        <a:pt x="8172" y="1395"/>
                      </a:cubicBezTo>
                      <a:cubicBezTo>
                        <a:pt x="8236" y="1429"/>
                        <a:pt x="8291" y="1476"/>
                        <a:pt x="8352" y="1515"/>
                      </a:cubicBezTo>
                      <a:cubicBezTo>
                        <a:pt x="8385" y="1536"/>
                        <a:pt x="8422" y="1551"/>
                        <a:pt x="8452" y="1575"/>
                      </a:cubicBezTo>
                      <a:cubicBezTo>
                        <a:pt x="8485" y="1602"/>
                        <a:pt x="8515" y="1634"/>
                        <a:pt x="8552" y="1655"/>
                      </a:cubicBezTo>
                      <a:cubicBezTo>
                        <a:pt x="8576" y="1668"/>
                        <a:pt x="8606" y="1665"/>
                        <a:pt x="8632" y="1675"/>
                      </a:cubicBezTo>
                      <a:cubicBezTo>
                        <a:pt x="8660" y="1685"/>
                        <a:pt x="8685" y="1702"/>
                        <a:pt x="8712" y="1715"/>
                      </a:cubicBezTo>
                      <a:cubicBezTo>
                        <a:pt x="8860" y="1937"/>
                        <a:pt x="8609" y="1575"/>
                        <a:pt x="8832" y="1835"/>
                      </a:cubicBezTo>
                      <a:cubicBezTo>
                        <a:pt x="8851" y="1858"/>
                        <a:pt x="8855" y="1890"/>
                        <a:pt x="8872" y="1915"/>
                      </a:cubicBezTo>
                      <a:cubicBezTo>
                        <a:pt x="8915" y="1977"/>
                        <a:pt x="8970" y="2032"/>
                        <a:pt x="9012" y="2095"/>
                      </a:cubicBezTo>
                      <a:cubicBezTo>
                        <a:pt x="9066" y="2176"/>
                        <a:pt x="9114" y="2257"/>
                        <a:pt x="9172" y="2335"/>
                      </a:cubicBezTo>
                      <a:cubicBezTo>
                        <a:pt x="9205" y="2502"/>
                        <a:pt x="9225" y="2670"/>
                        <a:pt x="9272" y="2835"/>
                      </a:cubicBezTo>
                      <a:cubicBezTo>
                        <a:pt x="9274" y="2841"/>
                        <a:pt x="9301" y="2961"/>
                        <a:pt x="9312" y="2975"/>
                      </a:cubicBezTo>
                      <a:cubicBezTo>
                        <a:pt x="9347" y="3020"/>
                        <a:pt x="9398" y="3050"/>
                        <a:pt x="9432" y="3095"/>
                      </a:cubicBezTo>
                      <a:cubicBezTo>
                        <a:pt x="9495" y="3179"/>
                        <a:pt x="9549" y="3271"/>
                        <a:pt x="9612" y="3355"/>
                      </a:cubicBezTo>
                      <a:cubicBezTo>
                        <a:pt x="9629" y="3378"/>
                        <a:pt x="9655" y="3393"/>
                        <a:pt x="9672" y="3415"/>
                      </a:cubicBezTo>
                      <a:cubicBezTo>
                        <a:pt x="9733" y="3494"/>
                        <a:pt x="9795" y="3573"/>
                        <a:pt x="9852" y="3655"/>
                      </a:cubicBezTo>
                      <a:cubicBezTo>
                        <a:pt x="9869" y="3679"/>
                        <a:pt x="9876" y="3710"/>
                        <a:pt x="9892" y="3735"/>
                      </a:cubicBezTo>
                      <a:cubicBezTo>
                        <a:pt x="9935" y="3803"/>
                        <a:pt x="9957" y="3820"/>
                        <a:pt x="10012" y="3875"/>
                      </a:cubicBezTo>
                      <a:cubicBezTo>
                        <a:pt x="10041" y="4021"/>
                        <a:pt x="10097" y="4157"/>
                        <a:pt x="10152" y="4295"/>
                      </a:cubicBezTo>
                      <a:cubicBezTo>
                        <a:pt x="10176" y="4438"/>
                        <a:pt x="10208" y="4570"/>
                        <a:pt x="10232" y="4715"/>
                      </a:cubicBezTo>
                      <a:cubicBezTo>
                        <a:pt x="10252" y="4834"/>
                        <a:pt x="10252" y="4956"/>
                        <a:pt x="10272" y="5075"/>
                      </a:cubicBezTo>
                      <a:cubicBezTo>
                        <a:pt x="10283" y="5142"/>
                        <a:pt x="10291" y="5211"/>
                        <a:pt x="10312" y="5275"/>
                      </a:cubicBezTo>
                      <a:cubicBezTo>
                        <a:pt x="10325" y="5315"/>
                        <a:pt x="10339" y="5355"/>
                        <a:pt x="10352" y="5395"/>
                      </a:cubicBezTo>
                      <a:cubicBezTo>
                        <a:pt x="10359" y="5415"/>
                        <a:pt x="10372" y="5455"/>
                        <a:pt x="10372" y="5455"/>
                      </a:cubicBezTo>
                      <a:cubicBezTo>
                        <a:pt x="10359" y="5608"/>
                        <a:pt x="10355" y="5763"/>
                        <a:pt x="10332" y="5915"/>
                      </a:cubicBezTo>
                      <a:cubicBezTo>
                        <a:pt x="10328" y="5939"/>
                        <a:pt x="10303" y="5954"/>
                        <a:pt x="10292" y="5975"/>
                      </a:cubicBezTo>
                      <a:cubicBezTo>
                        <a:pt x="10283" y="5994"/>
                        <a:pt x="10285" y="6019"/>
                        <a:pt x="10272" y="6035"/>
                      </a:cubicBezTo>
                      <a:cubicBezTo>
                        <a:pt x="10257" y="6054"/>
                        <a:pt x="10229" y="6058"/>
                        <a:pt x="10212" y="6075"/>
                      </a:cubicBezTo>
                      <a:cubicBezTo>
                        <a:pt x="10188" y="6099"/>
                        <a:pt x="10172" y="6128"/>
                        <a:pt x="10152" y="6155"/>
                      </a:cubicBezTo>
                      <a:cubicBezTo>
                        <a:pt x="10122" y="6244"/>
                        <a:pt x="10088" y="6264"/>
                        <a:pt x="10012" y="6315"/>
                      </a:cubicBezTo>
                      <a:cubicBezTo>
                        <a:pt x="9978" y="6417"/>
                        <a:pt x="9928" y="6513"/>
                        <a:pt x="9892" y="6615"/>
                      </a:cubicBezTo>
                      <a:cubicBezTo>
                        <a:pt x="9871" y="6675"/>
                        <a:pt x="9832" y="6795"/>
                        <a:pt x="9832" y="6795"/>
                      </a:cubicBezTo>
                      <a:cubicBezTo>
                        <a:pt x="9788" y="7103"/>
                        <a:pt x="9805" y="6927"/>
                        <a:pt x="9832" y="7475"/>
                      </a:cubicBezTo>
                      <a:cubicBezTo>
                        <a:pt x="9842" y="7675"/>
                        <a:pt x="9848" y="7943"/>
                        <a:pt x="9912" y="8135"/>
                      </a:cubicBezTo>
                      <a:cubicBezTo>
                        <a:pt x="9899" y="8262"/>
                        <a:pt x="9891" y="8389"/>
                        <a:pt x="9872" y="8515"/>
                      </a:cubicBezTo>
                      <a:cubicBezTo>
                        <a:pt x="9864" y="8569"/>
                        <a:pt x="9838" y="8620"/>
                        <a:pt x="9832" y="8675"/>
                      </a:cubicBezTo>
                      <a:cubicBezTo>
                        <a:pt x="9772" y="9201"/>
                        <a:pt x="9825" y="9095"/>
                        <a:pt x="9712" y="9435"/>
                      </a:cubicBezTo>
                      <a:cubicBezTo>
                        <a:pt x="9705" y="9488"/>
                        <a:pt x="9694" y="9541"/>
                        <a:pt x="9692" y="9595"/>
                      </a:cubicBezTo>
                      <a:cubicBezTo>
                        <a:pt x="9681" y="9882"/>
                        <a:pt x="9697" y="10169"/>
                        <a:pt x="9672" y="10455"/>
                      </a:cubicBezTo>
                      <a:cubicBezTo>
                        <a:pt x="9666" y="10519"/>
                        <a:pt x="9513" y="10558"/>
                        <a:pt x="9472" y="10595"/>
                      </a:cubicBezTo>
                      <a:cubicBezTo>
                        <a:pt x="9310" y="10739"/>
                        <a:pt x="9416" y="10694"/>
                        <a:pt x="9292" y="10735"/>
                      </a:cubicBezTo>
                      <a:cubicBezTo>
                        <a:pt x="9265" y="10762"/>
                        <a:pt x="9242" y="10792"/>
                        <a:pt x="9212" y="10815"/>
                      </a:cubicBezTo>
                      <a:cubicBezTo>
                        <a:pt x="9016" y="10962"/>
                        <a:pt x="9233" y="10761"/>
                        <a:pt x="9072" y="10895"/>
                      </a:cubicBezTo>
                      <a:cubicBezTo>
                        <a:pt x="8974" y="10977"/>
                        <a:pt x="9052" y="10940"/>
                        <a:pt x="8932" y="11015"/>
                      </a:cubicBezTo>
                      <a:cubicBezTo>
                        <a:pt x="8907" y="11031"/>
                        <a:pt x="8876" y="11037"/>
                        <a:pt x="8852" y="11055"/>
                      </a:cubicBezTo>
                      <a:cubicBezTo>
                        <a:pt x="8785" y="11105"/>
                        <a:pt x="8753" y="11205"/>
                        <a:pt x="8672" y="11235"/>
                      </a:cubicBezTo>
                      <a:cubicBezTo>
                        <a:pt x="8576" y="11271"/>
                        <a:pt x="8449" y="11285"/>
                        <a:pt x="8352" y="11315"/>
                      </a:cubicBezTo>
                      <a:cubicBezTo>
                        <a:pt x="8249" y="11347"/>
                        <a:pt x="8170" y="11413"/>
                        <a:pt x="8072" y="11455"/>
                      </a:cubicBezTo>
                      <a:cubicBezTo>
                        <a:pt x="7992" y="11489"/>
                        <a:pt x="7885" y="11487"/>
                        <a:pt x="7812" y="11535"/>
                      </a:cubicBezTo>
                      <a:cubicBezTo>
                        <a:pt x="7734" y="11587"/>
                        <a:pt x="7673" y="11580"/>
                        <a:pt x="7592" y="11615"/>
                      </a:cubicBezTo>
                      <a:cubicBezTo>
                        <a:pt x="7565" y="11627"/>
                        <a:pt x="7536" y="11638"/>
                        <a:pt x="7512" y="11655"/>
                      </a:cubicBezTo>
                      <a:cubicBezTo>
                        <a:pt x="7489" y="11671"/>
                        <a:pt x="7477" y="11702"/>
                        <a:pt x="7452" y="11715"/>
                      </a:cubicBezTo>
                      <a:cubicBezTo>
                        <a:pt x="7383" y="11749"/>
                        <a:pt x="7274" y="11775"/>
                        <a:pt x="7192" y="11795"/>
                      </a:cubicBezTo>
                      <a:cubicBezTo>
                        <a:pt x="7098" y="11858"/>
                        <a:pt x="6992" y="11865"/>
                        <a:pt x="6892" y="11915"/>
                      </a:cubicBezTo>
                      <a:cubicBezTo>
                        <a:pt x="6789" y="11967"/>
                        <a:pt x="6680" y="11979"/>
                        <a:pt x="6572" y="12015"/>
                      </a:cubicBezTo>
                      <a:cubicBezTo>
                        <a:pt x="6484" y="12044"/>
                        <a:pt x="6401" y="12073"/>
                        <a:pt x="6312" y="12095"/>
                      </a:cubicBezTo>
                      <a:cubicBezTo>
                        <a:pt x="6292" y="12115"/>
                        <a:pt x="6275" y="12139"/>
                        <a:pt x="6252" y="12155"/>
                      </a:cubicBezTo>
                      <a:cubicBezTo>
                        <a:pt x="6115" y="12253"/>
                        <a:pt x="6225" y="12141"/>
                        <a:pt x="6112" y="12235"/>
                      </a:cubicBezTo>
                      <a:cubicBezTo>
                        <a:pt x="6090" y="12253"/>
                        <a:pt x="6074" y="12277"/>
                        <a:pt x="6052" y="12295"/>
                      </a:cubicBezTo>
                      <a:cubicBezTo>
                        <a:pt x="6034" y="12310"/>
                        <a:pt x="6014" y="12325"/>
                        <a:pt x="5992" y="12335"/>
                      </a:cubicBezTo>
                      <a:cubicBezTo>
                        <a:pt x="5953" y="12352"/>
                        <a:pt x="5872" y="12375"/>
                        <a:pt x="5872" y="12375"/>
                      </a:cubicBezTo>
                      <a:cubicBezTo>
                        <a:pt x="5710" y="12591"/>
                        <a:pt x="5915" y="12353"/>
                        <a:pt x="5732" y="12475"/>
                      </a:cubicBezTo>
                      <a:cubicBezTo>
                        <a:pt x="5712" y="12488"/>
                        <a:pt x="5710" y="12519"/>
                        <a:pt x="5692" y="12535"/>
                      </a:cubicBezTo>
                      <a:cubicBezTo>
                        <a:pt x="5607" y="12609"/>
                        <a:pt x="5594" y="12608"/>
                        <a:pt x="5512" y="12635"/>
                      </a:cubicBezTo>
                      <a:cubicBezTo>
                        <a:pt x="5116" y="12615"/>
                        <a:pt x="4795" y="12626"/>
                        <a:pt x="4432" y="12535"/>
                      </a:cubicBezTo>
                      <a:cubicBezTo>
                        <a:pt x="4070" y="12545"/>
                        <a:pt x="3834" y="12474"/>
                        <a:pt x="3552" y="12615"/>
                      </a:cubicBezTo>
                      <a:cubicBezTo>
                        <a:pt x="3480" y="12723"/>
                        <a:pt x="3328" y="12739"/>
                        <a:pt x="3232" y="12835"/>
                      </a:cubicBezTo>
                      <a:cubicBezTo>
                        <a:pt x="3215" y="12852"/>
                        <a:pt x="3216" y="12893"/>
                        <a:pt x="3192" y="12895"/>
                      </a:cubicBezTo>
                      <a:cubicBezTo>
                        <a:pt x="2920" y="12920"/>
                        <a:pt x="2645" y="12908"/>
                        <a:pt x="2372" y="12915"/>
                      </a:cubicBezTo>
                      <a:cubicBezTo>
                        <a:pt x="2156" y="12951"/>
                        <a:pt x="1949" y="13024"/>
                        <a:pt x="1732" y="13055"/>
                      </a:cubicBezTo>
                      <a:cubicBezTo>
                        <a:pt x="1639" y="13042"/>
                        <a:pt x="1543" y="13041"/>
                        <a:pt x="1452" y="13015"/>
                      </a:cubicBezTo>
                      <a:cubicBezTo>
                        <a:pt x="1360" y="12988"/>
                        <a:pt x="1283" y="12925"/>
                        <a:pt x="1192" y="12895"/>
                      </a:cubicBezTo>
                      <a:cubicBezTo>
                        <a:pt x="1145" y="12848"/>
                        <a:pt x="1099" y="12802"/>
                        <a:pt x="1052" y="12755"/>
                      </a:cubicBezTo>
                      <a:cubicBezTo>
                        <a:pt x="1025" y="12728"/>
                        <a:pt x="972" y="12675"/>
                        <a:pt x="972" y="12675"/>
                      </a:cubicBezTo>
                      <a:cubicBezTo>
                        <a:pt x="941" y="12581"/>
                        <a:pt x="903" y="12489"/>
                        <a:pt x="872" y="12395"/>
                      </a:cubicBezTo>
                      <a:cubicBezTo>
                        <a:pt x="859" y="12355"/>
                        <a:pt x="832" y="12275"/>
                        <a:pt x="832" y="12275"/>
                      </a:cubicBezTo>
                      <a:cubicBezTo>
                        <a:pt x="840" y="12125"/>
                        <a:pt x="814" y="11842"/>
                        <a:pt x="912" y="11695"/>
                      </a:cubicBezTo>
                      <a:cubicBezTo>
                        <a:pt x="919" y="11655"/>
                        <a:pt x="919" y="11613"/>
                        <a:pt x="932" y="11575"/>
                      </a:cubicBezTo>
                      <a:cubicBezTo>
                        <a:pt x="940" y="11552"/>
                        <a:pt x="961" y="11536"/>
                        <a:pt x="972" y="11515"/>
                      </a:cubicBezTo>
                      <a:cubicBezTo>
                        <a:pt x="988" y="11483"/>
                        <a:pt x="1001" y="11449"/>
                        <a:pt x="1012" y="11415"/>
                      </a:cubicBezTo>
                      <a:cubicBezTo>
                        <a:pt x="1021" y="11389"/>
                        <a:pt x="1019" y="11359"/>
                        <a:pt x="1032" y="11335"/>
                      </a:cubicBezTo>
                      <a:cubicBezTo>
                        <a:pt x="1080" y="11249"/>
                        <a:pt x="1173" y="11154"/>
                        <a:pt x="1232" y="11075"/>
                      </a:cubicBezTo>
                      <a:cubicBezTo>
                        <a:pt x="1320" y="10957"/>
                        <a:pt x="1334" y="10884"/>
                        <a:pt x="1452" y="10795"/>
                      </a:cubicBezTo>
                      <a:cubicBezTo>
                        <a:pt x="1536" y="10598"/>
                        <a:pt x="1649" y="10428"/>
                        <a:pt x="1692" y="10215"/>
                      </a:cubicBezTo>
                      <a:cubicBezTo>
                        <a:pt x="1679" y="10095"/>
                        <a:pt x="1673" y="9974"/>
                        <a:pt x="1652" y="9855"/>
                      </a:cubicBezTo>
                      <a:cubicBezTo>
                        <a:pt x="1646" y="9820"/>
                        <a:pt x="1624" y="9789"/>
                        <a:pt x="1612" y="9755"/>
                      </a:cubicBezTo>
                      <a:cubicBezTo>
                        <a:pt x="1511" y="9472"/>
                        <a:pt x="1385" y="9202"/>
                        <a:pt x="1252" y="8935"/>
                      </a:cubicBezTo>
                      <a:cubicBezTo>
                        <a:pt x="1219" y="8868"/>
                        <a:pt x="1182" y="8803"/>
                        <a:pt x="1152" y="8735"/>
                      </a:cubicBezTo>
                      <a:cubicBezTo>
                        <a:pt x="1082" y="8577"/>
                        <a:pt x="1160" y="8647"/>
                        <a:pt x="1052" y="8575"/>
                      </a:cubicBezTo>
                      <a:cubicBezTo>
                        <a:pt x="1023" y="8516"/>
                        <a:pt x="1004" y="8452"/>
                        <a:pt x="972" y="8395"/>
                      </a:cubicBezTo>
                      <a:cubicBezTo>
                        <a:pt x="905" y="8275"/>
                        <a:pt x="925" y="8348"/>
                        <a:pt x="832" y="8255"/>
                      </a:cubicBezTo>
                      <a:cubicBezTo>
                        <a:pt x="795" y="8218"/>
                        <a:pt x="769" y="8172"/>
                        <a:pt x="732" y="8135"/>
                      </a:cubicBezTo>
                      <a:cubicBezTo>
                        <a:pt x="704" y="8050"/>
                        <a:pt x="626" y="7964"/>
                        <a:pt x="552" y="7915"/>
                      </a:cubicBezTo>
                      <a:cubicBezTo>
                        <a:pt x="479" y="7805"/>
                        <a:pt x="552" y="7898"/>
                        <a:pt x="452" y="7815"/>
                      </a:cubicBezTo>
                      <a:cubicBezTo>
                        <a:pt x="255" y="7651"/>
                        <a:pt x="509" y="7852"/>
                        <a:pt x="352" y="7695"/>
                      </a:cubicBezTo>
                      <a:cubicBezTo>
                        <a:pt x="327" y="7670"/>
                        <a:pt x="246" y="7618"/>
                        <a:pt x="212" y="7595"/>
                      </a:cubicBezTo>
                      <a:cubicBezTo>
                        <a:pt x="174" y="7480"/>
                        <a:pt x="91" y="7392"/>
                        <a:pt x="52" y="7275"/>
                      </a:cubicBezTo>
                      <a:cubicBezTo>
                        <a:pt x="65" y="7168"/>
                        <a:pt x="104" y="7062"/>
                        <a:pt x="92" y="6955"/>
                      </a:cubicBezTo>
                      <a:cubicBezTo>
                        <a:pt x="89" y="6925"/>
                        <a:pt x="15" y="6945"/>
                        <a:pt x="12" y="6915"/>
                      </a:cubicBezTo>
                      <a:cubicBezTo>
                        <a:pt x="0" y="6809"/>
                        <a:pt x="175" y="6645"/>
                        <a:pt x="232" y="6575"/>
                      </a:cubicBezTo>
                      <a:cubicBezTo>
                        <a:pt x="262" y="6538"/>
                        <a:pt x="280" y="6491"/>
                        <a:pt x="312" y="6455"/>
                      </a:cubicBezTo>
                      <a:cubicBezTo>
                        <a:pt x="359" y="6401"/>
                        <a:pt x="432" y="6368"/>
                        <a:pt x="492" y="6335"/>
                      </a:cubicBezTo>
                      <a:cubicBezTo>
                        <a:pt x="665" y="6239"/>
                        <a:pt x="800" y="6099"/>
                        <a:pt x="992" y="6035"/>
                      </a:cubicBezTo>
                      <a:cubicBezTo>
                        <a:pt x="1076" y="6007"/>
                        <a:pt x="1166" y="5999"/>
                        <a:pt x="1252" y="5975"/>
                      </a:cubicBezTo>
                      <a:cubicBezTo>
                        <a:pt x="1402" y="5862"/>
                        <a:pt x="1576" y="5814"/>
                        <a:pt x="1752" y="5755"/>
                      </a:cubicBezTo>
                      <a:cubicBezTo>
                        <a:pt x="1837" y="5727"/>
                        <a:pt x="1905" y="5657"/>
                        <a:pt x="1992" y="5635"/>
                      </a:cubicBezTo>
                      <a:cubicBezTo>
                        <a:pt x="2019" y="5628"/>
                        <a:pt x="2045" y="5622"/>
                        <a:pt x="2072" y="5615"/>
                      </a:cubicBezTo>
                      <a:cubicBezTo>
                        <a:pt x="2164" y="5554"/>
                        <a:pt x="2268" y="5530"/>
                        <a:pt x="2372" y="5495"/>
                      </a:cubicBezTo>
                      <a:cubicBezTo>
                        <a:pt x="2663" y="5398"/>
                        <a:pt x="2374" y="5474"/>
                        <a:pt x="2552" y="5395"/>
                      </a:cubicBezTo>
                      <a:cubicBezTo>
                        <a:pt x="2635" y="5358"/>
                        <a:pt x="2686" y="5352"/>
                        <a:pt x="2772" y="5335"/>
                      </a:cubicBezTo>
                      <a:cubicBezTo>
                        <a:pt x="3033" y="5161"/>
                        <a:pt x="2765" y="5317"/>
                        <a:pt x="2992" y="5235"/>
                      </a:cubicBezTo>
                      <a:cubicBezTo>
                        <a:pt x="3034" y="5220"/>
                        <a:pt x="3071" y="5192"/>
                        <a:pt x="3112" y="5175"/>
                      </a:cubicBezTo>
                      <a:cubicBezTo>
                        <a:pt x="3231" y="5125"/>
                        <a:pt x="3352" y="5083"/>
                        <a:pt x="3472" y="5035"/>
                      </a:cubicBezTo>
                      <a:cubicBezTo>
                        <a:pt x="3553" y="5003"/>
                        <a:pt x="3631" y="4956"/>
                        <a:pt x="3692" y="4895"/>
                      </a:cubicBezTo>
                      <a:cubicBezTo>
                        <a:pt x="3712" y="4875"/>
                        <a:pt x="3765" y="4860"/>
                        <a:pt x="3752" y="4835"/>
                      </a:cubicBezTo>
                      <a:cubicBezTo>
                        <a:pt x="3740" y="4810"/>
                        <a:pt x="3699" y="4848"/>
                        <a:pt x="3672" y="4855"/>
                      </a:cubicBezTo>
                      <a:cubicBezTo>
                        <a:pt x="3748" y="4805"/>
                        <a:pt x="3781" y="4730"/>
                        <a:pt x="3852" y="4675"/>
                      </a:cubicBezTo>
                      <a:cubicBezTo>
                        <a:pt x="3890" y="4645"/>
                        <a:pt x="3931" y="4620"/>
                        <a:pt x="3972" y="4595"/>
                      </a:cubicBezTo>
                      <a:cubicBezTo>
                        <a:pt x="3998" y="4580"/>
                        <a:pt x="4028" y="4573"/>
                        <a:pt x="4052" y="4555"/>
                      </a:cubicBezTo>
                      <a:cubicBezTo>
                        <a:pt x="4082" y="4532"/>
                        <a:pt x="4103" y="4500"/>
                        <a:pt x="4132" y="4475"/>
                      </a:cubicBezTo>
                      <a:cubicBezTo>
                        <a:pt x="4261" y="4364"/>
                        <a:pt x="4113" y="4534"/>
                        <a:pt x="4292" y="4355"/>
                      </a:cubicBezTo>
                      <a:cubicBezTo>
                        <a:pt x="4309" y="4338"/>
                        <a:pt x="4312" y="4309"/>
                        <a:pt x="4332" y="4295"/>
                      </a:cubicBezTo>
                      <a:cubicBezTo>
                        <a:pt x="4381" y="4260"/>
                        <a:pt x="4442" y="4248"/>
                        <a:pt x="4492" y="4215"/>
                      </a:cubicBezTo>
                      <a:cubicBezTo>
                        <a:pt x="4505" y="4182"/>
                        <a:pt x="4511" y="4144"/>
                        <a:pt x="4532" y="4115"/>
                      </a:cubicBezTo>
                      <a:cubicBezTo>
                        <a:pt x="4546" y="4095"/>
                        <a:pt x="4572" y="4089"/>
                        <a:pt x="4592" y="4075"/>
                      </a:cubicBezTo>
                      <a:cubicBezTo>
                        <a:pt x="4698" y="3999"/>
                        <a:pt x="4635" y="4027"/>
                        <a:pt x="4732" y="3995"/>
                      </a:cubicBezTo>
                      <a:cubicBezTo>
                        <a:pt x="4878" y="3752"/>
                        <a:pt x="4700" y="4030"/>
                        <a:pt x="4872" y="3815"/>
                      </a:cubicBezTo>
                      <a:cubicBezTo>
                        <a:pt x="4902" y="3777"/>
                        <a:pt x="4925" y="3735"/>
                        <a:pt x="4952" y="3695"/>
                      </a:cubicBezTo>
                      <a:cubicBezTo>
                        <a:pt x="4965" y="3675"/>
                        <a:pt x="4992" y="3635"/>
                        <a:pt x="4992" y="3635"/>
                      </a:cubicBezTo>
                      <a:cubicBezTo>
                        <a:pt x="4985" y="3582"/>
                        <a:pt x="4995" y="3524"/>
                        <a:pt x="4972" y="3475"/>
                      </a:cubicBezTo>
                      <a:cubicBezTo>
                        <a:pt x="4940" y="3406"/>
                        <a:pt x="4879" y="3355"/>
                        <a:pt x="4832" y="3295"/>
                      </a:cubicBezTo>
                      <a:cubicBezTo>
                        <a:pt x="4724" y="3156"/>
                        <a:pt x="4825" y="3228"/>
                        <a:pt x="4692" y="3095"/>
                      </a:cubicBezTo>
                      <a:cubicBezTo>
                        <a:pt x="4645" y="3048"/>
                        <a:pt x="4607" y="3054"/>
                        <a:pt x="4552" y="3015"/>
                      </a:cubicBezTo>
                      <a:cubicBezTo>
                        <a:pt x="4529" y="2999"/>
                        <a:pt x="4514" y="2973"/>
                        <a:pt x="4492" y="2955"/>
                      </a:cubicBezTo>
                      <a:cubicBezTo>
                        <a:pt x="4440" y="2913"/>
                        <a:pt x="4385" y="2875"/>
                        <a:pt x="4332" y="2835"/>
                      </a:cubicBezTo>
                      <a:cubicBezTo>
                        <a:pt x="4315" y="2823"/>
                        <a:pt x="4202" y="2799"/>
                        <a:pt x="4192" y="2795"/>
                      </a:cubicBezTo>
                      <a:cubicBezTo>
                        <a:pt x="4080" y="2750"/>
                        <a:pt x="4029" y="2718"/>
                        <a:pt x="3912" y="2695"/>
                      </a:cubicBezTo>
                      <a:cubicBezTo>
                        <a:pt x="3892" y="2675"/>
                        <a:pt x="3877" y="2649"/>
                        <a:pt x="3852" y="2635"/>
                      </a:cubicBezTo>
                      <a:cubicBezTo>
                        <a:pt x="3828" y="2621"/>
                        <a:pt x="3798" y="2623"/>
                        <a:pt x="3772" y="2615"/>
                      </a:cubicBezTo>
                      <a:cubicBezTo>
                        <a:pt x="3645" y="2579"/>
                        <a:pt x="3518" y="2557"/>
                        <a:pt x="3392" y="2515"/>
                      </a:cubicBezTo>
                      <a:cubicBezTo>
                        <a:pt x="2664" y="2526"/>
                        <a:pt x="2174" y="2527"/>
                        <a:pt x="1512" y="2615"/>
                      </a:cubicBezTo>
                      <a:cubicBezTo>
                        <a:pt x="1345" y="2602"/>
                        <a:pt x="1177" y="2602"/>
                        <a:pt x="1012" y="2575"/>
                      </a:cubicBezTo>
                      <a:cubicBezTo>
                        <a:pt x="974" y="2569"/>
                        <a:pt x="946" y="2534"/>
                        <a:pt x="912" y="2515"/>
                      </a:cubicBezTo>
                      <a:cubicBezTo>
                        <a:pt x="825" y="2467"/>
                        <a:pt x="734" y="2450"/>
                        <a:pt x="652" y="2395"/>
                      </a:cubicBezTo>
                      <a:cubicBezTo>
                        <a:pt x="579" y="2285"/>
                        <a:pt x="652" y="2378"/>
                        <a:pt x="552" y="2295"/>
                      </a:cubicBezTo>
                      <a:cubicBezTo>
                        <a:pt x="502" y="2253"/>
                        <a:pt x="435" y="2167"/>
                        <a:pt x="392" y="2115"/>
                      </a:cubicBezTo>
                      <a:cubicBezTo>
                        <a:pt x="377" y="2097"/>
                        <a:pt x="364" y="2076"/>
                        <a:pt x="352" y="2055"/>
                      </a:cubicBezTo>
                      <a:cubicBezTo>
                        <a:pt x="323" y="2003"/>
                        <a:pt x="272" y="1895"/>
                        <a:pt x="272" y="1895"/>
                      </a:cubicBezTo>
                      <a:cubicBezTo>
                        <a:pt x="279" y="1595"/>
                        <a:pt x="274" y="1295"/>
                        <a:pt x="292" y="995"/>
                      </a:cubicBezTo>
                      <a:cubicBezTo>
                        <a:pt x="294" y="953"/>
                        <a:pt x="292" y="888"/>
                        <a:pt x="332" y="875"/>
                      </a:cubicBezTo>
                      <a:cubicBezTo>
                        <a:pt x="438" y="840"/>
                        <a:pt x="374" y="867"/>
                        <a:pt x="512" y="775"/>
                      </a:cubicBezTo>
                      <a:cubicBezTo>
                        <a:pt x="540" y="756"/>
                        <a:pt x="445" y="762"/>
                        <a:pt x="412" y="75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3888000" y="14400"/>
                  <a:ext cx="1415520" cy="1470240"/>
                </a:xfrm>
                <a:custGeom>
                  <a:avLst/>
                  <a:gdLst/>
                  <a:ahLst/>
                  <a:rect l="l" t="t" r="r" b="b"/>
                  <a:pathLst>
                    <a:path w="2116" h="2500">
                      <a:moveTo>
                        <a:pt x="2116" y="0"/>
                      </a:moveTo>
                      <a:cubicBezTo>
                        <a:pt x="2101" y="75"/>
                        <a:pt x="2071" y="145"/>
                        <a:pt x="2056" y="220"/>
                      </a:cubicBezTo>
                      <a:cubicBezTo>
                        <a:pt x="2055" y="223"/>
                        <a:pt x="2032" y="361"/>
                        <a:pt x="2016" y="380"/>
                      </a:cubicBezTo>
                      <a:cubicBezTo>
                        <a:pt x="1995" y="406"/>
                        <a:pt x="1961" y="418"/>
                        <a:pt x="1936" y="440"/>
                      </a:cubicBezTo>
                      <a:cubicBezTo>
                        <a:pt x="1894" y="478"/>
                        <a:pt x="1856" y="520"/>
                        <a:pt x="1816" y="560"/>
                      </a:cubicBezTo>
                      <a:cubicBezTo>
                        <a:pt x="1770" y="606"/>
                        <a:pt x="1687" y="657"/>
                        <a:pt x="1636" y="700"/>
                      </a:cubicBezTo>
                      <a:cubicBezTo>
                        <a:pt x="1536" y="783"/>
                        <a:pt x="1621" y="745"/>
                        <a:pt x="1516" y="780"/>
                      </a:cubicBezTo>
                      <a:cubicBezTo>
                        <a:pt x="1450" y="846"/>
                        <a:pt x="1320" y="958"/>
                        <a:pt x="1236" y="1000"/>
                      </a:cubicBezTo>
                      <a:cubicBezTo>
                        <a:pt x="1217" y="1009"/>
                        <a:pt x="1067" y="1038"/>
                        <a:pt x="1056" y="1040"/>
                      </a:cubicBezTo>
                      <a:cubicBezTo>
                        <a:pt x="973" y="1095"/>
                        <a:pt x="908" y="1149"/>
                        <a:pt x="816" y="1180"/>
                      </a:cubicBezTo>
                      <a:cubicBezTo>
                        <a:pt x="759" y="1265"/>
                        <a:pt x="694" y="1334"/>
                        <a:pt x="636" y="1420"/>
                      </a:cubicBezTo>
                      <a:cubicBezTo>
                        <a:pt x="623" y="1440"/>
                        <a:pt x="609" y="1460"/>
                        <a:pt x="596" y="1480"/>
                      </a:cubicBezTo>
                      <a:cubicBezTo>
                        <a:pt x="583" y="1500"/>
                        <a:pt x="556" y="1540"/>
                        <a:pt x="556" y="1540"/>
                      </a:cubicBezTo>
                      <a:cubicBezTo>
                        <a:pt x="549" y="1760"/>
                        <a:pt x="579" y="1984"/>
                        <a:pt x="536" y="2200"/>
                      </a:cubicBezTo>
                      <a:cubicBezTo>
                        <a:pt x="528" y="2241"/>
                        <a:pt x="458" y="2236"/>
                        <a:pt x="416" y="2240"/>
                      </a:cubicBezTo>
                      <a:cubicBezTo>
                        <a:pt x="336" y="2247"/>
                        <a:pt x="256" y="2253"/>
                        <a:pt x="176" y="2260"/>
                      </a:cubicBezTo>
                      <a:cubicBezTo>
                        <a:pt x="156" y="2280"/>
                        <a:pt x="140" y="2304"/>
                        <a:pt x="116" y="2320"/>
                      </a:cubicBezTo>
                      <a:cubicBezTo>
                        <a:pt x="0" y="2397"/>
                        <a:pt x="105" y="2266"/>
                        <a:pt x="16" y="2400"/>
                      </a:cubicBezTo>
                      <a:cubicBezTo>
                        <a:pt x="38" y="2486"/>
                        <a:pt x="36" y="2453"/>
                        <a:pt x="36" y="25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4191480" y="2247120"/>
                  <a:ext cx="3337200" cy="1953360"/>
                </a:xfrm>
                <a:custGeom>
                  <a:avLst/>
                  <a:gdLst/>
                  <a:ahLst/>
                  <a:rect l="l" t="t" r="r" b="b"/>
                  <a:pathLst>
                    <a:path w="5420" h="3474">
                      <a:moveTo>
                        <a:pt x="0" y="0"/>
                      </a:moveTo>
                      <a:cubicBezTo>
                        <a:pt x="47" y="7"/>
                        <a:pt x="97" y="0"/>
                        <a:pt x="140" y="20"/>
                      </a:cubicBezTo>
                      <a:cubicBezTo>
                        <a:pt x="174" y="36"/>
                        <a:pt x="189" y="78"/>
                        <a:pt x="220" y="100"/>
                      </a:cubicBezTo>
                      <a:cubicBezTo>
                        <a:pt x="237" y="112"/>
                        <a:pt x="260" y="113"/>
                        <a:pt x="280" y="120"/>
                      </a:cubicBezTo>
                      <a:cubicBezTo>
                        <a:pt x="374" y="214"/>
                        <a:pt x="324" y="156"/>
                        <a:pt x="420" y="300"/>
                      </a:cubicBezTo>
                      <a:cubicBezTo>
                        <a:pt x="433" y="320"/>
                        <a:pt x="460" y="360"/>
                        <a:pt x="460" y="360"/>
                      </a:cubicBezTo>
                      <a:cubicBezTo>
                        <a:pt x="477" y="463"/>
                        <a:pt x="503" y="557"/>
                        <a:pt x="520" y="660"/>
                      </a:cubicBezTo>
                      <a:cubicBezTo>
                        <a:pt x="527" y="840"/>
                        <a:pt x="515" y="1022"/>
                        <a:pt x="540" y="1200"/>
                      </a:cubicBezTo>
                      <a:cubicBezTo>
                        <a:pt x="543" y="1224"/>
                        <a:pt x="583" y="1223"/>
                        <a:pt x="600" y="1240"/>
                      </a:cubicBezTo>
                      <a:cubicBezTo>
                        <a:pt x="717" y="1357"/>
                        <a:pt x="592" y="1296"/>
                        <a:pt x="760" y="1380"/>
                      </a:cubicBezTo>
                      <a:cubicBezTo>
                        <a:pt x="1046" y="1523"/>
                        <a:pt x="1368" y="1561"/>
                        <a:pt x="1680" y="1600"/>
                      </a:cubicBezTo>
                      <a:cubicBezTo>
                        <a:pt x="2000" y="1593"/>
                        <a:pt x="2320" y="1599"/>
                        <a:pt x="2640" y="1580"/>
                      </a:cubicBezTo>
                      <a:cubicBezTo>
                        <a:pt x="2700" y="1576"/>
                        <a:pt x="2742" y="1513"/>
                        <a:pt x="2800" y="1500"/>
                      </a:cubicBezTo>
                      <a:cubicBezTo>
                        <a:pt x="2852" y="1488"/>
                        <a:pt x="2907" y="1487"/>
                        <a:pt x="2960" y="1480"/>
                      </a:cubicBezTo>
                      <a:cubicBezTo>
                        <a:pt x="3040" y="1487"/>
                        <a:pt x="3123" y="1479"/>
                        <a:pt x="3200" y="1500"/>
                      </a:cubicBezTo>
                      <a:cubicBezTo>
                        <a:pt x="3292" y="1525"/>
                        <a:pt x="3450" y="1613"/>
                        <a:pt x="3540" y="1680"/>
                      </a:cubicBezTo>
                      <a:cubicBezTo>
                        <a:pt x="3574" y="1706"/>
                        <a:pt x="3609" y="1731"/>
                        <a:pt x="3640" y="1760"/>
                      </a:cubicBezTo>
                      <a:cubicBezTo>
                        <a:pt x="3689" y="1805"/>
                        <a:pt x="3780" y="1900"/>
                        <a:pt x="3780" y="1900"/>
                      </a:cubicBezTo>
                      <a:cubicBezTo>
                        <a:pt x="3767" y="2176"/>
                        <a:pt x="3754" y="2319"/>
                        <a:pt x="3720" y="2560"/>
                      </a:cubicBezTo>
                      <a:cubicBezTo>
                        <a:pt x="3727" y="2647"/>
                        <a:pt x="3729" y="2734"/>
                        <a:pt x="3740" y="2820"/>
                      </a:cubicBezTo>
                      <a:cubicBezTo>
                        <a:pt x="3743" y="2841"/>
                        <a:pt x="3744" y="2866"/>
                        <a:pt x="3760" y="2880"/>
                      </a:cubicBezTo>
                      <a:cubicBezTo>
                        <a:pt x="3837" y="2947"/>
                        <a:pt x="3935" y="2984"/>
                        <a:pt x="4020" y="3040"/>
                      </a:cubicBezTo>
                      <a:cubicBezTo>
                        <a:pt x="4048" y="3058"/>
                        <a:pt x="4050" y="3105"/>
                        <a:pt x="4080" y="3120"/>
                      </a:cubicBezTo>
                      <a:cubicBezTo>
                        <a:pt x="4122" y="3141"/>
                        <a:pt x="4173" y="3133"/>
                        <a:pt x="4220" y="3140"/>
                      </a:cubicBezTo>
                      <a:cubicBezTo>
                        <a:pt x="4287" y="3162"/>
                        <a:pt x="4358" y="3189"/>
                        <a:pt x="4420" y="3220"/>
                      </a:cubicBezTo>
                      <a:cubicBezTo>
                        <a:pt x="4497" y="3259"/>
                        <a:pt x="4515" y="3296"/>
                        <a:pt x="4600" y="3300"/>
                      </a:cubicBezTo>
                      <a:cubicBezTo>
                        <a:pt x="4840" y="3312"/>
                        <a:pt x="5080" y="3313"/>
                        <a:pt x="5320" y="3320"/>
                      </a:cubicBezTo>
                      <a:cubicBezTo>
                        <a:pt x="5327" y="3340"/>
                        <a:pt x="5334" y="3360"/>
                        <a:pt x="5340" y="3380"/>
                      </a:cubicBezTo>
                      <a:cubicBezTo>
                        <a:pt x="5348" y="3406"/>
                        <a:pt x="5341" y="3441"/>
                        <a:pt x="5360" y="3460"/>
                      </a:cubicBezTo>
                      <a:cubicBezTo>
                        <a:pt x="5374" y="3474"/>
                        <a:pt x="5400" y="3460"/>
                        <a:pt x="5420" y="34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663200" y="75852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88000" y="66564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 rot="21000000">
                  <a:off x="3080160" y="2999520"/>
                  <a:ext cx="707760" cy="4278960"/>
                </a:xfrm>
                <a:custGeom>
                  <a:avLst/>
                  <a:gdLst/>
                  <a:ahLst/>
                  <a:rect l="l" t="t" r="r" b="b"/>
                  <a:pathLst>
                    <a:path w="1453" h="8264">
                      <a:moveTo>
                        <a:pt x="211" y="0"/>
                      </a:moveTo>
                      <a:cubicBezTo>
                        <a:pt x="220" y="420"/>
                        <a:pt x="251" y="840"/>
                        <a:pt x="251" y="1260"/>
                      </a:cubicBezTo>
                      <a:cubicBezTo>
                        <a:pt x="251" y="1496"/>
                        <a:pt x="318" y="1651"/>
                        <a:pt x="111" y="1720"/>
                      </a:cubicBezTo>
                      <a:cubicBezTo>
                        <a:pt x="96" y="1735"/>
                        <a:pt x="14" y="1809"/>
                        <a:pt x="11" y="1840"/>
                      </a:cubicBezTo>
                      <a:cubicBezTo>
                        <a:pt x="0" y="1948"/>
                        <a:pt x="52" y="2028"/>
                        <a:pt x="91" y="2120"/>
                      </a:cubicBezTo>
                      <a:cubicBezTo>
                        <a:pt x="144" y="2243"/>
                        <a:pt x="204" y="2356"/>
                        <a:pt x="291" y="2460"/>
                      </a:cubicBezTo>
                      <a:cubicBezTo>
                        <a:pt x="420" y="2615"/>
                        <a:pt x="280" y="2413"/>
                        <a:pt x="411" y="2600"/>
                      </a:cubicBezTo>
                      <a:cubicBezTo>
                        <a:pt x="439" y="2639"/>
                        <a:pt x="491" y="2720"/>
                        <a:pt x="491" y="2720"/>
                      </a:cubicBezTo>
                      <a:cubicBezTo>
                        <a:pt x="484" y="2853"/>
                        <a:pt x="471" y="2987"/>
                        <a:pt x="471" y="3120"/>
                      </a:cubicBezTo>
                      <a:cubicBezTo>
                        <a:pt x="471" y="3217"/>
                        <a:pt x="483" y="3373"/>
                        <a:pt x="551" y="3460"/>
                      </a:cubicBezTo>
                      <a:cubicBezTo>
                        <a:pt x="580" y="3497"/>
                        <a:pt x="622" y="3523"/>
                        <a:pt x="651" y="3560"/>
                      </a:cubicBezTo>
                      <a:cubicBezTo>
                        <a:pt x="690" y="3610"/>
                        <a:pt x="713" y="3670"/>
                        <a:pt x="751" y="3720"/>
                      </a:cubicBezTo>
                      <a:cubicBezTo>
                        <a:pt x="791" y="3879"/>
                        <a:pt x="816" y="3995"/>
                        <a:pt x="691" y="4120"/>
                      </a:cubicBezTo>
                      <a:cubicBezTo>
                        <a:pt x="649" y="4308"/>
                        <a:pt x="596" y="4444"/>
                        <a:pt x="671" y="4640"/>
                      </a:cubicBezTo>
                      <a:cubicBezTo>
                        <a:pt x="720" y="4770"/>
                        <a:pt x="843" y="4861"/>
                        <a:pt x="911" y="4980"/>
                      </a:cubicBezTo>
                      <a:cubicBezTo>
                        <a:pt x="938" y="5027"/>
                        <a:pt x="969" y="5071"/>
                        <a:pt x="991" y="5120"/>
                      </a:cubicBezTo>
                      <a:cubicBezTo>
                        <a:pt x="1050" y="5252"/>
                        <a:pt x="1003" y="5268"/>
                        <a:pt x="1111" y="5340"/>
                      </a:cubicBezTo>
                      <a:cubicBezTo>
                        <a:pt x="1124" y="5360"/>
                        <a:pt x="1132" y="5385"/>
                        <a:pt x="1151" y="5400"/>
                      </a:cubicBezTo>
                      <a:cubicBezTo>
                        <a:pt x="1167" y="5413"/>
                        <a:pt x="1196" y="5405"/>
                        <a:pt x="1211" y="5420"/>
                      </a:cubicBezTo>
                      <a:cubicBezTo>
                        <a:pt x="1245" y="5454"/>
                        <a:pt x="1291" y="5540"/>
                        <a:pt x="1291" y="5540"/>
                      </a:cubicBezTo>
                      <a:cubicBezTo>
                        <a:pt x="1279" y="5756"/>
                        <a:pt x="1290" y="5863"/>
                        <a:pt x="1231" y="6040"/>
                      </a:cubicBezTo>
                      <a:cubicBezTo>
                        <a:pt x="1244" y="6120"/>
                        <a:pt x="1249" y="6218"/>
                        <a:pt x="1311" y="6280"/>
                      </a:cubicBezTo>
                      <a:cubicBezTo>
                        <a:pt x="1348" y="6317"/>
                        <a:pt x="1394" y="6343"/>
                        <a:pt x="1431" y="6380"/>
                      </a:cubicBezTo>
                      <a:cubicBezTo>
                        <a:pt x="1438" y="6400"/>
                        <a:pt x="1453" y="6419"/>
                        <a:pt x="1451" y="6440"/>
                      </a:cubicBezTo>
                      <a:cubicBezTo>
                        <a:pt x="1441" y="6528"/>
                        <a:pt x="1372" y="6629"/>
                        <a:pt x="1331" y="6700"/>
                      </a:cubicBezTo>
                      <a:cubicBezTo>
                        <a:pt x="1324" y="6740"/>
                        <a:pt x="1326" y="6782"/>
                        <a:pt x="1311" y="6820"/>
                      </a:cubicBezTo>
                      <a:cubicBezTo>
                        <a:pt x="1299" y="6851"/>
                        <a:pt x="1256" y="6867"/>
                        <a:pt x="1251" y="6900"/>
                      </a:cubicBezTo>
                      <a:cubicBezTo>
                        <a:pt x="1204" y="7180"/>
                        <a:pt x="1310" y="7261"/>
                        <a:pt x="1151" y="7420"/>
                      </a:cubicBezTo>
                      <a:cubicBezTo>
                        <a:pt x="1129" y="7486"/>
                        <a:pt x="1118" y="7556"/>
                        <a:pt x="1091" y="7620"/>
                      </a:cubicBezTo>
                      <a:cubicBezTo>
                        <a:pt x="1082" y="7642"/>
                        <a:pt x="1063" y="7659"/>
                        <a:pt x="1051" y="7680"/>
                      </a:cubicBezTo>
                      <a:cubicBezTo>
                        <a:pt x="1011" y="7749"/>
                        <a:pt x="1013" y="7753"/>
                        <a:pt x="991" y="7820"/>
                      </a:cubicBezTo>
                      <a:cubicBezTo>
                        <a:pt x="1011" y="8059"/>
                        <a:pt x="951" y="8060"/>
                        <a:pt x="1131" y="8120"/>
                      </a:cubicBezTo>
                      <a:cubicBezTo>
                        <a:pt x="1138" y="8140"/>
                        <a:pt x="1154" y="8159"/>
                        <a:pt x="1151" y="8180"/>
                      </a:cubicBezTo>
                      <a:cubicBezTo>
                        <a:pt x="1147" y="8204"/>
                        <a:pt x="1089" y="8231"/>
                        <a:pt x="1111" y="8240"/>
                      </a:cubicBezTo>
                      <a:cubicBezTo>
                        <a:pt x="1166" y="8264"/>
                        <a:pt x="1231" y="8240"/>
                        <a:pt x="1291" y="82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 txBox="1"/>
                <p:nvPr/>
              </p:nvSpPr>
              <p:spPr>
                <a:xfrm>
                  <a:off x="4798080" y="851760"/>
                  <a:ext cx="1786320" cy="45468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Bookman Old Style"/>
                    </a:rPr>
                    <a:t>Оксидия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Bookman Old Style"/>
                    <a:ea typeface="Bookman Old Style"/>
                  </a:endParaRPr>
                </a:p>
              </p:txBody>
            </p:sp>
            <p:sp>
              <p:nvSpPr>
                <p:cNvPr id="120" name=""/>
                <p:cNvSpPr txBox="1"/>
                <p:nvPr/>
              </p:nvSpPr>
              <p:spPr>
                <a:xfrm>
                  <a:off x="2168640" y="200520"/>
                  <a:ext cx="1491480" cy="371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Bookman Old Style"/>
                    </a:rPr>
                    <a:t>Простое</a:t>
                  </a:r>
                  <a:endPara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Bookman Old Style"/>
                    <a:ea typeface="Bookman Old Style"/>
                  </a:endParaRPr>
                </a:p>
              </p:txBody>
            </p:sp>
            <p:sp>
              <p:nvSpPr>
                <p:cNvPr id="121" name=""/>
                <p:cNvSpPr txBox="1"/>
                <p:nvPr/>
              </p:nvSpPr>
              <p:spPr>
                <a:xfrm>
                  <a:off x="4393800" y="5875200"/>
                  <a:ext cx="2415600" cy="371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Bookman Old Style"/>
                    </a:rPr>
                    <a:t>Гидроксидан</a:t>
                  </a:r>
                  <a:endPara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Bookman Old Style"/>
                    <a:ea typeface="Bookman Old Style"/>
                  </a:endParaRPr>
                </a:p>
              </p:txBody>
            </p:sp>
            <p:sp>
              <p:nvSpPr>
                <p:cNvPr id="122" name=""/>
                <p:cNvSpPr txBox="1"/>
                <p:nvPr/>
              </p:nvSpPr>
              <p:spPr>
                <a:xfrm>
                  <a:off x="1562040" y="4200840"/>
                  <a:ext cx="971280" cy="256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Bookman Old Style"/>
                    </a:rPr>
                    <a:t>Соления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Bookman Old Style"/>
                    <a:ea typeface="Bookman Old Style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708160" y="234000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7022880" y="215388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000400" y="150300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4191480" y="475884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416280" y="457272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786840" y="299124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" name=""/>
              <p:cNvSpPr/>
              <p:nvPr/>
            </p:nvSpPr>
            <p:spPr>
              <a:xfrm>
                <a:off x="1546200" y="881280"/>
                <a:ext cx="129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Металл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914560" y="73656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Неметалл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218200" y="1170000"/>
                <a:ext cx="172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г. Кислотны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075280" y="26100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333399"/>
                    </a:solidFill>
                    <a:latin typeface="Bookman Old Style"/>
                  </a:rPr>
                  <a:t>Амфо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442200" y="2320920"/>
                <a:ext cx="1081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Осно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62560" y="498636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333399"/>
                    </a:solidFill>
                    <a:latin typeface="Bookman Old Style"/>
                  </a:rPr>
                  <a:t>Амфобур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649840" y="419436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333399"/>
                    </a:solidFill>
                    <a:latin typeface="Bookman Old Style"/>
                  </a:rPr>
                  <a:t>Основинс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130560" y="325764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333399"/>
                    </a:solidFill>
                    <a:latin typeface="Bookman Old Style"/>
                  </a:rPr>
                  <a:t>Кислотс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482920" y="5418360"/>
                <a:ext cx="228600" cy="228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266920" y="5705640"/>
                <a:ext cx="12240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9" name=""/>
            <p:cNvSpPr/>
            <p:nvPr/>
          </p:nvSpPr>
          <p:spPr>
            <a:xfrm>
              <a:off x="4500720" y="321300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427640" y="5373720"/>
              <a:ext cx="115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72360" y="4869000"/>
              <a:ext cx="100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64000" y="1557360"/>
              <a:ext cx="1008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32720" y="2708280"/>
              <a:ext cx="1008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32360" y="2349360"/>
              <a:ext cx="719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80000" y="333360"/>
              <a:ext cx="4316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050920" y="620640"/>
              <a:ext cx="7923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68360" y="4869000"/>
              <a:ext cx="10796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 txBox="1"/>
          <p:nvPr/>
        </p:nvSpPr>
        <p:spPr>
          <a:xfrm>
            <a:off x="900000" y="2133720"/>
            <a:ext cx="13050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Водное море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195640" y="3357720"/>
            <a:ext cx="53053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ff"/>
                </a:solidFill>
                <a:latin typeface="Bookman Old Style"/>
              </a:rPr>
              <a:t>Материк неорганических веществ</a:t>
            </a:r>
            <a:endParaRPr b="0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3366ff"/>
              </a:solidFill>
              <a:latin typeface="Bookman Old Style"/>
              <a:ea typeface="Bookman Old Style"/>
            </a:endParaRPr>
          </a:p>
        </p:txBody>
      </p:sp>
      <p:sp>
        <p:nvSpPr>
          <p:cNvPr id="150" name=""/>
          <p:cNvSpPr/>
          <p:nvPr/>
        </p:nvSpPr>
        <p:spPr>
          <a:xfrm>
            <a:off x="6084720" y="-171360"/>
            <a:ext cx="3183120" cy="7119720"/>
          </a:xfrm>
          <a:custGeom>
            <a:avLst/>
            <a:gdLst/>
            <a:ahLst/>
            <a:rect l="l" t="t" r="r" b="b"/>
            <a:pathLst>
              <a:path w="2005" h="4485">
                <a:moveTo>
                  <a:pt x="413" y="152"/>
                </a:moveTo>
                <a:cubicBezTo>
                  <a:pt x="331" y="179"/>
                  <a:pt x="116" y="177"/>
                  <a:pt x="40" y="179"/>
                </a:cubicBezTo>
                <a:cubicBezTo>
                  <a:pt x="34" y="196"/>
                  <a:pt x="0" y="237"/>
                  <a:pt x="26" y="254"/>
                </a:cubicBezTo>
                <a:cubicBezTo>
                  <a:pt x="41" y="264"/>
                  <a:pt x="62" y="259"/>
                  <a:pt x="80" y="261"/>
                </a:cubicBezTo>
                <a:cubicBezTo>
                  <a:pt x="82" y="277"/>
                  <a:pt x="77" y="295"/>
                  <a:pt x="87" y="308"/>
                </a:cubicBezTo>
                <a:cubicBezTo>
                  <a:pt x="87" y="308"/>
                  <a:pt x="148" y="324"/>
                  <a:pt x="162" y="328"/>
                </a:cubicBezTo>
                <a:cubicBezTo>
                  <a:pt x="170" y="336"/>
                  <a:pt x="189" y="359"/>
                  <a:pt x="202" y="362"/>
                </a:cubicBezTo>
                <a:cubicBezTo>
                  <a:pt x="238" y="370"/>
                  <a:pt x="311" y="376"/>
                  <a:pt x="311" y="376"/>
                </a:cubicBezTo>
                <a:cubicBezTo>
                  <a:pt x="328" y="403"/>
                  <a:pt x="341" y="402"/>
                  <a:pt x="372" y="410"/>
                </a:cubicBezTo>
                <a:cubicBezTo>
                  <a:pt x="410" y="469"/>
                  <a:pt x="473" y="467"/>
                  <a:pt x="534" y="484"/>
                </a:cubicBezTo>
                <a:cubicBezTo>
                  <a:pt x="548" y="488"/>
                  <a:pt x="561" y="493"/>
                  <a:pt x="575" y="498"/>
                </a:cubicBezTo>
                <a:cubicBezTo>
                  <a:pt x="582" y="500"/>
                  <a:pt x="595" y="505"/>
                  <a:pt x="595" y="505"/>
                </a:cubicBezTo>
                <a:cubicBezTo>
                  <a:pt x="603" y="561"/>
                  <a:pt x="603" y="562"/>
                  <a:pt x="656" y="572"/>
                </a:cubicBezTo>
                <a:cubicBezTo>
                  <a:pt x="694" y="630"/>
                  <a:pt x="644" y="560"/>
                  <a:pt x="690" y="606"/>
                </a:cubicBezTo>
                <a:cubicBezTo>
                  <a:pt x="721" y="637"/>
                  <a:pt x="688" y="641"/>
                  <a:pt x="738" y="654"/>
                </a:cubicBezTo>
                <a:cubicBezTo>
                  <a:pt x="745" y="673"/>
                  <a:pt x="746" y="710"/>
                  <a:pt x="765" y="721"/>
                </a:cubicBezTo>
                <a:cubicBezTo>
                  <a:pt x="775" y="727"/>
                  <a:pt x="788" y="725"/>
                  <a:pt x="799" y="728"/>
                </a:cubicBezTo>
                <a:cubicBezTo>
                  <a:pt x="822" y="734"/>
                  <a:pt x="837" y="748"/>
                  <a:pt x="860" y="755"/>
                </a:cubicBezTo>
                <a:cubicBezTo>
                  <a:pt x="877" y="783"/>
                  <a:pt x="901" y="782"/>
                  <a:pt x="928" y="803"/>
                </a:cubicBezTo>
                <a:cubicBezTo>
                  <a:pt x="934" y="823"/>
                  <a:pt x="948" y="864"/>
                  <a:pt x="948" y="864"/>
                </a:cubicBezTo>
                <a:cubicBezTo>
                  <a:pt x="950" y="909"/>
                  <a:pt x="951" y="954"/>
                  <a:pt x="955" y="999"/>
                </a:cubicBezTo>
                <a:cubicBezTo>
                  <a:pt x="957" y="1025"/>
                  <a:pt x="1002" y="1060"/>
                  <a:pt x="1002" y="1060"/>
                </a:cubicBezTo>
                <a:cubicBezTo>
                  <a:pt x="1019" y="1110"/>
                  <a:pt x="1039" y="1159"/>
                  <a:pt x="1056" y="1209"/>
                </a:cubicBezTo>
                <a:cubicBezTo>
                  <a:pt x="1063" y="1258"/>
                  <a:pt x="1075" y="1316"/>
                  <a:pt x="1104" y="1358"/>
                </a:cubicBezTo>
                <a:cubicBezTo>
                  <a:pt x="1116" y="1415"/>
                  <a:pt x="1157" y="1461"/>
                  <a:pt x="1199" y="1501"/>
                </a:cubicBezTo>
                <a:cubicBezTo>
                  <a:pt x="1210" y="1537"/>
                  <a:pt x="1226" y="1573"/>
                  <a:pt x="1239" y="1609"/>
                </a:cubicBezTo>
                <a:cubicBezTo>
                  <a:pt x="1248" y="1722"/>
                  <a:pt x="1229" y="1679"/>
                  <a:pt x="1287" y="1718"/>
                </a:cubicBezTo>
                <a:cubicBezTo>
                  <a:pt x="1301" y="1740"/>
                  <a:pt x="1313" y="1763"/>
                  <a:pt x="1327" y="1785"/>
                </a:cubicBezTo>
                <a:cubicBezTo>
                  <a:pt x="1347" y="1863"/>
                  <a:pt x="1325" y="1770"/>
                  <a:pt x="1341" y="1948"/>
                </a:cubicBezTo>
                <a:cubicBezTo>
                  <a:pt x="1344" y="1976"/>
                  <a:pt x="1358" y="2003"/>
                  <a:pt x="1368" y="2029"/>
                </a:cubicBezTo>
                <a:cubicBezTo>
                  <a:pt x="1371" y="2038"/>
                  <a:pt x="1370" y="2048"/>
                  <a:pt x="1375" y="2056"/>
                </a:cubicBezTo>
                <a:cubicBezTo>
                  <a:pt x="1387" y="2075"/>
                  <a:pt x="1419" y="2074"/>
                  <a:pt x="1436" y="2077"/>
                </a:cubicBezTo>
                <a:cubicBezTo>
                  <a:pt x="1558" y="2265"/>
                  <a:pt x="1410" y="2535"/>
                  <a:pt x="1476" y="2754"/>
                </a:cubicBezTo>
                <a:cubicBezTo>
                  <a:pt x="1484" y="2811"/>
                  <a:pt x="1497" y="2863"/>
                  <a:pt x="1517" y="2917"/>
                </a:cubicBezTo>
                <a:cubicBezTo>
                  <a:pt x="1524" y="2935"/>
                  <a:pt x="1526" y="2961"/>
                  <a:pt x="1531" y="2978"/>
                </a:cubicBezTo>
                <a:cubicBezTo>
                  <a:pt x="1535" y="2992"/>
                  <a:pt x="1544" y="3019"/>
                  <a:pt x="1544" y="3019"/>
                </a:cubicBezTo>
                <a:cubicBezTo>
                  <a:pt x="1547" y="3185"/>
                  <a:pt x="1532" y="3454"/>
                  <a:pt x="1619" y="3622"/>
                </a:cubicBezTo>
                <a:cubicBezTo>
                  <a:pt x="1625" y="3679"/>
                  <a:pt x="1623" y="3748"/>
                  <a:pt x="1666" y="3791"/>
                </a:cubicBezTo>
                <a:cubicBezTo>
                  <a:pt x="1680" y="3846"/>
                  <a:pt x="1708" y="3886"/>
                  <a:pt x="1747" y="3927"/>
                </a:cubicBezTo>
                <a:cubicBezTo>
                  <a:pt x="1762" y="3971"/>
                  <a:pt x="1751" y="4017"/>
                  <a:pt x="1741" y="4062"/>
                </a:cubicBezTo>
                <a:cubicBezTo>
                  <a:pt x="1735" y="4171"/>
                  <a:pt x="1726" y="4266"/>
                  <a:pt x="1734" y="4374"/>
                </a:cubicBezTo>
                <a:cubicBezTo>
                  <a:pt x="1736" y="4399"/>
                  <a:pt x="1734" y="4425"/>
                  <a:pt x="1741" y="4449"/>
                </a:cubicBezTo>
                <a:cubicBezTo>
                  <a:pt x="1748" y="4470"/>
                  <a:pt x="1802" y="4476"/>
                  <a:pt x="1802" y="4476"/>
                </a:cubicBezTo>
                <a:cubicBezTo>
                  <a:pt x="1860" y="4471"/>
                  <a:pt x="1894" y="4485"/>
                  <a:pt x="1924" y="4442"/>
                </a:cubicBezTo>
                <a:cubicBezTo>
                  <a:pt x="1937" y="4396"/>
                  <a:pt x="1919" y="4447"/>
                  <a:pt x="1951" y="4401"/>
                </a:cubicBezTo>
                <a:cubicBezTo>
                  <a:pt x="1965" y="4381"/>
                  <a:pt x="1967" y="4349"/>
                  <a:pt x="1978" y="4327"/>
                </a:cubicBezTo>
                <a:cubicBezTo>
                  <a:pt x="1961" y="4259"/>
                  <a:pt x="1965" y="4186"/>
                  <a:pt x="1958" y="4116"/>
                </a:cubicBezTo>
                <a:cubicBezTo>
                  <a:pt x="1956" y="4044"/>
                  <a:pt x="1957" y="3972"/>
                  <a:pt x="1951" y="3900"/>
                </a:cubicBezTo>
                <a:cubicBezTo>
                  <a:pt x="1950" y="3890"/>
                  <a:pt x="1940" y="3883"/>
                  <a:pt x="1937" y="3873"/>
                </a:cubicBezTo>
                <a:cubicBezTo>
                  <a:pt x="1922" y="3826"/>
                  <a:pt x="1907" y="3778"/>
                  <a:pt x="1897" y="3730"/>
                </a:cubicBezTo>
                <a:cubicBezTo>
                  <a:pt x="1875" y="3621"/>
                  <a:pt x="1844" y="3514"/>
                  <a:pt x="1822" y="3405"/>
                </a:cubicBezTo>
                <a:cubicBezTo>
                  <a:pt x="1825" y="3247"/>
                  <a:pt x="1811" y="3009"/>
                  <a:pt x="1883" y="2849"/>
                </a:cubicBezTo>
                <a:cubicBezTo>
                  <a:pt x="1892" y="2830"/>
                  <a:pt x="1907" y="2814"/>
                  <a:pt x="1917" y="2795"/>
                </a:cubicBezTo>
                <a:cubicBezTo>
                  <a:pt x="1940" y="2748"/>
                  <a:pt x="1944" y="2698"/>
                  <a:pt x="1971" y="2653"/>
                </a:cubicBezTo>
                <a:cubicBezTo>
                  <a:pt x="1979" y="2613"/>
                  <a:pt x="1995" y="2577"/>
                  <a:pt x="2005" y="2538"/>
                </a:cubicBezTo>
                <a:cubicBezTo>
                  <a:pt x="2001" y="2472"/>
                  <a:pt x="1996" y="2423"/>
                  <a:pt x="1985" y="2361"/>
                </a:cubicBezTo>
                <a:cubicBezTo>
                  <a:pt x="1974" y="1956"/>
                  <a:pt x="1983" y="1951"/>
                  <a:pt x="1958" y="1663"/>
                </a:cubicBezTo>
                <a:cubicBezTo>
                  <a:pt x="1951" y="1581"/>
                  <a:pt x="1949" y="1488"/>
                  <a:pt x="1910" y="1413"/>
                </a:cubicBezTo>
                <a:cubicBezTo>
                  <a:pt x="1883" y="1198"/>
                  <a:pt x="1891" y="1255"/>
                  <a:pt x="1903" y="925"/>
                </a:cubicBezTo>
                <a:cubicBezTo>
                  <a:pt x="1904" y="899"/>
                  <a:pt x="1924" y="850"/>
                  <a:pt x="1924" y="850"/>
                </a:cubicBezTo>
                <a:cubicBezTo>
                  <a:pt x="1931" y="774"/>
                  <a:pt x="1940" y="705"/>
                  <a:pt x="1944" y="627"/>
                </a:cubicBezTo>
                <a:cubicBezTo>
                  <a:pt x="1939" y="455"/>
                  <a:pt x="1974" y="343"/>
                  <a:pt x="1836" y="247"/>
                </a:cubicBezTo>
                <a:cubicBezTo>
                  <a:pt x="1802" y="182"/>
                  <a:pt x="1716" y="146"/>
                  <a:pt x="1646" y="132"/>
                </a:cubicBezTo>
                <a:cubicBezTo>
                  <a:pt x="1599" y="101"/>
                  <a:pt x="1531" y="100"/>
                  <a:pt x="1476" y="91"/>
                </a:cubicBezTo>
                <a:cubicBezTo>
                  <a:pt x="1307" y="63"/>
                  <a:pt x="1159" y="52"/>
                  <a:pt x="982" y="44"/>
                </a:cubicBezTo>
                <a:cubicBezTo>
                  <a:pt x="725" y="0"/>
                  <a:pt x="864" y="19"/>
                  <a:pt x="338" y="37"/>
                </a:cubicBezTo>
                <a:cubicBezTo>
                  <a:pt x="293" y="39"/>
                  <a:pt x="270" y="81"/>
                  <a:pt x="230" y="91"/>
                </a:cubicBezTo>
                <a:cubicBezTo>
                  <a:pt x="189" y="119"/>
                  <a:pt x="151" y="149"/>
                  <a:pt x="101" y="159"/>
                </a:cubicBezTo>
                <a:cubicBezTo>
                  <a:pt x="89" y="161"/>
                  <a:pt x="49" y="169"/>
                  <a:pt x="47" y="173"/>
                </a:cubicBezTo>
                <a:cubicBezTo>
                  <a:pt x="42" y="188"/>
                  <a:pt x="47" y="204"/>
                  <a:pt x="47" y="220"/>
                </a:cubicBezTo>
              </a:path>
            </a:pathLst>
          </a:custGeom>
          <a:solidFill>
            <a:srgbClr val="b2ec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3314400">
            <a:off x="6800760" y="1415520"/>
            <a:ext cx="294336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Bookman Old Style"/>
              </a:rPr>
              <a:t>Материк органических веществ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457200" y="274680"/>
          <a:ext cx="8229600" cy="5851440"/>
        </p:xfrm>
        <a:graphic>
          <a:graphicData uri="http://schemas.openxmlformats.org/drawingml/2006/table">
            <a:tbl>
              <a:tblPr/>
              <a:tblGrid>
                <a:gridCol w="1738440"/>
                <a:gridCol w="1554120"/>
                <a:gridCol w="1644480"/>
                <a:gridCol w="1646280"/>
                <a:gridCol w="1646280"/>
              </a:tblGrid>
              <a:tr h="292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H)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Cl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-57240" y="-316080"/>
            <a:ext cx="9201240" cy="8218800"/>
          </a:xfrm>
          <a:custGeom>
            <a:avLst/>
            <a:gdLst/>
            <a:ahLst/>
            <a:rect l="l" t="t" r="r" b="b"/>
            <a:pathLst>
              <a:path w="5796" h="5177">
                <a:moveTo>
                  <a:pt x="1351" y="305"/>
                </a:moveTo>
                <a:cubicBezTo>
                  <a:pt x="1254" y="158"/>
                  <a:pt x="1340" y="264"/>
                  <a:pt x="944" y="271"/>
                </a:cubicBezTo>
                <a:cubicBezTo>
                  <a:pt x="864" y="279"/>
                  <a:pt x="821" y="298"/>
                  <a:pt x="748" y="311"/>
                </a:cubicBezTo>
                <a:cubicBezTo>
                  <a:pt x="661" y="326"/>
                  <a:pt x="579" y="334"/>
                  <a:pt x="490" y="339"/>
                </a:cubicBezTo>
                <a:cubicBezTo>
                  <a:pt x="449" y="346"/>
                  <a:pt x="416" y="365"/>
                  <a:pt x="375" y="372"/>
                </a:cubicBezTo>
                <a:cubicBezTo>
                  <a:pt x="370" y="379"/>
                  <a:pt x="367" y="387"/>
                  <a:pt x="361" y="393"/>
                </a:cubicBezTo>
                <a:cubicBezTo>
                  <a:pt x="355" y="399"/>
                  <a:pt x="346" y="400"/>
                  <a:pt x="341" y="406"/>
                </a:cubicBezTo>
                <a:cubicBezTo>
                  <a:pt x="336" y="412"/>
                  <a:pt x="339" y="421"/>
                  <a:pt x="334" y="427"/>
                </a:cubicBezTo>
                <a:cubicBezTo>
                  <a:pt x="327" y="436"/>
                  <a:pt x="272" y="500"/>
                  <a:pt x="260" y="508"/>
                </a:cubicBezTo>
                <a:cubicBezTo>
                  <a:pt x="240" y="536"/>
                  <a:pt x="220" y="571"/>
                  <a:pt x="192" y="589"/>
                </a:cubicBezTo>
                <a:cubicBezTo>
                  <a:pt x="169" y="658"/>
                  <a:pt x="207" y="555"/>
                  <a:pt x="165" y="630"/>
                </a:cubicBezTo>
                <a:cubicBezTo>
                  <a:pt x="158" y="643"/>
                  <a:pt x="159" y="659"/>
                  <a:pt x="151" y="671"/>
                </a:cubicBezTo>
                <a:cubicBezTo>
                  <a:pt x="147" y="678"/>
                  <a:pt x="142" y="684"/>
                  <a:pt x="138" y="691"/>
                </a:cubicBezTo>
                <a:cubicBezTo>
                  <a:pt x="132" y="716"/>
                  <a:pt x="123" y="740"/>
                  <a:pt x="117" y="765"/>
                </a:cubicBezTo>
                <a:cubicBezTo>
                  <a:pt x="111" y="864"/>
                  <a:pt x="102" y="968"/>
                  <a:pt x="56" y="1057"/>
                </a:cubicBezTo>
                <a:cubicBezTo>
                  <a:pt x="21" y="1257"/>
                  <a:pt x="0" y="1471"/>
                  <a:pt x="56" y="1667"/>
                </a:cubicBezTo>
                <a:cubicBezTo>
                  <a:pt x="64" y="1753"/>
                  <a:pt x="80" y="1840"/>
                  <a:pt x="97" y="1924"/>
                </a:cubicBezTo>
                <a:cubicBezTo>
                  <a:pt x="87" y="2279"/>
                  <a:pt x="86" y="2288"/>
                  <a:pt x="63" y="2514"/>
                </a:cubicBezTo>
                <a:cubicBezTo>
                  <a:pt x="65" y="2663"/>
                  <a:pt x="66" y="2812"/>
                  <a:pt x="70" y="2961"/>
                </a:cubicBezTo>
                <a:cubicBezTo>
                  <a:pt x="72" y="3026"/>
                  <a:pt x="96" y="3098"/>
                  <a:pt x="104" y="3164"/>
                </a:cubicBezTo>
                <a:cubicBezTo>
                  <a:pt x="106" y="3259"/>
                  <a:pt x="111" y="3354"/>
                  <a:pt x="111" y="3449"/>
                </a:cubicBezTo>
                <a:cubicBezTo>
                  <a:pt x="111" y="3474"/>
                  <a:pt x="104" y="3498"/>
                  <a:pt x="104" y="3523"/>
                </a:cubicBezTo>
                <a:cubicBezTo>
                  <a:pt x="104" y="3607"/>
                  <a:pt x="106" y="3639"/>
                  <a:pt x="117" y="3706"/>
                </a:cubicBezTo>
                <a:cubicBezTo>
                  <a:pt x="121" y="3733"/>
                  <a:pt x="131" y="3788"/>
                  <a:pt x="131" y="3788"/>
                </a:cubicBezTo>
                <a:cubicBezTo>
                  <a:pt x="136" y="3856"/>
                  <a:pt x="136" y="3871"/>
                  <a:pt x="151" y="3923"/>
                </a:cubicBezTo>
                <a:cubicBezTo>
                  <a:pt x="172" y="4064"/>
                  <a:pt x="162" y="4123"/>
                  <a:pt x="260" y="4221"/>
                </a:cubicBezTo>
                <a:cubicBezTo>
                  <a:pt x="302" y="4263"/>
                  <a:pt x="271" y="4239"/>
                  <a:pt x="328" y="4276"/>
                </a:cubicBezTo>
                <a:cubicBezTo>
                  <a:pt x="350" y="4290"/>
                  <a:pt x="363" y="4309"/>
                  <a:pt x="388" y="4316"/>
                </a:cubicBezTo>
                <a:cubicBezTo>
                  <a:pt x="416" y="4335"/>
                  <a:pt x="451" y="4360"/>
                  <a:pt x="483" y="4371"/>
                </a:cubicBezTo>
                <a:cubicBezTo>
                  <a:pt x="499" y="4377"/>
                  <a:pt x="531" y="4384"/>
                  <a:pt x="531" y="4384"/>
                </a:cubicBezTo>
                <a:cubicBezTo>
                  <a:pt x="572" y="4408"/>
                  <a:pt x="620" y="4431"/>
                  <a:pt x="666" y="4438"/>
                </a:cubicBezTo>
                <a:cubicBezTo>
                  <a:pt x="741" y="4463"/>
                  <a:pt x="822" y="4434"/>
                  <a:pt x="897" y="4459"/>
                </a:cubicBezTo>
                <a:cubicBezTo>
                  <a:pt x="925" y="4487"/>
                  <a:pt x="981" y="4520"/>
                  <a:pt x="1019" y="4533"/>
                </a:cubicBezTo>
                <a:cubicBezTo>
                  <a:pt x="1080" y="4527"/>
                  <a:pt x="1128" y="4528"/>
                  <a:pt x="1188" y="4540"/>
                </a:cubicBezTo>
                <a:cubicBezTo>
                  <a:pt x="1204" y="4550"/>
                  <a:pt x="1238" y="4541"/>
                  <a:pt x="1242" y="4560"/>
                </a:cubicBezTo>
                <a:cubicBezTo>
                  <a:pt x="1296" y="4844"/>
                  <a:pt x="1200" y="4704"/>
                  <a:pt x="1269" y="4797"/>
                </a:cubicBezTo>
                <a:cubicBezTo>
                  <a:pt x="1280" y="4862"/>
                  <a:pt x="1284" y="4942"/>
                  <a:pt x="1358" y="4960"/>
                </a:cubicBezTo>
                <a:cubicBezTo>
                  <a:pt x="1509" y="5072"/>
                  <a:pt x="1850" y="5026"/>
                  <a:pt x="1967" y="5028"/>
                </a:cubicBezTo>
                <a:cubicBezTo>
                  <a:pt x="2030" y="5039"/>
                  <a:pt x="2093" y="5048"/>
                  <a:pt x="2157" y="5055"/>
                </a:cubicBezTo>
                <a:cubicBezTo>
                  <a:pt x="2469" y="5034"/>
                  <a:pt x="2769" y="5016"/>
                  <a:pt x="3086" y="5008"/>
                </a:cubicBezTo>
                <a:cubicBezTo>
                  <a:pt x="3155" y="4996"/>
                  <a:pt x="3211" y="4979"/>
                  <a:pt x="3282" y="4974"/>
                </a:cubicBezTo>
                <a:cubicBezTo>
                  <a:pt x="3359" y="4946"/>
                  <a:pt x="3431" y="4910"/>
                  <a:pt x="3506" y="4879"/>
                </a:cubicBezTo>
                <a:cubicBezTo>
                  <a:pt x="3548" y="4835"/>
                  <a:pt x="3598" y="4803"/>
                  <a:pt x="3648" y="4770"/>
                </a:cubicBezTo>
                <a:cubicBezTo>
                  <a:pt x="3695" y="4739"/>
                  <a:pt x="3735" y="4703"/>
                  <a:pt x="3784" y="4675"/>
                </a:cubicBezTo>
                <a:cubicBezTo>
                  <a:pt x="3799" y="4652"/>
                  <a:pt x="3844" y="4621"/>
                  <a:pt x="3844" y="4621"/>
                </a:cubicBezTo>
                <a:cubicBezTo>
                  <a:pt x="3772" y="4602"/>
                  <a:pt x="3857" y="4592"/>
                  <a:pt x="3878" y="4587"/>
                </a:cubicBezTo>
                <a:cubicBezTo>
                  <a:pt x="3873" y="4571"/>
                  <a:pt x="3857" y="4532"/>
                  <a:pt x="3892" y="4526"/>
                </a:cubicBezTo>
                <a:cubicBezTo>
                  <a:pt x="3986" y="4509"/>
                  <a:pt x="4082" y="4517"/>
                  <a:pt x="4177" y="4513"/>
                </a:cubicBezTo>
                <a:cubicBezTo>
                  <a:pt x="4229" y="4500"/>
                  <a:pt x="4242" y="4493"/>
                  <a:pt x="4299" y="4493"/>
                </a:cubicBezTo>
                <a:cubicBezTo>
                  <a:pt x="4306" y="4493"/>
                  <a:pt x="4285" y="4497"/>
                  <a:pt x="4278" y="4499"/>
                </a:cubicBezTo>
                <a:cubicBezTo>
                  <a:pt x="4255" y="4522"/>
                  <a:pt x="4241" y="4537"/>
                  <a:pt x="4210" y="4547"/>
                </a:cubicBezTo>
                <a:cubicBezTo>
                  <a:pt x="4166" y="4584"/>
                  <a:pt x="4122" y="4627"/>
                  <a:pt x="4068" y="4648"/>
                </a:cubicBezTo>
                <a:cubicBezTo>
                  <a:pt x="3962" y="4740"/>
                  <a:pt x="4074" y="4653"/>
                  <a:pt x="3980" y="4703"/>
                </a:cubicBezTo>
                <a:cubicBezTo>
                  <a:pt x="3933" y="4728"/>
                  <a:pt x="3888" y="4774"/>
                  <a:pt x="3838" y="4791"/>
                </a:cubicBezTo>
                <a:cubicBezTo>
                  <a:pt x="3847" y="4750"/>
                  <a:pt x="3856" y="4764"/>
                  <a:pt x="3892" y="4750"/>
                </a:cubicBezTo>
                <a:cubicBezTo>
                  <a:pt x="3938" y="4732"/>
                  <a:pt x="3978" y="4706"/>
                  <a:pt x="4027" y="4696"/>
                </a:cubicBezTo>
                <a:cubicBezTo>
                  <a:pt x="4047" y="4686"/>
                  <a:pt x="4069" y="4680"/>
                  <a:pt x="4088" y="4669"/>
                </a:cubicBezTo>
                <a:cubicBezTo>
                  <a:pt x="4141" y="4638"/>
                  <a:pt x="4175" y="4602"/>
                  <a:pt x="4231" y="4587"/>
                </a:cubicBezTo>
                <a:cubicBezTo>
                  <a:pt x="4291" y="4552"/>
                  <a:pt x="4311" y="4552"/>
                  <a:pt x="4387" y="4547"/>
                </a:cubicBezTo>
                <a:cubicBezTo>
                  <a:pt x="4504" y="4549"/>
                  <a:pt x="4622" y="4546"/>
                  <a:pt x="4739" y="4553"/>
                </a:cubicBezTo>
                <a:cubicBezTo>
                  <a:pt x="4747" y="4553"/>
                  <a:pt x="4725" y="4561"/>
                  <a:pt x="4719" y="4567"/>
                </a:cubicBezTo>
                <a:cubicBezTo>
                  <a:pt x="4713" y="4573"/>
                  <a:pt x="4712" y="4582"/>
                  <a:pt x="4705" y="4587"/>
                </a:cubicBezTo>
                <a:cubicBezTo>
                  <a:pt x="4674" y="4609"/>
                  <a:pt x="4625" y="4611"/>
                  <a:pt x="4590" y="4614"/>
                </a:cubicBezTo>
                <a:cubicBezTo>
                  <a:pt x="4477" y="4637"/>
                  <a:pt x="4541" y="4647"/>
                  <a:pt x="4529" y="4574"/>
                </a:cubicBezTo>
                <a:cubicBezTo>
                  <a:pt x="4527" y="4563"/>
                  <a:pt x="4516" y="4556"/>
                  <a:pt x="4509" y="4547"/>
                </a:cubicBezTo>
                <a:cubicBezTo>
                  <a:pt x="4469" y="4614"/>
                  <a:pt x="4413" y="4666"/>
                  <a:pt x="4360" y="4723"/>
                </a:cubicBezTo>
                <a:cubicBezTo>
                  <a:pt x="4100" y="5001"/>
                  <a:pt x="3862" y="5121"/>
                  <a:pt x="3479" y="5177"/>
                </a:cubicBezTo>
                <a:cubicBezTo>
                  <a:pt x="3341" y="5172"/>
                  <a:pt x="3203" y="5169"/>
                  <a:pt x="3065" y="5163"/>
                </a:cubicBezTo>
                <a:cubicBezTo>
                  <a:pt x="3047" y="5162"/>
                  <a:pt x="3026" y="5167"/>
                  <a:pt x="3011" y="5157"/>
                </a:cubicBezTo>
                <a:cubicBezTo>
                  <a:pt x="3004" y="5152"/>
                  <a:pt x="3017" y="5139"/>
                  <a:pt x="3025" y="5136"/>
                </a:cubicBezTo>
                <a:cubicBezTo>
                  <a:pt x="3046" y="5127"/>
                  <a:pt x="3070" y="5127"/>
                  <a:pt x="3092" y="5123"/>
                </a:cubicBezTo>
                <a:cubicBezTo>
                  <a:pt x="3159" y="5128"/>
                  <a:pt x="3209" y="5148"/>
                  <a:pt x="3275" y="5157"/>
                </a:cubicBezTo>
                <a:cubicBezTo>
                  <a:pt x="3416" y="5147"/>
                  <a:pt x="3550" y="5127"/>
                  <a:pt x="3689" y="5109"/>
                </a:cubicBezTo>
                <a:cubicBezTo>
                  <a:pt x="3757" y="5089"/>
                  <a:pt x="3822" y="5080"/>
                  <a:pt x="3892" y="5069"/>
                </a:cubicBezTo>
                <a:cubicBezTo>
                  <a:pt x="4033" y="4997"/>
                  <a:pt x="4183" y="4957"/>
                  <a:pt x="4326" y="4892"/>
                </a:cubicBezTo>
                <a:cubicBezTo>
                  <a:pt x="4350" y="4881"/>
                  <a:pt x="4369" y="4863"/>
                  <a:pt x="4393" y="4852"/>
                </a:cubicBezTo>
                <a:cubicBezTo>
                  <a:pt x="4493" y="4805"/>
                  <a:pt x="4602" y="4777"/>
                  <a:pt x="4705" y="4736"/>
                </a:cubicBezTo>
                <a:cubicBezTo>
                  <a:pt x="4773" y="4709"/>
                  <a:pt x="4826" y="4666"/>
                  <a:pt x="4895" y="4648"/>
                </a:cubicBezTo>
                <a:cubicBezTo>
                  <a:pt x="4934" y="4625"/>
                  <a:pt x="4969" y="4620"/>
                  <a:pt x="5010" y="4601"/>
                </a:cubicBezTo>
                <a:cubicBezTo>
                  <a:pt x="5106" y="4556"/>
                  <a:pt x="5005" y="4587"/>
                  <a:pt x="5112" y="4560"/>
                </a:cubicBezTo>
                <a:cubicBezTo>
                  <a:pt x="5137" y="4544"/>
                  <a:pt x="5165" y="4533"/>
                  <a:pt x="5186" y="4513"/>
                </a:cubicBezTo>
                <a:cubicBezTo>
                  <a:pt x="5193" y="4506"/>
                  <a:pt x="5198" y="4497"/>
                  <a:pt x="5207" y="4493"/>
                </a:cubicBezTo>
                <a:cubicBezTo>
                  <a:pt x="5224" y="4485"/>
                  <a:pt x="5243" y="4484"/>
                  <a:pt x="5261" y="4479"/>
                </a:cubicBezTo>
                <a:cubicBezTo>
                  <a:pt x="5424" y="4483"/>
                  <a:pt x="5526" y="4461"/>
                  <a:pt x="5661" y="4506"/>
                </a:cubicBezTo>
                <a:cubicBezTo>
                  <a:pt x="5703" y="4535"/>
                  <a:pt x="5665" y="4559"/>
                  <a:pt x="5708" y="4587"/>
                </a:cubicBezTo>
                <a:cubicBezTo>
                  <a:pt x="5694" y="4594"/>
                  <a:pt x="5673" y="4615"/>
                  <a:pt x="5661" y="4587"/>
                </a:cubicBezTo>
                <a:cubicBezTo>
                  <a:pt x="5658" y="4581"/>
                  <a:pt x="5674" y="4569"/>
                  <a:pt x="5667" y="4567"/>
                </a:cubicBezTo>
                <a:cubicBezTo>
                  <a:pt x="5654" y="4562"/>
                  <a:pt x="5640" y="4572"/>
                  <a:pt x="5627" y="4574"/>
                </a:cubicBezTo>
                <a:cubicBezTo>
                  <a:pt x="5634" y="4532"/>
                  <a:pt x="5641" y="4510"/>
                  <a:pt x="5667" y="4479"/>
                </a:cubicBezTo>
                <a:cubicBezTo>
                  <a:pt x="5686" y="4456"/>
                  <a:pt x="5685" y="4441"/>
                  <a:pt x="5715" y="4432"/>
                </a:cubicBezTo>
                <a:cubicBezTo>
                  <a:pt x="5719" y="4425"/>
                  <a:pt x="5722" y="4417"/>
                  <a:pt x="5728" y="4411"/>
                </a:cubicBezTo>
                <a:cubicBezTo>
                  <a:pt x="5734" y="4405"/>
                  <a:pt x="5744" y="4404"/>
                  <a:pt x="5749" y="4398"/>
                </a:cubicBezTo>
                <a:cubicBezTo>
                  <a:pt x="5754" y="4392"/>
                  <a:pt x="5751" y="4383"/>
                  <a:pt x="5755" y="4377"/>
                </a:cubicBezTo>
                <a:cubicBezTo>
                  <a:pt x="5771" y="4353"/>
                  <a:pt x="5786" y="4345"/>
                  <a:pt x="5796" y="4316"/>
                </a:cubicBezTo>
                <a:cubicBezTo>
                  <a:pt x="5786" y="4216"/>
                  <a:pt x="5780" y="4223"/>
                  <a:pt x="5735" y="4133"/>
                </a:cubicBezTo>
                <a:cubicBezTo>
                  <a:pt x="5723" y="4110"/>
                  <a:pt x="5694" y="4066"/>
                  <a:pt x="5694" y="4066"/>
                </a:cubicBezTo>
                <a:cubicBezTo>
                  <a:pt x="5672" y="3991"/>
                  <a:pt x="5689" y="3923"/>
                  <a:pt x="5708" y="3849"/>
                </a:cubicBezTo>
                <a:cubicBezTo>
                  <a:pt x="5711" y="3839"/>
                  <a:pt x="5718" y="3831"/>
                  <a:pt x="5722" y="3822"/>
                </a:cubicBezTo>
                <a:cubicBezTo>
                  <a:pt x="5725" y="3815"/>
                  <a:pt x="5726" y="3808"/>
                  <a:pt x="5728" y="3801"/>
                </a:cubicBezTo>
                <a:cubicBezTo>
                  <a:pt x="5738" y="3756"/>
                  <a:pt x="5747" y="3711"/>
                  <a:pt x="5755" y="3666"/>
                </a:cubicBezTo>
                <a:cubicBezTo>
                  <a:pt x="5744" y="3559"/>
                  <a:pt x="5736" y="3416"/>
                  <a:pt x="5654" y="3334"/>
                </a:cubicBezTo>
                <a:cubicBezTo>
                  <a:pt x="5645" y="3308"/>
                  <a:pt x="5628" y="3295"/>
                  <a:pt x="5613" y="3273"/>
                </a:cubicBezTo>
                <a:cubicBezTo>
                  <a:pt x="5602" y="3239"/>
                  <a:pt x="5597" y="3212"/>
                  <a:pt x="5566" y="3191"/>
                </a:cubicBezTo>
                <a:cubicBezTo>
                  <a:pt x="5540" y="3141"/>
                  <a:pt x="5532" y="3083"/>
                  <a:pt x="5518" y="3029"/>
                </a:cubicBezTo>
                <a:cubicBezTo>
                  <a:pt x="5514" y="2975"/>
                  <a:pt x="5512" y="2920"/>
                  <a:pt x="5505" y="2866"/>
                </a:cubicBezTo>
                <a:cubicBezTo>
                  <a:pt x="5490" y="2740"/>
                  <a:pt x="5444" y="2618"/>
                  <a:pt x="5423" y="2493"/>
                </a:cubicBezTo>
                <a:cubicBezTo>
                  <a:pt x="5418" y="2281"/>
                  <a:pt x="5435" y="2218"/>
                  <a:pt x="5342" y="2060"/>
                </a:cubicBezTo>
                <a:cubicBezTo>
                  <a:pt x="5326" y="1995"/>
                  <a:pt x="5301" y="1928"/>
                  <a:pt x="5268" y="1870"/>
                </a:cubicBezTo>
                <a:cubicBezTo>
                  <a:pt x="5254" y="1791"/>
                  <a:pt x="5275" y="1866"/>
                  <a:pt x="5220" y="1782"/>
                </a:cubicBezTo>
                <a:cubicBezTo>
                  <a:pt x="5194" y="1743"/>
                  <a:pt x="5194" y="1683"/>
                  <a:pt x="5173" y="1640"/>
                </a:cubicBezTo>
                <a:cubicBezTo>
                  <a:pt x="5158" y="1566"/>
                  <a:pt x="5179" y="1644"/>
                  <a:pt x="5146" y="1579"/>
                </a:cubicBezTo>
                <a:cubicBezTo>
                  <a:pt x="5117" y="1522"/>
                  <a:pt x="5100" y="1459"/>
                  <a:pt x="5071" y="1402"/>
                </a:cubicBezTo>
                <a:cubicBezTo>
                  <a:pt x="5060" y="1349"/>
                  <a:pt x="5024" y="1297"/>
                  <a:pt x="5003" y="1247"/>
                </a:cubicBezTo>
                <a:cubicBezTo>
                  <a:pt x="4961" y="1149"/>
                  <a:pt x="4931" y="1032"/>
                  <a:pt x="4854" y="955"/>
                </a:cubicBezTo>
                <a:cubicBezTo>
                  <a:pt x="4844" y="917"/>
                  <a:pt x="4836" y="898"/>
                  <a:pt x="4800" y="881"/>
                </a:cubicBezTo>
                <a:cubicBezTo>
                  <a:pt x="4789" y="816"/>
                  <a:pt x="4769" y="815"/>
                  <a:pt x="4732" y="765"/>
                </a:cubicBezTo>
                <a:cubicBezTo>
                  <a:pt x="4700" y="722"/>
                  <a:pt x="4674" y="670"/>
                  <a:pt x="4631" y="637"/>
                </a:cubicBezTo>
                <a:cubicBezTo>
                  <a:pt x="4541" y="568"/>
                  <a:pt x="4442" y="520"/>
                  <a:pt x="4332" y="488"/>
                </a:cubicBezTo>
                <a:cubicBezTo>
                  <a:pt x="4269" y="448"/>
                  <a:pt x="4195" y="426"/>
                  <a:pt x="4129" y="393"/>
                </a:cubicBezTo>
                <a:cubicBezTo>
                  <a:pt x="4105" y="381"/>
                  <a:pt x="4103" y="391"/>
                  <a:pt x="4075" y="372"/>
                </a:cubicBezTo>
                <a:cubicBezTo>
                  <a:pt x="3991" y="316"/>
                  <a:pt x="3951" y="256"/>
                  <a:pt x="3851" y="230"/>
                </a:cubicBezTo>
                <a:cubicBezTo>
                  <a:pt x="3828" y="195"/>
                  <a:pt x="3802" y="192"/>
                  <a:pt x="3763" y="183"/>
                </a:cubicBezTo>
                <a:cubicBezTo>
                  <a:pt x="3629" y="100"/>
                  <a:pt x="3463" y="101"/>
                  <a:pt x="3316" y="54"/>
                </a:cubicBezTo>
                <a:cubicBezTo>
                  <a:pt x="3269" y="21"/>
                  <a:pt x="3214" y="17"/>
                  <a:pt x="3160" y="0"/>
                </a:cubicBezTo>
                <a:cubicBezTo>
                  <a:pt x="2918" y="6"/>
                  <a:pt x="2677" y="18"/>
                  <a:pt x="2435" y="27"/>
                </a:cubicBezTo>
                <a:cubicBezTo>
                  <a:pt x="2211" y="73"/>
                  <a:pt x="1965" y="58"/>
                  <a:pt x="1744" y="61"/>
                </a:cubicBezTo>
                <a:cubicBezTo>
                  <a:pt x="1652" y="81"/>
                  <a:pt x="1587" y="90"/>
                  <a:pt x="1486" y="95"/>
                </a:cubicBezTo>
                <a:cubicBezTo>
                  <a:pt x="1447" y="107"/>
                  <a:pt x="1446" y="125"/>
                  <a:pt x="1425" y="156"/>
                </a:cubicBezTo>
                <a:cubicBezTo>
                  <a:pt x="1419" y="176"/>
                  <a:pt x="1419" y="197"/>
                  <a:pt x="1412" y="217"/>
                </a:cubicBezTo>
                <a:cubicBezTo>
                  <a:pt x="1404" y="239"/>
                  <a:pt x="1377" y="258"/>
                  <a:pt x="1364" y="278"/>
                </a:cubicBezTo>
                <a:cubicBezTo>
                  <a:pt x="1357" y="301"/>
                  <a:pt x="1363" y="293"/>
                  <a:pt x="1351" y="305"/>
                </a:cubicBezTo>
                <a:close/>
              </a:path>
            </a:pathLst>
          </a:custGeom>
          <a:solidFill>
            <a:srgbClr val="b2b8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258920" y="-171360"/>
            <a:ext cx="6635880" cy="7677000"/>
            <a:chOff x="1258920" y="-171360"/>
            <a:chExt cx="6635880" cy="7677000"/>
          </a:xfrm>
        </p:grpSpPr>
        <p:grpSp>
          <p:nvGrpSpPr>
            <p:cNvPr id="155" name=""/>
            <p:cNvGrpSpPr/>
            <p:nvPr/>
          </p:nvGrpSpPr>
          <p:grpSpPr>
            <a:xfrm>
              <a:off x="1258920" y="-171360"/>
              <a:ext cx="6635880" cy="7677000"/>
              <a:chOff x="1258920" y="-171360"/>
              <a:chExt cx="6635880" cy="767700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1258920" y="-171360"/>
                <a:ext cx="6635880" cy="7677000"/>
                <a:chOff x="1258920" y="-171360"/>
                <a:chExt cx="6635880" cy="7677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1258920" y="-171360"/>
                  <a:ext cx="6635880" cy="7677000"/>
                </a:xfrm>
                <a:custGeom>
                  <a:avLst/>
                  <a:gdLst/>
                  <a:ahLst/>
                  <a:rect l="l" t="t" r="r" b="b"/>
                  <a:pathLst>
                    <a:path w="10372" h="13055">
                      <a:moveTo>
                        <a:pt x="412" y="755"/>
                      </a:moveTo>
                      <a:cubicBezTo>
                        <a:pt x="545" y="733"/>
                        <a:pt x="663" y="687"/>
                        <a:pt x="792" y="655"/>
                      </a:cubicBezTo>
                      <a:cubicBezTo>
                        <a:pt x="969" y="611"/>
                        <a:pt x="1112" y="595"/>
                        <a:pt x="1292" y="535"/>
                      </a:cubicBezTo>
                      <a:cubicBezTo>
                        <a:pt x="2171" y="242"/>
                        <a:pt x="3145" y="522"/>
                        <a:pt x="4072" y="515"/>
                      </a:cubicBezTo>
                      <a:cubicBezTo>
                        <a:pt x="4316" y="445"/>
                        <a:pt x="4561" y="371"/>
                        <a:pt x="4812" y="335"/>
                      </a:cubicBezTo>
                      <a:cubicBezTo>
                        <a:pt x="4997" y="243"/>
                        <a:pt x="4914" y="269"/>
                        <a:pt x="5052" y="235"/>
                      </a:cubicBezTo>
                      <a:cubicBezTo>
                        <a:pt x="5079" y="215"/>
                        <a:pt x="5102" y="190"/>
                        <a:pt x="5132" y="175"/>
                      </a:cubicBezTo>
                      <a:cubicBezTo>
                        <a:pt x="5157" y="163"/>
                        <a:pt x="5188" y="169"/>
                        <a:pt x="5212" y="155"/>
                      </a:cubicBezTo>
                      <a:cubicBezTo>
                        <a:pt x="5237" y="141"/>
                        <a:pt x="5247" y="109"/>
                        <a:pt x="5272" y="95"/>
                      </a:cubicBezTo>
                      <a:cubicBezTo>
                        <a:pt x="5309" y="75"/>
                        <a:pt x="5392" y="55"/>
                        <a:pt x="5392" y="55"/>
                      </a:cubicBezTo>
                      <a:cubicBezTo>
                        <a:pt x="5409" y="56"/>
                        <a:pt x="6032" y="0"/>
                        <a:pt x="6212" y="135"/>
                      </a:cubicBezTo>
                      <a:cubicBezTo>
                        <a:pt x="6320" y="216"/>
                        <a:pt x="6399" y="366"/>
                        <a:pt x="6472" y="475"/>
                      </a:cubicBezTo>
                      <a:cubicBezTo>
                        <a:pt x="6530" y="562"/>
                        <a:pt x="6588" y="653"/>
                        <a:pt x="6652" y="735"/>
                      </a:cubicBezTo>
                      <a:cubicBezTo>
                        <a:pt x="6669" y="757"/>
                        <a:pt x="6696" y="772"/>
                        <a:pt x="6712" y="795"/>
                      </a:cubicBezTo>
                      <a:cubicBezTo>
                        <a:pt x="6729" y="819"/>
                        <a:pt x="6736" y="850"/>
                        <a:pt x="6752" y="875"/>
                      </a:cubicBezTo>
                      <a:cubicBezTo>
                        <a:pt x="6811" y="969"/>
                        <a:pt x="6908" y="1083"/>
                        <a:pt x="7012" y="1135"/>
                      </a:cubicBezTo>
                      <a:cubicBezTo>
                        <a:pt x="7287" y="1273"/>
                        <a:pt x="7637" y="1275"/>
                        <a:pt x="7932" y="1295"/>
                      </a:cubicBezTo>
                      <a:cubicBezTo>
                        <a:pt x="8151" y="1368"/>
                        <a:pt x="7819" y="1252"/>
                        <a:pt x="8052" y="1355"/>
                      </a:cubicBezTo>
                      <a:cubicBezTo>
                        <a:pt x="8091" y="1372"/>
                        <a:pt x="8135" y="1375"/>
                        <a:pt x="8172" y="1395"/>
                      </a:cubicBezTo>
                      <a:cubicBezTo>
                        <a:pt x="8236" y="1429"/>
                        <a:pt x="8291" y="1476"/>
                        <a:pt x="8352" y="1515"/>
                      </a:cubicBezTo>
                      <a:cubicBezTo>
                        <a:pt x="8385" y="1536"/>
                        <a:pt x="8422" y="1551"/>
                        <a:pt x="8452" y="1575"/>
                      </a:cubicBezTo>
                      <a:cubicBezTo>
                        <a:pt x="8485" y="1602"/>
                        <a:pt x="8515" y="1634"/>
                        <a:pt x="8552" y="1655"/>
                      </a:cubicBezTo>
                      <a:cubicBezTo>
                        <a:pt x="8576" y="1668"/>
                        <a:pt x="8606" y="1665"/>
                        <a:pt x="8632" y="1675"/>
                      </a:cubicBezTo>
                      <a:cubicBezTo>
                        <a:pt x="8660" y="1685"/>
                        <a:pt x="8685" y="1702"/>
                        <a:pt x="8712" y="1715"/>
                      </a:cubicBezTo>
                      <a:cubicBezTo>
                        <a:pt x="8860" y="1937"/>
                        <a:pt x="8609" y="1575"/>
                        <a:pt x="8832" y="1835"/>
                      </a:cubicBezTo>
                      <a:cubicBezTo>
                        <a:pt x="8851" y="1858"/>
                        <a:pt x="8855" y="1890"/>
                        <a:pt x="8872" y="1915"/>
                      </a:cubicBezTo>
                      <a:cubicBezTo>
                        <a:pt x="8915" y="1977"/>
                        <a:pt x="8970" y="2032"/>
                        <a:pt x="9012" y="2095"/>
                      </a:cubicBezTo>
                      <a:cubicBezTo>
                        <a:pt x="9066" y="2176"/>
                        <a:pt x="9114" y="2257"/>
                        <a:pt x="9172" y="2335"/>
                      </a:cubicBezTo>
                      <a:cubicBezTo>
                        <a:pt x="9205" y="2502"/>
                        <a:pt x="9225" y="2670"/>
                        <a:pt x="9272" y="2835"/>
                      </a:cubicBezTo>
                      <a:cubicBezTo>
                        <a:pt x="9274" y="2841"/>
                        <a:pt x="9301" y="2961"/>
                        <a:pt x="9312" y="2975"/>
                      </a:cubicBezTo>
                      <a:cubicBezTo>
                        <a:pt x="9347" y="3020"/>
                        <a:pt x="9398" y="3050"/>
                        <a:pt x="9432" y="3095"/>
                      </a:cubicBezTo>
                      <a:cubicBezTo>
                        <a:pt x="9495" y="3179"/>
                        <a:pt x="9549" y="3271"/>
                        <a:pt x="9612" y="3355"/>
                      </a:cubicBezTo>
                      <a:cubicBezTo>
                        <a:pt x="9629" y="3378"/>
                        <a:pt x="9655" y="3393"/>
                        <a:pt x="9672" y="3415"/>
                      </a:cubicBezTo>
                      <a:cubicBezTo>
                        <a:pt x="9733" y="3494"/>
                        <a:pt x="9795" y="3573"/>
                        <a:pt x="9852" y="3655"/>
                      </a:cubicBezTo>
                      <a:cubicBezTo>
                        <a:pt x="9869" y="3679"/>
                        <a:pt x="9876" y="3710"/>
                        <a:pt x="9892" y="3735"/>
                      </a:cubicBezTo>
                      <a:cubicBezTo>
                        <a:pt x="9935" y="3803"/>
                        <a:pt x="9957" y="3820"/>
                        <a:pt x="10012" y="3875"/>
                      </a:cubicBezTo>
                      <a:cubicBezTo>
                        <a:pt x="10041" y="4021"/>
                        <a:pt x="10097" y="4157"/>
                        <a:pt x="10152" y="4295"/>
                      </a:cubicBezTo>
                      <a:cubicBezTo>
                        <a:pt x="10176" y="4438"/>
                        <a:pt x="10208" y="4570"/>
                        <a:pt x="10232" y="4715"/>
                      </a:cubicBezTo>
                      <a:cubicBezTo>
                        <a:pt x="10252" y="4834"/>
                        <a:pt x="10252" y="4956"/>
                        <a:pt x="10272" y="5075"/>
                      </a:cubicBezTo>
                      <a:cubicBezTo>
                        <a:pt x="10283" y="5142"/>
                        <a:pt x="10291" y="5211"/>
                        <a:pt x="10312" y="5275"/>
                      </a:cubicBezTo>
                      <a:cubicBezTo>
                        <a:pt x="10325" y="5315"/>
                        <a:pt x="10339" y="5355"/>
                        <a:pt x="10352" y="5395"/>
                      </a:cubicBezTo>
                      <a:cubicBezTo>
                        <a:pt x="10359" y="5415"/>
                        <a:pt x="10372" y="5455"/>
                        <a:pt x="10372" y="5455"/>
                      </a:cubicBezTo>
                      <a:cubicBezTo>
                        <a:pt x="10359" y="5608"/>
                        <a:pt x="10355" y="5763"/>
                        <a:pt x="10332" y="5915"/>
                      </a:cubicBezTo>
                      <a:cubicBezTo>
                        <a:pt x="10328" y="5939"/>
                        <a:pt x="10303" y="5954"/>
                        <a:pt x="10292" y="5975"/>
                      </a:cubicBezTo>
                      <a:cubicBezTo>
                        <a:pt x="10283" y="5994"/>
                        <a:pt x="10285" y="6019"/>
                        <a:pt x="10272" y="6035"/>
                      </a:cubicBezTo>
                      <a:cubicBezTo>
                        <a:pt x="10257" y="6054"/>
                        <a:pt x="10229" y="6058"/>
                        <a:pt x="10212" y="6075"/>
                      </a:cubicBezTo>
                      <a:cubicBezTo>
                        <a:pt x="10188" y="6099"/>
                        <a:pt x="10172" y="6128"/>
                        <a:pt x="10152" y="6155"/>
                      </a:cubicBezTo>
                      <a:cubicBezTo>
                        <a:pt x="10122" y="6244"/>
                        <a:pt x="10088" y="6264"/>
                        <a:pt x="10012" y="6315"/>
                      </a:cubicBezTo>
                      <a:cubicBezTo>
                        <a:pt x="9978" y="6417"/>
                        <a:pt x="9928" y="6513"/>
                        <a:pt x="9892" y="6615"/>
                      </a:cubicBezTo>
                      <a:cubicBezTo>
                        <a:pt x="9871" y="6675"/>
                        <a:pt x="9832" y="6795"/>
                        <a:pt x="9832" y="6795"/>
                      </a:cubicBezTo>
                      <a:cubicBezTo>
                        <a:pt x="9788" y="7103"/>
                        <a:pt x="9805" y="6927"/>
                        <a:pt x="9832" y="7475"/>
                      </a:cubicBezTo>
                      <a:cubicBezTo>
                        <a:pt x="9842" y="7675"/>
                        <a:pt x="9848" y="7943"/>
                        <a:pt x="9912" y="8135"/>
                      </a:cubicBezTo>
                      <a:cubicBezTo>
                        <a:pt x="9899" y="8262"/>
                        <a:pt x="9891" y="8389"/>
                        <a:pt x="9872" y="8515"/>
                      </a:cubicBezTo>
                      <a:cubicBezTo>
                        <a:pt x="9864" y="8569"/>
                        <a:pt x="9838" y="8620"/>
                        <a:pt x="9832" y="8675"/>
                      </a:cubicBezTo>
                      <a:cubicBezTo>
                        <a:pt x="9772" y="9201"/>
                        <a:pt x="9825" y="9095"/>
                        <a:pt x="9712" y="9435"/>
                      </a:cubicBezTo>
                      <a:cubicBezTo>
                        <a:pt x="9705" y="9488"/>
                        <a:pt x="9694" y="9541"/>
                        <a:pt x="9692" y="9595"/>
                      </a:cubicBezTo>
                      <a:cubicBezTo>
                        <a:pt x="9681" y="9882"/>
                        <a:pt x="9697" y="10169"/>
                        <a:pt x="9672" y="10455"/>
                      </a:cubicBezTo>
                      <a:cubicBezTo>
                        <a:pt x="9666" y="10519"/>
                        <a:pt x="9513" y="10558"/>
                        <a:pt x="9472" y="10595"/>
                      </a:cubicBezTo>
                      <a:cubicBezTo>
                        <a:pt x="9310" y="10739"/>
                        <a:pt x="9416" y="10694"/>
                        <a:pt x="9292" y="10735"/>
                      </a:cubicBezTo>
                      <a:cubicBezTo>
                        <a:pt x="9265" y="10762"/>
                        <a:pt x="9242" y="10792"/>
                        <a:pt x="9212" y="10815"/>
                      </a:cubicBezTo>
                      <a:cubicBezTo>
                        <a:pt x="9016" y="10962"/>
                        <a:pt x="9233" y="10761"/>
                        <a:pt x="9072" y="10895"/>
                      </a:cubicBezTo>
                      <a:cubicBezTo>
                        <a:pt x="8974" y="10977"/>
                        <a:pt x="9052" y="10940"/>
                        <a:pt x="8932" y="11015"/>
                      </a:cubicBezTo>
                      <a:cubicBezTo>
                        <a:pt x="8907" y="11031"/>
                        <a:pt x="8876" y="11037"/>
                        <a:pt x="8852" y="11055"/>
                      </a:cubicBezTo>
                      <a:cubicBezTo>
                        <a:pt x="8785" y="11105"/>
                        <a:pt x="8753" y="11205"/>
                        <a:pt x="8672" y="11235"/>
                      </a:cubicBezTo>
                      <a:cubicBezTo>
                        <a:pt x="8576" y="11271"/>
                        <a:pt x="8449" y="11285"/>
                        <a:pt x="8352" y="11315"/>
                      </a:cubicBezTo>
                      <a:cubicBezTo>
                        <a:pt x="8249" y="11347"/>
                        <a:pt x="8170" y="11413"/>
                        <a:pt x="8072" y="11455"/>
                      </a:cubicBezTo>
                      <a:cubicBezTo>
                        <a:pt x="7992" y="11489"/>
                        <a:pt x="7885" y="11487"/>
                        <a:pt x="7812" y="11535"/>
                      </a:cubicBezTo>
                      <a:cubicBezTo>
                        <a:pt x="7734" y="11587"/>
                        <a:pt x="7673" y="11580"/>
                        <a:pt x="7592" y="11615"/>
                      </a:cubicBezTo>
                      <a:cubicBezTo>
                        <a:pt x="7565" y="11627"/>
                        <a:pt x="7536" y="11638"/>
                        <a:pt x="7512" y="11655"/>
                      </a:cubicBezTo>
                      <a:cubicBezTo>
                        <a:pt x="7489" y="11671"/>
                        <a:pt x="7477" y="11702"/>
                        <a:pt x="7452" y="11715"/>
                      </a:cubicBezTo>
                      <a:cubicBezTo>
                        <a:pt x="7383" y="11749"/>
                        <a:pt x="7274" y="11775"/>
                        <a:pt x="7192" y="11795"/>
                      </a:cubicBezTo>
                      <a:cubicBezTo>
                        <a:pt x="7098" y="11858"/>
                        <a:pt x="6992" y="11865"/>
                        <a:pt x="6892" y="11915"/>
                      </a:cubicBezTo>
                      <a:cubicBezTo>
                        <a:pt x="6789" y="11967"/>
                        <a:pt x="6680" y="11979"/>
                        <a:pt x="6572" y="12015"/>
                      </a:cubicBezTo>
                      <a:cubicBezTo>
                        <a:pt x="6484" y="12044"/>
                        <a:pt x="6401" y="12073"/>
                        <a:pt x="6312" y="12095"/>
                      </a:cubicBezTo>
                      <a:cubicBezTo>
                        <a:pt x="6292" y="12115"/>
                        <a:pt x="6275" y="12139"/>
                        <a:pt x="6252" y="12155"/>
                      </a:cubicBezTo>
                      <a:cubicBezTo>
                        <a:pt x="6115" y="12253"/>
                        <a:pt x="6225" y="12141"/>
                        <a:pt x="6112" y="12235"/>
                      </a:cubicBezTo>
                      <a:cubicBezTo>
                        <a:pt x="6090" y="12253"/>
                        <a:pt x="6074" y="12277"/>
                        <a:pt x="6052" y="12295"/>
                      </a:cubicBezTo>
                      <a:cubicBezTo>
                        <a:pt x="6034" y="12310"/>
                        <a:pt x="6014" y="12325"/>
                        <a:pt x="5992" y="12335"/>
                      </a:cubicBezTo>
                      <a:cubicBezTo>
                        <a:pt x="5953" y="12352"/>
                        <a:pt x="5872" y="12375"/>
                        <a:pt x="5872" y="12375"/>
                      </a:cubicBezTo>
                      <a:cubicBezTo>
                        <a:pt x="5710" y="12591"/>
                        <a:pt x="5915" y="12353"/>
                        <a:pt x="5732" y="12475"/>
                      </a:cubicBezTo>
                      <a:cubicBezTo>
                        <a:pt x="5712" y="12488"/>
                        <a:pt x="5710" y="12519"/>
                        <a:pt x="5692" y="12535"/>
                      </a:cubicBezTo>
                      <a:cubicBezTo>
                        <a:pt x="5607" y="12609"/>
                        <a:pt x="5594" y="12608"/>
                        <a:pt x="5512" y="12635"/>
                      </a:cubicBezTo>
                      <a:cubicBezTo>
                        <a:pt x="5116" y="12615"/>
                        <a:pt x="4795" y="12626"/>
                        <a:pt x="4432" y="12535"/>
                      </a:cubicBezTo>
                      <a:cubicBezTo>
                        <a:pt x="4070" y="12545"/>
                        <a:pt x="3834" y="12474"/>
                        <a:pt x="3552" y="12615"/>
                      </a:cubicBezTo>
                      <a:cubicBezTo>
                        <a:pt x="3480" y="12723"/>
                        <a:pt x="3328" y="12739"/>
                        <a:pt x="3232" y="12835"/>
                      </a:cubicBezTo>
                      <a:cubicBezTo>
                        <a:pt x="3215" y="12852"/>
                        <a:pt x="3216" y="12893"/>
                        <a:pt x="3192" y="12895"/>
                      </a:cubicBezTo>
                      <a:cubicBezTo>
                        <a:pt x="2920" y="12920"/>
                        <a:pt x="2645" y="12908"/>
                        <a:pt x="2372" y="12915"/>
                      </a:cubicBezTo>
                      <a:cubicBezTo>
                        <a:pt x="2156" y="12951"/>
                        <a:pt x="1949" y="13024"/>
                        <a:pt x="1732" y="13055"/>
                      </a:cubicBezTo>
                      <a:cubicBezTo>
                        <a:pt x="1639" y="13042"/>
                        <a:pt x="1543" y="13041"/>
                        <a:pt x="1452" y="13015"/>
                      </a:cubicBezTo>
                      <a:cubicBezTo>
                        <a:pt x="1360" y="12988"/>
                        <a:pt x="1283" y="12925"/>
                        <a:pt x="1192" y="12895"/>
                      </a:cubicBezTo>
                      <a:cubicBezTo>
                        <a:pt x="1145" y="12848"/>
                        <a:pt x="1099" y="12802"/>
                        <a:pt x="1052" y="12755"/>
                      </a:cubicBezTo>
                      <a:cubicBezTo>
                        <a:pt x="1025" y="12728"/>
                        <a:pt x="972" y="12675"/>
                        <a:pt x="972" y="12675"/>
                      </a:cubicBezTo>
                      <a:cubicBezTo>
                        <a:pt x="941" y="12581"/>
                        <a:pt x="903" y="12489"/>
                        <a:pt x="872" y="12395"/>
                      </a:cubicBezTo>
                      <a:cubicBezTo>
                        <a:pt x="859" y="12355"/>
                        <a:pt x="832" y="12275"/>
                        <a:pt x="832" y="12275"/>
                      </a:cubicBezTo>
                      <a:cubicBezTo>
                        <a:pt x="840" y="12125"/>
                        <a:pt x="814" y="11842"/>
                        <a:pt x="912" y="11695"/>
                      </a:cubicBezTo>
                      <a:cubicBezTo>
                        <a:pt x="919" y="11655"/>
                        <a:pt x="919" y="11613"/>
                        <a:pt x="932" y="11575"/>
                      </a:cubicBezTo>
                      <a:cubicBezTo>
                        <a:pt x="940" y="11552"/>
                        <a:pt x="961" y="11536"/>
                        <a:pt x="972" y="11515"/>
                      </a:cubicBezTo>
                      <a:cubicBezTo>
                        <a:pt x="988" y="11483"/>
                        <a:pt x="1001" y="11449"/>
                        <a:pt x="1012" y="11415"/>
                      </a:cubicBezTo>
                      <a:cubicBezTo>
                        <a:pt x="1021" y="11389"/>
                        <a:pt x="1019" y="11359"/>
                        <a:pt x="1032" y="11335"/>
                      </a:cubicBezTo>
                      <a:cubicBezTo>
                        <a:pt x="1080" y="11249"/>
                        <a:pt x="1173" y="11154"/>
                        <a:pt x="1232" y="11075"/>
                      </a:cubicBezTo>
                      <a:cubicBezTo>
                        <a:pt x="1320" y="10957"/>
                        <a:pt x="1334" y="10884"/>
                        <a:pt x="1452" y="10795"/>
                      </a:cubicBezTo>
                      <a:cubicBezTo>
                        <a:pt x="1536" y="10598"/>
                        <a:pt x="1649" y="10428"/>
                        <a:pt x="1692" y="10215"/>
                      </a:cubicBezTo>
                      <a:cubicBezTo>
                        <a:pt x="1679" y="10095"/>
                        <a:pt x="1673" y="9974"/>
                        <a:pt x="1652" y="9855"/>
                      </a:cubicBezTo>
                      <a:cubicBezTo>
                        <a:pt x="1646" y="9820"/>
                        <a:pt x="1624" y="9789"/>
                        <a:pt x="1612" y="9755"/>
                      </a:cubicBezTo>
                      <a:cubicBezTo>
                        <a:pt x="1511" y="9472"/>
                        <a:pt x="1385" y="9202"/>
                        <a:pt x="1252" y="8935"/>
                      </a:cubicBezTo>
                      <a:cubicBezTo>
                        <a:pt x="1219" y="8868"/>
                        <a:pt x="1182" y="8803"/>
                        <a:pt x="1152" y="8735"/>
                      </a:cubicBezTo>
                      <a:cubicBezTo>
                        <a:pt x="1082" y="8577"/>
                        <a:pt x="1160" y="8647"/>
                        <a:pt x="1052" y="8575"/>
                      </a:cubicBezTo>
                      <a:cubicBezTo>
                        <a:pt x="1023" y="8516"/>
                        <a:pt x="1004" y="8452"/>
                        <a:pt x="972" y="8395"/>
                      </a:cubicBezTo>
                      <a:cubicBezTo>
                        <a:pt x="905" y="8275"/>
                        <a:pt x="925" y="8348"/>
                        <a:pt x="832" y="8255"/>
                      </a:cubicBezTo>
                      <a:cubicBezTo>
                        <a:pt x="795" y="8218"/>
                        <a:pt x="769" y="8172"/>
                        <a:pt x="732" y="8135"/>
                      </a:cubicBezTo>
                      <a:cubicBezTo>
                        <a:pt x="704" y="8050"/>
                        <a:pt x="626" y="7964"/>
                        <a:pt x="552" y="7915"/>
                      </a:cubicBezTo>
                      <a:cubicBezTo>
                        <a:pt x="479" y="7805"/>
                        <a:pt x="552" y="7898"/>
                        <a:pt x="452" y="7815"/>
                      </a:cubicBezTo>
                      <a:cubicBezTo>
                        <a:pt x="255" y="7651"/>
                        <a:pt x="509" y="7852"/>
                        <a:pt x="352" y="7695"/>
                      </a:cubicBezTo>
                      <a:cubicBezTo>
                        <a:pt x="327" y="7670"/>
                        <a:pt x="246" y="7618"/>
                        <a:pt x="212" y="7595"/>
                      </a:cubicBezTo>
                      <a:cubicBezTo>
                        <a:pt x="174" y="7480"/>
                        <a:pt x="91" y="7392"/>
                        <a:pt x="52" y="7275"/>
                      </a:cubicBezTo>
                      <a:cubicBezTo>
                        <a:pt x="65" y="7168"/>
                        <a:pt x="104" y="7062"/>
                        <a:pt x="92" y="6955"/>
                      </a:cubicBezTo>
                      <a:cubicBezTo>
                        <a:pt x="89" y="6925"/>
                        <a:pt x="15" y="6945"/>
                        <a:pt x="12" y="6915"/>
                      </a:cubicBezTo>
                      <a:cubicBezTo>
                        <a:pt x="0" y="6809"/>
                        <a:pt x="175" y="6645"/>
                        <a:pt x="232" y="6575"/>
                      </a:cubicBezTo>
                      <a:cubicBezTo>
                        <a:pt x="262" y="6538"/>
                        <a:pt x="280" y="6491"/>
                        <a:pt x="312" y="6455"/>
                      </a:cubicBezTo>
                      <a:cubicBezTo>
                        <a:pt x="359" y="6401"/>
                        <a:pt x="432" y="6368"/>
                        <a:pt x="492" y="6335"/>
                      </a:cubicBezTo>
                      <a:cubicBezTo>
                        <a:pt x="665" y="6239"/>
                        <a:pt x="800" y="6099"/>
                        <a:pt x="992" y="6035"/>
                      </a:cubicBezTo>
                      <a:cubicBezTo>
                        <a:pt x="1076" y="6007"/>
                        <a:pt x="1166" y="5999"/>
                        <a:pt x="1252" y="5975"/>
                      </a:cubicBezTo>
                      <a:cubicBezTo>
                        <a:pt x="1402" y="5862"/>
                        <a:pt x="1576" y="5814"/>
                        <a:pt x="1752" y="5755"/>
                      </a:cubicBezTo>
                      <a:cubicBezTo>
                        <a:pt x="1837" y="5727"/>
                        <a:pt x="1905" y="5657"/>
                        <a:pt x="1992" y="5635"/>
                      </a:cubicBezTo>
                      <a:cubicBezTo>
                        <a:pt x="2019" y="5628"/>
                        <a:pt x="2045" y="5622"/>
                        <a:pt x="2072" y="5615"/>
                      </a:cubicBezTo>
                      <a:cubicBezTo>
                        <a:pt x="2164" y="5554"/>
                        <a:pt x="2268" y="5530"/>
                        <a:pt x="2372" y="5495"/>
                      </a:cubicBezTo>
                      <a:cubicBezTo>
                        <a:pt x="2663" y="5398"/>
                        <a:pt x="2374" y="5474"/>
                        <a:pt x="2552" y="5395"/>
                      </a:cubicBezTo>
                      <a:cubicBezTo>
                        <a:pt x="2635" y="5358"/>
                        <a:pt x="2686" y="5352"/>
                        <a:pt x="2772" y="5335"/>
                      </a:cubicBezTo>
                      <a:cubicBezTo>
                        <a:pt x="3033" y="5161"/>
                        <a:pt x="2765" y="5317"/>
                        <a:pt x="2992" y="5235"/>
                      </a:cubicBezTo>
                      <a:cubicBezTo>
                        <a:pt x="3034" y="5220"/>
                        <a:pt x="3071" y="5192"/>
                        <a:pt x="3112" y="5175"/>
                      </a:cubicBezTo>
                      <a:cubicBezTo>
                        <a:pt x="3231" y="5125"/>
                        <a:pt x="3352" y="5083"/>
                        <a:pt x="3472" y="5035"/>
                      </a:cubicBezTo>
                      <a:cubicBezTo>
                        <a:pt x="3553" y="5003"/>
                        <a:pt x="3631" y="4956"/>
                        <a:pt x="3692" y="4895"/>
                      </a:cubicBezTo>
                      <a:cubicBezTo>
                        <a:pt x="3712" y="4875"/>
                        <a:pt x="3765" y="4860"/>
                        <a:pt x="3752" y="4835"/>
                      </a:cubicBezTo>
                      <a:cubicBezTo>
                        <a:pt x="3740" y="4810"/>
                        <a:pt x="3699" y="4848"/>
                        <a:pt x="3672" y="4855"/>
                      </a:cubicBezTo>
                      <a:cubicBezTo>
                        <a:pt x="3748" y="4805"/>
                        <a:pt x="3781" y="4730"/>
                        <a:pt x="3852" y="4675"/>
                      </a:cubicBezTo>
                      <a:cubicBezTo>
                        <a:pt x="3890" y="4645"/>
                        <a:pt x="3931" y="4620"/>
                        <a:pt x="3972" y="4595"/>
                      </a:cubicBezTo>
                      <a:cubicBezTo>
                        <a:pt x="3998" y="4580"/>
                        <a:pt x="4028" y="4573"/>
                        <a:pt x="4052" y="4555"/>
                      </a:cubicBezTo>
                      <a:cubicBezTo>
                        <a:pt x="4082" y="4532"/>
                        <a:pt x="4103" y="4500"/>
                        <a:pt x="4132" y="4475"/>
                      </a:cubicBezTo>
                      <a:cubicBezTo>
                        <a:pt x="4261" y="4364"/>
                        <a:pt x="4113" y="4534"/>
                        <a:pt x="4292" y="4355"/>
                      </a:cubicBezTo>
                      <a:cubicBezTo>
                        <a:pt x="4309" y="4338"/>
                        <a:pt x="4312" y="4309"/>
                        <a:pt x="4332" y="4295"/>
                      </a:cubicBezTo>
                      <a:cubicBezTo>
                        <a:pt x="4381" y="4260"/>
                        <a:pt x="4442" y="4248"/>
                        <a:pt x="4492" y="4215"/>
                      </a:cubicBezTo>
                      <a:cubicBezTo>
                        <a:pt x="4505" y="4182"/>
                        <a:pt x="4511" y="4144"/>
                        <a:pt x="4532" y="4115"/>
                      </a:cubicBezTo>
                      <a:cubicBezTo>
                        <a:pt x="4546" y="4095"/>
                        <a:pt x="4572" y="4089"/>
                        <a:pt x="4592" y="4075"/>
                      </a:cubicBezTo>
                      <a:cubicBezTo>
                        <a:pt x="4698" y="3999"/>
                        <a:pt x="4635" y="4027"/>
                        <a:pt x="4732" y="3995"/>
                      </a:cubicBezTo>
                      <a:cubicBezTo>
                        <a:pt x="4878" y="3752"/>
                        <a:pt x="4700" y="4030"/>
                        <a:pt x="4872" y="3815"/>
                      </a:cubicBezTo>
                      <a:cubicBezTo>
                        <a:pt x="4902" y="3777"/>
                        <a:pt x="4925" y="3735"/>
                        <a:pt x="4952" y="3695"/>
                      </a:cubicBezTo>
                      <a:cubicBezTo>
                        <a:pt x="4965" y="3675"/>
                        <a:pt x="4992" y="3635"/>
                        <a:pt x="4992" y="3635"/>
                      </a:cubicBezTo>
                      <a:cubicBezTo>
                        <a:pt x="4985" y="3582"/>
                        <a:pt x="4995" y="3524"/>
                        <a:pt x="4972" y="3475"/>
                      </a:cubicBezTo>
                      <a:cubicBezTo>
                        <a:pt x="4940" y="3406"/>
                        <a:pt x="4879" y="3355"/>
                        <a:pt x="4832" y="3295"/>
                      </a:cubicBezTo>
                      <a:cubicBezTo>
                        <a:pt x="4724" y="3156"/>
                        <a:pt x="4825" y="3228"/>
                        <a:pt x="4692" y="3095"/>
                      </a:cubicBezTo>
                      <a:cubicBezTo>
                        <a:pt x="4645" y="3048"/>
                        <a:pt x="4607" y="3054"/>
                        <a:pt x="4552" y="3015"/>
                      </a:cubicBezTo>
                      <a:cubicBezTo>
                        <a:pt x="4529" y="2999"/>
                        <a:pt x="4514" y="2973"/>
                        <a:pt x="4492" y="2955"/>
                      </a:cubicBezTo>
                      <a:cubicBezTo>
                        <a:pt x="4440" y="2913"/>
                        <a:pt x="4385" y="2875"/>
                        <a:pt x="4332" y="2835"/>
                      </a:cubicBezTo>
                      <a:cubicBezTo>
                        <a:pt x="4315" y="2823"/>
                        <a:pt x="4202" y="2799"/>
                        <a:pt x="4192" y="2795"/>
                      </a:cubicBezTo>
                      <a:cubicBezTo>
                        <a:pt x="4080" y="2750"/>
                        <a:pt x="4029" y="2718"/>
                        <a:pt x="3912" y="2695"/>
                      </a:cubicBezTo>
                      <a:cubicBezTo>
                        <a:pt x="3892" y="2675"/>
                        <a:pt x="3877" y="2649"/>
                        <a:pt x="3852" y="2635"/>
                      </a:cubicBezTo>
                      <a:cubicBezTo>
                        <a:pt x="3828" y="2621"/>
                        <a:pt x="3798" y="2623"/>
                        <a:pt x="3772" y="2615"/>
                      </a:cubicBezTo>
                      <a:cubicBezTo>
                        <a:pt x="3645" y="2579"/>
                        <a:pt x="3518" y="2557"/>
                        <a:pt x="3392" y="2515"/>
                      </a:cubicBezTo>
                      <a:cubicBezTo>
                        <a:pt x="2664" y="2526"/>
                        <a:pt x="2174" y="2527"/>
                        <a:pt x="1512" y="2615"/>
                      </a:cubicBezTo>
                      <a:cubicBezTo>
                        <a:pt x="1345" y="2602"/>
                        <a:pt x="1177" y="2602"/>
                        <a:pt x="1012" y="2575"/>
                      </a:cubicBezTo>
                      <a:cubicBezTo>
                        <a:pt x="974" y="2569"/>
                        <a:pt x="946" y="2534"/>
                        <a:pt x="912" y="2515"/>
                      </a:cubicBezTo>
                      <a:cubicBezTo>
                        <a:pt x="825" y="2467"/>
                        <a:pt x="734" y="2450"/>
                        <a:pt x="652" y="2395"/>
                      </a:cubicBezTo>
                      <a:cubicBezTo>
                        <a:pt x="579" y="2285"/>
                        <a:pt x="652" y="2378"/>
                        <a:pt x="552" y="2295"/>
                      </a:cubicBezTo>
                      <a:cubicBezTo>
                        <a:pt x="502" y="2253"/>
                        <a:pt x="435" y="2167"/>
                        <a:pt x="392" y="2115"/>
                      </a:cubicBezTo>
                      <a:cubicBezTo>
                        <a:pt x="377" y="2097"/>
                        <a:pt x="364" y="2076"/>
                        <a:pt x="352" y="2055"/>
                      </a:cubicBezTo>
                      <a:cubicBezTo>
                        <a:pt x="323" y="2003"/>
                        <a:pt x="272" y="1895"/>
                        <a:pt x="272" y="1895"/>
                      </a:cubicBezTo>
                      <a:cubicBezTo>
                        <a:pt x="279" y="1595"/>
                        <a:pt x="274" y="1295"/>
                        <a:pt x="292" y="995"/>
                      </a:cubicBezTo>
                      <a:cubicBezTo>
                        <a:pt x="294" y="953"/>
                        <a:pt x="292" y="888"/>
                        <a:pt x="332" y="875"/>
                      </a:cubicBezTo>
                      <a:cubicBezTo>
                        <a:pt x="438" y="840"/>
                        <a:pt x="374" y="867"/>
                        <a:pt x="512" y="775"/>
                      </a:cubicBezTo>
                      <a:cubicBezTo>
                        <a:pt x="540" y="756"/>
                        <a:pt x="445" y="762"/>
                        <a:pt x="412" y="75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888000" y="14400"/>
                  <a:ext cx="1415520" cy="1470240"/>
                </a:xfrm>
                <a:custGeom>
                  <a:avLst/>
                  <a:gdLst/>
                  <a:ahLst/>
                  <a:rect l="l" t="t" r="r" b="b"/>
                  <a:pathLst>
                    <a:path w="2116" h="2500">
                      <a:moveTo>
                        <a:pt x="2116" y="0"/>
                      </a:moveTo>
                      <a:cubicBezTo>
                        <a:pt x="2101" y="75"/>
                        <a:pt x="2071" y="145"/>
                        <a:pt x="2056" y="220"/>
                      </a:cubicBezTo>
                      <a:cubicBezTo>
                        <a:pt x="2055" y="223"/>
                        <a:pt x="2032" y="361"/>
                        <a:pt x="2016" y="380"/>
                      </a:cubicBezTo>
                      <a:cubicBezTo>
                        <a:pt x="1995" y="406"/>
                        <a:pt x="1961" y="418"/>
                        <a:pt x="1936" y="440"/>
                      </a:cubicBezTo>
                      <a:cubicBezTo>
                        <a:pt x="1894" y="478"/>
                        <a:pt x="1856" y="520"/>
                        <a:pt x="1816" y="560"/>
                      </a:cubicBezTo>
                      <a:cubicBezTo>
                        <a:pt x="1770" y="606"/>
                        <a:pt x="1687" y="657"/>
                        <a:pt x="1636" y="700"/>
                      </a:cubicBezTo>
                      <a:cubicBezTo>
                        <a:pt x="1536" y="783"/>
                        <a:pt x="1621" y="745"/>
                        <a:pt x="1516" y="780"/>
                      </a:cubicBezTo>
                      <a:cubicBezTo>
                        <a:pt x="1450" y="846"/>
                        <a:pt x="1320" y="958"/>
                        <a:pt x="1236" y="1000"/>
                      </a:cubicBezTo>
                      <a:cubicBezTo>
                        <a:pt x="1217" y="1009"/>
                        <a:pt x="1067" y="1038"/>
                        <a:pt x="1056" y="1040"/>
                      </a:cubicBezTo>
                      <a:cubicBezTo>
                        <a:pt x="973" y="1095"/>
                        <a:pt x="908" y="1149"/>
                        <a:pt x="816" y="1180"/>
                      </a:cubicBezTo>
                      <a:cubicBezTo>
                        <a:pt x="759" y="1265"/>
                        <a:pt x="694" y="1334"/>
                        <a:pt x="636" y="1420"/>
                      </a:cubicBezTo>
                      <a:cubicBezTo>
                        <a:pt x="623" y="1440"/>
                        <a:pt x="609" y="1460"/>
                        <a:pt x="596" y="1480"/>
                      </a:cubicBezTo>
                      <a:cubicBezTo>
                        <a:pt x="583" y="1500"/>
                        <a:pt x="556" y="1540"/>
                        <a:pt x="556" y="1540"/>
                      </a:cubicBezTo>
                      <a:cubicBezTo>
                        <a:pt x="549" y="1760"/>
                        <a:pt x="579" y="1984"/>
                        <a:pt x="536" y="2200"/>
                      </a:cubicBezTo>
                      <a:cubicBezTo>
                        <a:pt x="528" y="2241"/>
                        <a:pt x="458" y="2236"/>
                        <a:pt x="416" y="2240"/>
                      </a:cubicBezTo>
                      <a:cubicBezTo>
                        <a:pt x="336" y="2247"/>
                        <a:pt x="256" y="2253"/>
                        <a:pt x="176" y="2260"/>
                      </a:cubicBezTo>
                      <a:cubicBezTo>
                        <a:pt x="156" y="2280"/>
                        <a:pt x="140" y="2304"/>
                        <a:pt x="116" y="2320"/>
                      </a:cubicBezTo>
                      <a:cubicBezTo>
                        <a:pt x="0" y="2397"/>
                        <a:pt x="105" y="2266"/>
                        <a:pt x="16" y="2400"/>
                      </a:cubicBezTo>
                      <a:cubicBezTo>
                        <a:pt x="38" y="2486"/>
                        <a:pt x="36" y="2453"/>
                        <a:pt x="36" y="25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1480" y="2247120"/>
                  <a:ext cx="3337200" cy="1953360"/>
                </a:xfrm>
                <a:custGeom>
                  <a:avLst/>
                  <a:gdLst/>
                  <a:ahLst/>
                  <a:rect l="l" t="t" r="r" b="b"/>
                  <a:pathLst>
                    <a:path w="5420" h="3474">
                      <a:moveTo>
                        <a:pt x="0" y="0"/>
                      </a:moveTo>
                      <a:cubicBezTo>
                        <a:pt x="47" y="7"/>
                        <a:pt x="97" y="0"/>
                        <a:pt x="140" y="20"/>
                      </a:cubicBezTo>
                      <a:cubicBezTo>
                        <a:pt x="174" y="36"/>
                        <a:pt x="189" y="78"/>
                        <a:pt x="220" y="100"/>
                      </a:cubicBezTo>
                      <a:cubicBezTo>
                        <a:pt x="237" y="112"/>
                        <a:pt x="260" y="113"/>
                        <a:pt x="280" y="120"/>
                      </a:cubicBezTo>
                      <a:cubicBezTo>
                        <a:pt x="374" y="214"/>
                        <a:pt x="324" y="156"/>
                        <a:pt x="420" y="300"/>
                      </a:cubicBezTo>
                      <a:cubicBezTo>
                        <a:pt x="433" y="320"/>
                        <a:pt x="460" y="360"/>
                        <a:pt x="460" y="360"/>
                      </a:cubicBezTo>
                      <a:cubicBezTo>
                        <a:pt x="477" y="463"/>
                        <a:pt x="503" y="557"/>
                        <a:pt x="520" y="660"/>
                      </a:cubicBezTo>
                      <a:cubicBezTo>
                        <a:pt x="527" y="840"/>
                        <a:pt x="515" y="1022"/>
                        <a:pt x="540" y="1200"/>
                      </a:cubicBezTo>
                      <a:cubicBezTo>
                        <a:pt x="543" y="1224"/>
                        <a:pt x="583" y="1223"/>
                        <a:pt x="600" y="1240"/>
                      </a:cubicBezTo>
                      <a:cubicBezTo>
                        <a:pt x="717" y="1357"/>
                        <a:pt x="592" y="1296"/>
                        <a:pt x="760" y="1380"/>
                      </a:cubicBezTo>
                      <a:cubicBezTo>
                        <a:pt x="1046" y="1523"/>
                        <a:pt x="1368" y="1561"/>
                        <a:pt x="1680" y="1600"/>
                      </a:cubicBezTo>
                      <a:cubicBezTo>
                        <a:pt x="2000" y="1593"/>
                        <a:pt x="2320" y="1599"/>
                        <a:pt x="2640" y="1580"/>
                      </a:cubicBezTo>
                      <a:cubicBezTo>
                        <a:pt x="2700" y="1576"/>
                        <a:pt x="2742" y="1513"/>
                        <a:pt x="2800" y="1500"/>
                      </a:cubicBezTo>
                      <a:cubicBezTo>
                        <a:pt x="2852" y="1488"/>
                        <a:pt x="2907" y="1487"/>
                        <a:pt x="2960" y="1480"/>
                      </a:cubicBezTo>
                      <a:cubicBezTo>
                        <a:pt x="3040" y="1487"/>
                        <a:pt x="3123" y="1479"/>
                        <a:pt x="3200" y="1500"/>
                      </a:cubicBezTo>
                      <a:cubicBezTo>
                        <a:pt x="3292" y="1525"/>
                        <a:pt x="3450" y="1613"/>
                        <a:pt x="3540" y="1680"/>
                      </a:cubicBezTo>
                      <a:cubicBezTo>
                        <a:pt x="3574" y="1706"/>
                        <a:pt x="3609" y="1731"/>
                        <a:pt x="3640" y="1760"/>
                      </a:cubicBezTo>
                      <a:cubicBezTo>
                        <a:pt x="3689" y="1805"/>
                        <a:pt x="3780" y="1900"/>
                        <a:pt x="3780" y="1900"/>
                      </a:cubicBezTo>
                      <a:cubicBezTo>
                        <a:pt x="3767" y="2176"/>
                        <a:pt x="3754" y="2319"/>
                        <a:pt x="3720" y="2560"/>
                      </a:cubicBezTo>
                      <a:cubicBezTo>
                        <a:pt x="3727" y="2647"/>
                        <a:pt x="3729" y="2734"/>
                        <a:pt x="3740" y="2820"/>
                      </a:cubicBezTo>
                      <a:cubicBezTo>
                        <a:pt x="3743" y="2841"/>
                        <a:pt x="3744" y="2866"/>
                        <a:pt x="3760" y="2880"/>
                      </a:cubicBezTo>
                      <a:cubicBezTo>
                        <a:pt x="3837" y="2947"/>
                        <a:pt x="3935" y="2984"/>
                        <a:pt x="4020" y="3040"/>
                      </a:cubicBezTo>
                      <a:cubicBezTo>
                        <a:pt x="4048" y="3058"/>
                        <a:pt x="4050" y="3105"/>
                        <a:pt x="4080" y="3120"/>
                      </a:cubicBezTo>
                      <a:cubicBezTo>
                        <a:pt x="4122" y="3141"/>
                        <a:pt x="4173" y="3133"/>
                        <a:pt x="4220" y="3140"/>
                      </a:cubicBezTo>
                      <a:cubicBezTo>
                        <a:pt x="4287" y="3162"/>
                        <a:pt x="4358" y="3189"/>
                        <a:pt x="4420" y="3220"/>
                      </a:cubicBezTo>
                      <a:cubicBezTo>
                        <a:pt x="4497" y="3259"/>
                        <a:pt x="4515" y="3296"/>
                        <a:pt x="4600" y="3300"/>
                      </a:cubicBezTo>
                      <a:cubicBezTo>
                        <a:pt x="4840" y="3312"/>
                        <a:pt x="5080" y="3313"/>
                        <a:pt x="5320" y="3320"/>
                      </a:cubicBezTo>
                      <a:cubicBezTo>
                        <a:pt x="5327" y="3340"/>
                        <a:pt x="5334" y="3360"/>
                        <a:pt x="5340" y="3380"/>
                      </a:cubicBezTo>
                      <a:cubicBezTo>
                        <a:pt x="5348" y="3406"/>
                        <a:pt x="5341" y="3441"/>
                        <a:pt x="5360" y="3460"/>
                      </a:cubicBezTo>
                      <a:cubicBezTo>
                        <a:pt x="5374" y="3474"/>
                        <a:pt x="5400" y="3460"/>
                        <a:pt x="5420" y="34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663200" y="75852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888000" y="66564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 rot="21000000">
                  <a:off x="3080160" y="2999520"/>
                  <a:ext cx="707760" cy="4278960"/>
                </a:xfrm>
                <a:custGeom>
                  <a:avLst/>
                  <a:gdLst/>
                  <a:ahLst/>
                  <a:rect l="l" t="t" r="r" b="b"/>
                  <a:pathLst>
                    <a:path w="1453" h="8264">
                      <a:moveTo>
                        <a:pt x="211" y="0"/>
                      </a:moveTo>
                      <a:cubicBezTo>
                        <a:pt x="220" y="420"/>
                        <a:pt x="251" y="840"/>
                        <a:pt x="251" y="1260"/>
                      </a:cubicBezTo>
                      <a:cubicBezTo>
                        <a:pt x="251" y="1496"/>
                        <a:pt x="318" y="1651"/>
                        <a:pt x="111" y="1720"/>
                      </a:cubicBezTo>
                      <a:cubicBezTo>
                        <a:pt x="96" y="1735"/>
                        <a:pt x="14" y="1809"/>
                        <a:pt x="11" y="1840"/>
                      </a:cubicBezTo>
                      <a:cubicBezTo>
                        <a:pt x="0" y="1948"/>
                        <a:pt x="52" y="2028"/>
                        <a:pt x="91" y="2120"/>
                      </a:cubicBezTo>
                      <a:cubicBezTo>
                        <a:pt x="144" y="2243"/>
                        <a:pt x="204" y="2356"/>
                        <a:pt x="291" y="2460"/>
                      </a:cubicBezTo>
                      <a:cubicBezTo>
                        <a:pt x="420" y="2615"/>
                        <a:pt x="280" y="2413"/>
                        <a:pt x="411" y="2600"/>
                      </a:cubicBezTo>
                      <a:cubicBezTo>
                        <a:pt x="439" y="2639"/>
                        <a:pt x="491" y="2720"/>
                        <a:pt x="491" y="2720"/>
                      </a:cubicBezTo>
                      <a:cubicBezTo>
                        <a:pt x="484" y="2853"/>
                        <a:pt x="471" y="2987"/>
                        <a:pt x="471" y="3120"/>
                      </a:cubicBezTo>
                      <a:cubicBezTo>
                        <a:pt x="471" y="3217"/>
                        <a:pt x="483" y="3373"/>
                        <a:pt x="551" y="3460"/>
                      </a:cubicBezTo>
                      <a:cubicBezTo>
                        <a:pt x="580" y="3497"/>
                        <a:pt x="622" y="3523"/>
                        <a:pt x="651" y="3560"/>
                      </a:cubicBezTo>
                      <a:cubicBezTo>
                        <a:pt x="690" y="3610"/>
                        <a:pt x="713" y="3670"/>
                        <a:pt x="751" y="3720"/>
                      </a:cubicBezTo>
                      <a:cubicBezTo>
                        <a:pt x="791" y="3879"/>
                        <a:pt x="816" y="3995"/>
                        <a:pt x="691" y="4120"/>
                      </a:cubicBezTo>
                      <a:cubicBezTo>
                        <a:pt x="649" y="4308"/>
                        <a:pt x="596" y="4444"/>
                        <a:pt x="671" y="4640"/>
                      </a:cubicBezTo>
                      <a:cubicBezTo>
                        <a:pt x="720" y="4770"/>
                        <a:pt x="843" y="4861"/>
                        <a:pt x="911" y="4980"/>
                      </a:cubicBezTo>
                      <a:cubicBezTo>
                        <a:pt x="938" y="5027"/>
                        <a:pt x="969" y="5071"/>
                        <a:pt x="991" y="5120"/>
                      </a:cubicBezTo>
                      <a:cubicBezTo>
                        <a:pt x="1050" y="5252"/>
                        <a:pt x="1003" y="5268"/>
                        <a:pt x="1111" y="5340"/>
                      </a:cubicBezTo>
                      <a:cubicBezTo>
                        <a:pt x="1124" y="5360"/>
                        <a:pt x="1132" y="5385"/>
                        <a:pt x="1151" y="5400"/>
                      </a:cubicBezTo>
                      <a:cubicBezTo>
                        <a:pt x="1167" y="5413"/>
                        <a:pt x="1196" y="5405"/>
                        <a:pt x="1211" y="5420"/>
                      </a:cubicBezTo>
                      <a:cubicBezTo>
                        <a:pt x="1245" y="5454"/>
                        <a:pt x="1291" y="5540"/>
                        <a:pt x="1291" y="5540"/>
                      </a:cubicBezTo>
                      <a:cubicBezTo>
                        <a:pt x="1279" y="5756"/>
                        <a:pt x="1290" y="5863"/>
                        <a:pt x="1231" y="6040"/>
                      </a:cubicBezTo>
                      <a:cubicBezTo>
                        <a:pt x="1244" y="6120"/>
                        <a:pt x="1249" y="6218"/>
                        <a:pt x="1311" y="6280"/>
                      </a:cubicBezTo>
                      <a:cubicBezTo>
                        <a:pt x="1348" y="6317"/>
                        <a:pt x="1394" y="6343"/>
                        <a:pt x="1431" y="6380"/>
                      </a:cubicBezTo>
                      <a:cubicBezTo>
                        <a:pt x="1438" y="6400"/>
                        <a:pt x="1453" y="6419"/>
                        <a:pt x="1451" y="6440"/>
                      </a:cubicBezTo>
                      <a:cubicBezTo>
                        <a:pt x="1441" y="6528"/>
                        <a:pt x="1372" y="6629"/>
                        <a:pt x="1331" y="6700"/>
                      </a:cubicBezTo>
                      <a:cubicBezTo>
                        <a:pt x="1324" y="6740"/>
                        <a:pt x="1326" y="6782"/>
                        <a:pt x="1311" y="6820"/>
                      </a:cubicBezTo>
                      <a:cubicBezTo>
                        <a:pt x="1299" y="6851"/>
                        <a:pt x="1256" y="6867"/>
                        <a:pt x="1251" y="6900"/>
                      </a:cubicBezTo>
                      <a:cubicBezTo>
                        <a:pt x="1204" y="7180"/>
                        <a:pt x="1310" y="7261"/>
                        <a:pt x="1151" y="7420"/>
                      </a:cubicBezTo>
                      <a:cubicBezTo>
                        <a:pt x="1129" y="7486"/>
                        <a:pt x="1118" y="7556"/>
                        <a:pt x="1091" y="7620"/>
                      </a:cubicBezTo>
                      <a:cubicBezTo>
                        <a:pt x="1082" y="7642"/>
                        <a:pt x="1063" y="7659"/>
                        <a:pt x="1051" y="7680"/>
                      </a:cubicBezTo>
                      <a:cubicBezTo>
                        <a:pt x="1011" y="7749"/>
                        <a:pt x="1013" y="7753"/>
                        <a:pt x="991" y="7820"/>
                      </a:cubicBezTo>
                      <a:cubicBezTo>
                        <a:pt x="1011" y="8059"/>
                        <a:pt x="951" y="8060"/>
                        <a:pt x="1131" y="8120"/>
                      </a:cubicBezTo>
                      <a:cubicBezTo>
                        <a:pt x="1138" y="8140"/>
                        <a:pt x="1154" y="8159"/>
                        <a:pt x="1151" y="8180"/>
                      </a:cubicBezTo>
                      <a:cubicBezTo>
                        <a:pt x="1147" y="8204"/>
                        <a:pt x="1089" y="8231"/>
                        <a:pt x="1111" y="8240"/>
                      </a:cubicBezTo>
                      <a:cubicBezTo>
                        <a:pt x="1166" y="8264"/>
                        <a:pt x="1231" y="8240"/>
                        <a:pt x="1291" y="82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 txBox="1"/>
                <p:nvPr/>
              </p:nvSpPr>
              <p:spPr>
                <a:xfrm>
                  <a:off x="4798080" y="851760"/>
                  <a:ext cx="1786320" cy="45468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Bookman Old Style"/>
                    </a:rPr>
                    <a:t>Оксидия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Bookman Old Style"/>
                    <a:ea typeface="Bookman Old Style"/>
                  </a:endParaRPr>
                </a:p>
              </p:txBody>
            </p:sp>
            <p:sp>
              <p:nvSpPr>
                <p:cNvPr id="164" name=""/>
                <p:cNvSpPr txBox="1"/>
                <p:nvPr/>
              </p:nvSpPr>
              <p:spPr>
                <a:xfrm>
                  <a:off x="2168640" y="200520"/>
                  <a:ext cx="1491480" cy="371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Bookman Old Style"/>
                    </a:rPr>
                    <a:t>Простое</a:t>
                  </a:r>
                  <a:endPara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Bookman Old Style"/>
                    <a:ea typeface="Bookman Old Style"/>
                  </a:endParaRPr>
                </a:p>
              </p:txBody>
            </p:sp>
            <p:sp>
              <p:nvSpPr>
                <p:cNvPr id="165" name=""/>
                <p:cNvSpPr txBox="1"/>
                <p:nvPr/>
              </p:nvSpPr>
              <p:spPr>
                <a:xfrm>
                  <a:off x="4393800" y="5875200"/>
                  <a:ext cx="2415600" cy="371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Bookman Old Style"/>
                    </a:rPr>
                    <a:t>Гидроксидан</a:t>
                  </a:r>
                  <a:endPara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Bookman Old Style"/>
                    <a:ea typeface="Bookman Old Style"/>
                  </a:endParaRPr>
                </a:p>
              </p:txBody>
            </p:sp>
            <p:sp>
              <p:nvSpPr>
                <p:cNvPr id="166" name=""/>
                <p:cNvSpPr txBox="1"/>
                <p:nvPr/>
              </p:nvSpPr>
              <p:spPr>
                <a:xfrm>
                  <a:off x="1562040" y="4200840"/>
                  <a:ext cx="971280" cy="256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Bookman Old Style"/>
                    </a:rPr>
                    <a:t>Соления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Bookman Old Style"/>
                    <a:ea typeface="Bookman Old Style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5708160" y="234000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7022880" y="215388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000400" y="150300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191480" y="475884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6416280" y="457272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3786840" y="299124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"/>
              <p:cNvSpPr/>
              <p:nvPr/>
            </p:nvSpPr>
            <p:spPr>
              <a:xfrm>
                <a:off x="1546200" y="881280"/>
                <a:ext cx="129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Металл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914560" y="73656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Неметалл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218200" y="1170000"/>
                <a:ext cx="172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г. Кислотны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075280" y="26100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333399"/>
                    </a:solidFill>
                    <a:latin typeface="Bookman Old Style"/>
                  </a:rPr>
                  <a:t>Амфо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42200" y="2320920"/>
                <a:ext cx="1081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333399"/>
                    </a:solidFill>
                    <a:latin typeface="Bookman Old Style"/>
                  </a:rPr>
                  <a:t>Осно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562560" y="498636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333399"/>
                    </a:solidFill>
                    <a:latin typeface="Bookman Old Style"/>
                  </a:rPr>
                  <a:t>Амфобур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649840" y="419436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333399"/>
                    </a:solidFill>
                    <a:latin typeface="Bookman Old Style"/>
                  </a:rPr>
                  <a:t>Основинс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130560" y="325764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333399"/>
                    </a:solidFill>
                    <a:latin typeface="Bookman Old Style"/>
                  </a:rPr>
                  <a:t>Кислотс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2482920" y="5418360"/>
                <a:ext cx="228600" cy="228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2266920" y="5705640"/>
                <a:ext cx="122400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4500720" y="3213000"/>
              <a:ext cx="792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27640" y="5373720"/>
              <a:ext cx="1150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72360" y="4869000"/>
              <a:ext cx="1008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64000" y="1557360"/>
              <a:ext cx="100836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32720" y="2708280"/>
              <a:ext cx="10080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32360" y="2349360"/>
              <a:ext cx="7192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780000" y="333360"/>
              <a:ext cx="4316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050920" y="620640"/>
              <a:ext cx="7923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268360" y="4869000"/>
              <a:ext cx="10796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 txBox="1"/>
          <p:nvPr/>
        </p:nvSpPr>
        <p:spPr>
          <a:xfrm>
            <a:off x="900000" y="2133720"/>
            <a:ext cx="13050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Водное море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195640" y="3357720"/>
            <a:ext cx="53053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ff"/>
                </a:solidFill>
                <a:latin typeface="Bookman Old Style"/>
              </a:rPr>
              <a:t>Материк неорганических веществ</a:t>
            </a:r>
            <a:endParaRPr b="0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3366ff"/>
              </a:solidFill>
              <a:latin typeface="Bookman Old Style"/>
              <a:ea typeface="Bookman Old Style"/>
            </a:endParaRPr>
          </a:p>
        </p:txBody>
      </p:sp>
      <p:sp>
        <p:nvSpPr>
          <p:cNvPr id="194" name=""/>
          <p:cNvSpPr/>
          <p:nvPr/>
        </p:nvSpPr>
        <p:spPr>
          <a:xfrm>
            <a:off x="6084720" y="-171360"/>
            <a:ext cx="3183120" cy="7119720"/>
          </a:xfrm>
          <a:custGeom>
            <a:avLst/>
            <a:gdLst/>
            <a:ahLst/>
            <a:rect l="l" t="t" r="r" b="b"/>
            <a:pathLst>
              <a:path w="2005" h="4485">
                <a:moveTo>
                  <a:pt x="413" y="152"/>
                </a:moveTo>
                <a:cubicBezTo>
                  <a:pt x="331" y="179"/>
                  <a:pt x="116" y="177"/>
                  <a:pt x="40" y="179"/>
                </a:cubicBezTo>
                <a:cubicBezTo>
                  <a:pt x="34" y="196"/>
                  <a:pt x="0" y="237"/>
                  <a:pt x="26" y="254"/>
                </a:cubicBezTo>
                <a:cubicBezTo>
                  <a:pt x="41" y="264"/>
                  <a:pt x="62" y="259"/>
                  <a:pt x="80" y="261"/>
                </a:cubicBezTo>
                <a:cubicBezTo>
                  <a:pt x="82" y="277"/>
                  <a:pt x="77" y="295"/>
                  <a:pt x="87" y="308"/>
                </a:cubicBezTo>
                <a:cubicBezTo>
                  <a:pt x="87" y="308"/>
                  <a:pt x="148" y="324"/>
                  <a:pt x="162" y="328"/>
                </a:cubicBezTo>
                <a:cubicBezTo>
                  <a:pt x="170" y="336"/>
                  <a:pt x="189" y="359"/>
                  <a:pt x="202" y="362"/>
                </a:cubicBezTo>
                <a:cubicBezTo>
                  <a:pt x="238" y="370"/>
                  <a:pt x="311" y="376"/>
                  <a:pt x="311" y="376"/>
                </a:cubicBezTo>
                <a:cubicBezTo>
                  <a:pt x="328" y="403"/>
                  <a:pt x="341" y="402"/>
                  <a:pt x="372" y="410"/>
                </a:cubicBezTo>
                <a:cubicBezTo>
                  <a:pt x="410" y="469"/>
                  <a:pt x="473" y="467"/>
                  <a:pt x="534" y="484"/>
                </a:cubicBezTo>
                <a:cubicBezTo>
                  <a:pt x="548" y="488"/>
                  <a:pt x="561" y="493"/>
                  <a:pt x="575" y="498"/>
                </a:cubicBezTo>
                <a:cubicBezTo>
                  <a:pt x="582" y="500"/>
                  <a:pt x="595" y="505"/>
                  <a:pt x="595" y="505"/>
                </a:cubicBezTo>
                <a:cubicBezTo>
                  <a:pt x="603" y="561"/>
                  <a:pt x="603" y="562"/>
                  <a:pt x="656" y="572"/>
                </a:cubicBezTo>
                <a:cubicBezTo>
                  <a:pt x="694" y="630"/>
                  <a:pt x="644" y="560"/>
                  <a:pt x="690" y="606"/>
                </a:cubicBezTo>
                <a:cubicBezTo>
                  <a:pt x="721" y="637"/>
                  <a:pt x="688" y="641"/>
                  <a:pt x="738" y="654"/>
                </a:cubicBezTo>
                <a:cubicBezTo>
                  <a:pt x="745" y="673"/>
                  <a:pt x="746" y="710"/>
                  <a:pt x="765" y="721"/>
                </a:cubicBezTo>
                <a:cubicBezTo>
                  <a:pt x="775" y="727"/>
                  <a:pt x="788" y="725"/>
                  <a:pt x="799" y="728"/>
                </a:cubicBezTo>
                <a:cubicBezTo>
                  <a:pt x="822" y="734"/>
                  <a:pt x="837" y="748"/>
                  <a:pt x="860" y="755"/>
                </a:cubicBezTo>
                <a:cubicBezTo>
                  <a:pt x="877" y="783"/>
                  <a:pt x="901" y="782"/>
                  <a:pt x="928" y="803"/>
                </a:cubicBezTo>
                <a:cubicBezTo>
                  <a:pt x="934" y="823"/>
                  <a:pt x="948" y="864"/>
                  <a:pt x="948" y="864"/>
                </a:cubicBezTo>
                <a:cubicBezTo>
                  <a:pt x="950" y="909"/>
                  <a:pt x="951" y="954"/>
                  <a:pt x="955" y="999"/>
                </a:cubicBezTo>
                <a:cubicBezTo>
                  <a:pt x="957" y="1025"/>
                  <a:pt x="1002" y="1060"/>
                  <a:pt x="1002" y="1060"/>
                </a:cubicBezTo>
                <a:cubicBezTo>
                  <a:pt x="1019" y="1110"/>
                  <a:pt x="1039" y="1159"/>
                  <a:pt x="1056" y="1209"/>
                </a:cubicBezTo>
                <a:cubicBezTo>
                  <a:pt x="1063" y="1258"/>
                  <a:pt x="1075" y="1316"/>
                  <a:pt x="1104" y="1358"/>
                </a:cubicBezTo>
                <a:cubicBezTo>
                  <a:pt x="1116" y="1415"/>
                  <a:pt x="1157" y="1461"/>
                  <a:pt x="1199" y="1501"/>
                </a:cubicBezTo>
                <a:cubicBezTo>
                  <a:pt x="1210" y="1537"/>
                  <a:pt x="1226" y="1573"/>
                  <a:pt x="1239" y="1609"/>
                </a:cubicBezTo>
                <a:cubicBezTo>
                  <a:pt x="1248" y="1722"/>
                  <a:pt x="1229" y="1679"/>
                  <a:pt x="1287" y="1718"/>
                </a:cubicBezTo>
                <a:cubicBezTo>
                  <a:pt x="1301" y="1740"/>
                  <a:pt x="1313" y="1763"/>
                  <a:pt x="1327" y="1785"/>
                </a:cubicBezTo>
                <a:cubicBezTo>
                  <a:pt x="1347" y="1863"/>
                  <a:pt x="1325" y="1770"/>
                  <a:pt x="1341" y="1948"/>
                </a:cubicBezTo>
                <a:cubicBezTo>
                  <a:pt x="1344" y="1976"/>
                  <a:pt x="1358" y="2003"/>
                  <a:pt x="1368" y="2029"/>
                </a:cubicBezTo>
                <a:cubicBezTo>
                  <a:pt x="1371" y="2038"/>
                  <a:pt x="1370" y="2048"/>
                  <a:pt x="1375" y="2056"/>
                </a:cubicBezTo>
                <a:cubicBezTo>
                  <a:pt x="1387" y="2075"/>
                  <a:pt x="1419" y="2074"/>
                  <a:pt x="1436" y="2077"/>
                </a:cubicBezTo>
                <a:cubicBezTo>
                  <a:pt x="1558" y="2265"/>
                  <a:pt x="1410" y="2535"/>
                  <a:pt x="1476" y="2754"/>
                </a:cubicBezTo>
                <a:cubicBezTo>
                  <a:pt x="1484" y="2811"/>
                  <a:pt x="1497" y="2863"/>
                  <a:pt x="1517" y="2917"/>
                </a:cubicBezTo>
                <a:cubicBezTo>
                  <a:pt x="1524" y="2935"/>
                  <a:pt x="1526" y="2961"/>
                  <a:pt x="1531" y="2978"/>
                </a:cubicBezTo>
                <a:cubicBezTo>
                  <a:pt x="1535" y="2992"/>
                  <a:pt x="1544" y="3019"/>
                  <a:pt x="1544" y="3019"/>
                </a:cubicBezTo>
                <a:cubicBezTo>
                  <a:pt x="1547" y="3185"/>
                  <a:pt x="1532" y="3454"/>
                  <a:pt x="1619" y="3622"/>
                </a:cubicBezTo>
                <a:cubicBezTo>
                  <a:pt x="1625" y="3679"/>
                  <a:pt x="1623" y="3748"/>
                  <a:pt x="1666" y="3791"/>
                </a:cubicBezTo>
                <a:cubicBezTo>
                  <a:pt x="1680" y="3846"/>
                  <a:pt x="1708" y="3886"/>
                  <a:pt x="1747" y="3927"/>
                </a:cubicBezTo>
                <a:cubicBezTo>
                  <a:pt x="1762" y="3971"/>
                  <a:pt x="1751" y="4017"/>
                  <a:pt x="1741" y="4062"/>
                </a:cubicBezTo>
                <a:cubicBezTo>
                  <a:pt x="1735" y="4171"/>
                  <a:pt x="1726" y="4266"/>
                  <a:pt x="1734" y="4374"/>
                </a:cubicBezTo>
                <a:cubicBezTo>
                  <a:pt x="1736" y="4399"/>
                  <a:pt x="1734" y="4425"/>
                  <a:pt x="1741" y="4449"/>
                </a:cubicBezTo>
                <a:cubicBezTo>
                  <a:pt x="1748" y="4470"/>
                  <a:pt x="1802" y="4476"/>
                  <a:pt x="1802" y="4476"/>
                </a:cubicBezTo>
                <a:cubicBezTo>
                  <a:pt x="1860" y="4471"/>
                  <a:pt x="1894" y="4485"/>
                  <a:pt x="1924" y="4442"/>
                </a:cubicBezTo>
                <a:cubicBezTo>
                  <a:pt x="1937" y="4396"/>
                  <a:pt x="1919" y="4447"/>
                  <a:pt x="1951" y="4401"/>
                </a:cubicBezTo>
                <a:cubicBezTo>
                  <a:pt x="1965" y="4381"/>
                  <a:pt x="1967" y="4349"/>
                  <a:pt x="1978" y="4327"/>
                </a:cubicBezTo>
                <a:cubicBezTo>
                  <a:pt x="1961" y="4259"/>
                  <a:pt x="1965" y="4186"/>
                  <a:pt x="1958" y="4116"/>
                </a:cubicBezTo>
                <a:cubicBezTo>
                  <a:pt x="1956" y="4044"/>
                  <a:pt x="1957" y="3972"/>
                  <a:pt x="1951" y="3900"/>
                </a:cubicBezTo>
                <a:cubicBezTo>
                  <a:pt x="1950" y="3890"/>
                  <a:pt x="1940" y="3883"/>
                  <a:pt x="1937" y="3873"/>
                </a:cubicBezTo>
                <a:cubicBezTo>
                  <a:pt x="1922" y="3826"/>
                  <a:pt x="1907" y="3778"/>
                  <a:pt x="1897" y="3730"/>
                </a:cubicBezTo>
                <a:cubicBezTo>
                  <a:pt x="1875" y="3621"/>
                  <a:pt x="1844" y="3514"/>
                  <a:pt x="1822" y="3405"/>
                </a:cubicBezTo>
                <a:cubicBezTo>
                  <a:pt x="1825" y="3247"/>
                  <a:pt x="1811" y="3009"/>
                  <a:pt x="1883" y="2849"/>
                </a:cubicBezTo>
                <a:cubicBezTo>
                  <a:pt x="1892" y="2830"/>
                  <a:pt x="1907" y="2814"/>
                  <a:pt x="1917" y="2795"/>
                </a:cubicBezTo>
                <a:cubicBezTo>
                  <a:pt x="1940" y="2748"/>
                  <a:pt x="1944" y="2698"/>
                  <a:pt x="1971" y="2653"/>
                </a:cubicBezTo>
                <a:cubicBezTo>
                  <a:pt x="1979" y="2613"/>
                  <a:pt x="1995" y="2577"/>
                  <a:pt x="2005" y="2538"/>
                </a:cubicBezTo>
                <a:cubicBezTo>
                  <a:pt x="2001" y="2472"/>
                  <a:pt x="1996" y="2423"/>
                  <a:pt x="1985" y="2361"/>
                </a:cubicBezTo>
                <a:cubicBezTo>
                  <a:pt x="1974" y="1956"/>
                  <a:pt x="1983" y="1951"/>
                  <a:pt x="1958" y="1663"/>
                </a:cubicBezTo>
                <a:cubicBezTo>
                  <a:pt x="1951" y="1581"/>
                  <a:pt x="1949" y="1488"/>
                  <a:pt x="1910" y="1413"/>
                </a:cubicBezTo>
                <a:cubicBezTo>
                  <a:pt x="1883" y="1198"/>
                  <a:pt x="1891" y="1255"/>
                  <a:pt x="1903" y="925"/>
                </a:cubicBezTo>
                <a:cubicBezTo>
                  <a:pt x="1904" y="899"/>
                  <a:pt x="1924" y="850"/>
                  <a:pt x="1924" y="850"/>
                </a:cubicBezTo>
                <a:cubicBezTo>
                  <a:pt x="1931" y="774"/>
                  <a:pt x="1940" y="705"/>
                  <a:pt x="1944" y="627"/>
                </a:cubicBezTo>
                <a:cubicBezTo>
                  <a:pt x="1939" y="455"/>
                  <a:pt x="1974" y="343"/>
                  <a:pt x="1836" y="247"/>
                </a:cubicBezTo>
                <a:cubicBezTo>
                  <a:pt x="1802" y="182"/>
                  <a:pt x="1716" y="146"/>
                  <a:pt x="1646" y="132"/>
                </a:cubicBezTo>
                <a:cubicBezTo>
                  <a:pt x="1599" y="101"/>
                  <a:pt x="1531" y="100"/>
                  <a:pt x="1476" y="91"/>
                </a:cubicBezTo>
                <a:cubicBezTo>
                  <a:pt x="1307" y="63"/>
                  <a:pt x="1159" y="52"/>
                  <a:pt x="982" y="44"/>
                </a:cubicBezTo>
                <a:cubicBezTo>
                  <a:pt x="725" y="0"/>
                  <a:pt x="864" y="19"/>
                  <a:pt x="338" y="37"/>
                </a:cubicBezTo>
                <a:cubicBezTo>
                  <a:pt x="293" y="39"/>
                  <a:pt x="270" y="81"/>
                  <a:pt x="230" y="91"/>
                </a:cubicBezTo>
                <a:cubicBezTo>
                  <a:pt x="189" y="119"/>
                  <a:pt x="151" y="149"/>
                  <a:pt x="101" y="159"/>
                </a:cubicBezTo>
                <a:cubicBezTo>
                  <a:pt x="89" y="161"/>
                  <a:pt x="49" y="169"/>
                  <a:pt x="47" y="173"/>
                </a:cubicBezTo>
                <a:cubicBezTo>
                  <a:pt x="42" y="188"/>
                  <a:pt x="47" y="204"/>
                  <a:pt x="47" y="220"/>
                </a:cubicBezTo>
              </a:path>
            </a:pathLst>
          </a:custGeom>
          <a:solidFill>
            <a:srgbClr val="b2ec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 rot="3314400">
            <a:off x="6800760" y="1415520"/>
            <a:ext cx="294336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Bookman Old Style"/>
              </a:rPr>
              <a:t>Материк органических веществ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57200" y="274680"/>
          <a:ext cx="8163000" cy="5911920"/>
        </p:xfrm>
        <a:graphic>
          <a:graphicData uri="http://schemas.openxmlformats.org/drawingml/2006/table">
            <a:tbl>
              <a:tblPr/>
              <a:tblGrid>
                <a:gridCol w="1811160"/>
                <a:gridCol w="1582920"/>
                <a:gridCol w="1476360"/>
                <a:gridCol w="1646280"/>
                <a:gridCol w="1646280"/>
              </a:tblGrid>
              <a:tr h="3504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ксид берилл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OH)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фотерный гидр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глерода 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слотный 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ед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о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род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стое 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ще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лорид маг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gCl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ь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дроксид натр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OH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ание (щелочь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ляная кисло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ислота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кальц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новной 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ксид цин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n</a:t>
                      </a: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мфотерный окси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</a:t>
                      </a:r>
                      <a:r>
                        <a:rPr b="1" lang="en-US" sz="3200" spc="-1" strike="noStrike" baseline="-30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-36360" y="-316080"/>
            <a:ext cx="9200880" cy="8218800"/>
          </a:xfrm>
          <a:custGeom>
            <a:avLst/>
            <a:gdLst/>
            <a:ahLst/>
            <a:rect l="l" t="t" r="r" b="b"/>
            <a:pathLst>
              <a:path w="5796" h="5177">
                <a:moveTo>
                  <a:pt x="1351" y="305"/>
                </a:moveTo>
                <a:cubicBezTo>
                  <a:pt x="1254" y="158"/>
                  <a:pt x="1340" y="264"/>
                  <a:pt x="944" y="271"/>
                </a:cubicBezTo>
                <a:cubicBezTo>
                  <a:pt x="864" y="279"/>
                  <a:pt x="821" y="298"/>
                  <a:pt x="748" y="311"/>
                </a:cubicBezTo>
                <a:cubicBezTo>
                  <a:pt x="661" y="326"/>
                  <a:pt x="579" y="334"/>
                  <a:pt x="490" y="339"/>
                </a:cubicBezTo>
                <a:cubicBezTo>
                  <a:pt x="449" y="346"/>
                  <a:pt x="416" y="365"/>
                  <a:pt x="375" y="372"/>
                </a:cubicBezTo>
                <a:cubicBezTo>
                  <a:pt x="370" y="379"/>
                  <a:pt x="367" y="387"/>
                  <a:pt x="361" y="393"/>
                </a:cubicBezTo>
                <a:cubicBezTo>
                  <a:pt x="355" y="399"/>
                  <a:pt x="346" y="400"/>
                  <a:pt x="341" y="406"/>
                </a:cubicBezTo>
                <a:cubicBezTo>
                  <a:pt x="336" y="412"/>
                  <a:pt x="339" y="421"/>
                  <a:pt x="334" y="427"/>
                </a:cubicBezTo>
                <a:cubicBezTo>
                  <a:pt x="327" y="436"/>
                  <a:pt x="272" y="500"/>
                  <a:pt x="260" y="508"/>
                </a:cubicBezTo>
                <a:cubicBezTo>
                  <a:pt x="240" y="536"/>
                  <a:pt x="220" y="571"/>
                  <a:pt x="192" y="589"/>
                </a:cubicBezTo>
                <a:cubicBezTo>
                  <a:pt x="169" y="658"/>
                  <a:pt x="207" y="555"/>
                  <a:pt x="165" y="630"/>
                </a:cubicBezTo>
                <a:cubicBezTo>
                  <a:pt x="158" y="643"/>
                  <a:pt x="159" y="659"/>
                  <a:pt x="151" y="671"/>
                </a:cubicBezTo>
                <a:cubicBezTo>
                  <a:pt x="147" y="678"/>
                  <a:pt x="142" y="684"/>
                  <a:pt x="138" y="691"/>
                </a:cubicBezTo>
                <a:cubicBezTo>
                  <a:pt x="132" y="716"/>
                  <a:pt x="123" y="740"/>
                  <a:pt x="117" y="765"/>
                </a:cubicBezTo>
                <a:cubicBezTo>
                  <a:pt x="111" y="864"/>
                  <a:pt x="102" y="968"/>
                  <a:pt x="56" y="1057"/>
                </a:cubicBezTo>
                <a:cubicBezTo>
                  <a:pt x="21" y="1257"/>
                  <a:pt x="0" y="1471"/>
                  <a:pt x="56" y="1667"/>
                </a:cubicBezTo>
                <a:cubicBezTo>
                  <a:pt x="64" y="1753"/>
                  <a:pt x="80" y="1840"/>
                  <a:pt x="97" y="1924"/>
                </a:cubicBezTo>
                <a:cubicBezTo>
                  <a:pt x="87" y="2279"/>
                  <a:pt x="86" y="2288"/>
                  <a:pt x="63" y="2514"/>
                </a:cubicBezTo>
                <a:cubicBezTo>
                  <a:pt x="65" y="2663"/>
                  <a:pt x="66" y="2812"/>
                  <a:pt x="70" y="2961"/>
                </a:cubicBezTo>
                <a:cubicBezTo>
                  <a:pt x="72" y="3026"/>
                  <a:pt x="96" y="3098"/>
                  <a:pt x="104" y="3164"/>
                </a:cubicBezTo>
                <a:cubicBezTo>
                  <a:pt x="106" y="3259"/>
                  <a:pt x="111" y="3354"/>
                  <a:pt x="111" y="3449"/>
                </a:cubicBezTo>
                <a:cubicBezTo>
                  <a:pt x="111" y="3474"/>
                  <a:pt x="104" y="3498"/>
                  <a:pt x="104" y="3523"/>
                </a:cubicBezTo>
                <a:cubicBezTo>
                  <a:pt x="104" y="3607"/>
                  <a:pt x="106" y="3639"/>
                  <a:pt x="117" y="3706"/>
                </a:cubicBezTo>
                <a:cubicBezTo>
                  <a:pt x="121" y="3733"/>
                  <a:pt x="131" y="3788"/>
                  <a:pt x="131" y="3788"/>
                </a:cubicBezTo>
                <a:cubicBezTo>
                  <a:pt x="136" y="3856"/>
                  <a:pt x="136" y="3871"/>
                  <a:pt x="151" y="3923"/>
                </a:cubicBezTo>
                <a:cubicBezTo>
                  <a:pt x="172" y="4064"/>
                  <a:pt x="162" y="4123"/>
                  <a:pt x="260" y="4221"/>
                </a:cubicBezTo>
                <a:cubicBezTo>
                  <a:pt x="302" y="4263"/>
                  <a:pt x="271" y="4239"/>
                  <a:pt x="328" y="4276"/>
                </a:cubicBezTo>
                <a:cubicBezTo>
                  <a:pt x="350" y="4290"/>
                  <a:pt x="363" y="4309"/>
                  <a:pt x="388" y="4316"/>
                </a:cubicBezTo>
                <a:cubicBezTo>
                  <a:pt x="416" y="4335"/>
                  <a:pt x="451" y="4360"/>
                  <a:pt x="483" y="4371"/>
                </a:cubicBezTo>
                <a:cubicBezTo>
                  <a:pt x="499" y="4377"/>
                  <a:pt x="531" y="4384"/>
                  <a:pt x="531" y="4384"/>
                </a:cubicBezTo>
                <a:cubicBezTo>
                  <a:pt x="572" y="4408"/>
                  <a:pt x="620" y="4431"/>
                  <a:pt x="666" y="4438"/>
                </a:cubicBezTo>
                <a:cubicBezTo>
                  <a:pt x="741" y="4463"/>
                  <a:pt x="822" y="4434"/>
                  <a:pt x="897" y="4459"/>
                </a:cubicBezTo>
                <a:cubicBezTo>
                  <a:pt x="925" y="4487"/>
                  <a:pt x="981" y="4520"/>
                  <a:pt x="1019" y="4533"/>
                </a:cubicBezTo>
                <a:cubicBezTo>
                  <a:pt x="1080" y="4527"/>
                  <a:pt x="1128" y="4528"/>
                  <a:pt x="1188" y="4540"/>
                </a:cubicBezTo>
                <a:cubicBezTo>
                  <a:pt x="1204" y="4550"/>
                  <a:pt x="1238" y="4541"/>
                  <a:pt x="1242" y="4560"/>
                </a:cubicBezTo>
                <a:cubicBezTo>
                  <a:pt x="1296" y="4844"/>
                  <a:pt x="1200" y="4704"/>
                  <a:pt x="1269" y="4797"/>
                </a:cubicBezTo>
                <a:cubicBezTo>
                  <a:pt x="1280" y="4862"/>
                  <a:pt x="1284" y="4942"/>
                  <a:pt x="1358" y="4960"/>
                </a:cubicBezTo>
                <a:cubicBezTo>
                  <a:pt x="1509" y="5072"/>
                  <a:pt x="1850" y="5026"/>
                  <a:pt x="1967" y="5028"/>
                </a:cubicBezTo>
                <a:cubicBezTo>
                  <a:pt x="2030" y="5039"/>
                  <a:pt x="2093" y="5048"/>
                  <a:pt x="2157" y="5055"/>
                </a:cubicBezTo>
                <a:cubicBezTo>
                  <a:pt x="2469" y="5034"/>
                  <a:pt x="2769" y="5016"/>
                  <a:pt x="3086" y="5008"/>
                </a:cubicBezTo>
                <a:cubicBezTo>
                  <a:pt x="3155" y="4996"/>
                  <a:pt x="3211" y="4979"/>
                  <a:pt x="3282" y="4974"/>
                </a:cubicBezTo>
                <a:cubicBezTo>
                  <a:pt x="3359" y="4946"/>
                  <a:pt x="3431" y="4910"/>
                  <a:pt x="3506" y="4879"/>
                </a:cubicBezTo>
                <a:cubicBezTo>
                  <a:pt x="3548" y="4835"/>
                  <a:pt x="3598" y="4803"/>
                  <a:pt x="3648" y="4770"/>
                </a:cubicBezTo>
                <a:cubicBezTo>
                  <a:pt x="3695" y="4739"/>
                  <a:pt x="3735" y="4703"/>
                  <a:pt x="3784" y="4675"/>
                </a:cubicBezTo>
                <a:cubicBezTo>
                  <a:pt x="3799" y="4652"/>
                  <a:pt x="3844" y="4621"/>
                  <a:pt x="3844" y="4621"/>
                </a:cubicBezTo>
                <a:cubicBezTo>
                  <a:pt x="3772" y="4602"/>
                  <a:pt x="3857" y="4592"/>
                  <a:pt x="3878" y="4587"/>
                </a:cubicBezTo>
                <a:cubicBezTo>
                  <a:pt x="3873" y="4571"/>
                  <a:pt x="3857" y="4532"/>
                  <a:pt x="3892" y="4526"/>
                </a:cubicBezTo>
                <a:cubicBezTo>
                  <a:pt x="3986" y="4509"/>
                  <a:pt x="4082" y="4517"/>
                  <a:pt x="4177" y="4513"/>
                </a:cubicBezTo>
                <a:cubicBezTo>
                  <a:pt x="4229" y="4500"/>
                  <a:pt x="4242" y="4493"/>
                  <a:pt x="4299" y="4493"/>
                </a:cubicBezTo>
                <a:cubicBezTo>
                  <a:pt x="4306" y="4493"/>
                  <a:pt x="4285" y="4497"/>
                  <a:pt x="4278" y="4499"/>
                </a:cubicBezTo>
                <a:cubicBezTo>
                  <a:pt x="4255" y="4522"/>
                  <a:pt x="4241" y="4537"/>
                  <a:pt x="4210" y="4547"/>
                </a:cubicBezTo>
                <a:cubicBezTo>
                  <a:pt x="4166" y="4584"/>
                  <a:pt x="4122" y="4627"/>
                  <a:pt x="4068" y="4648"/>
                </a:cubicBezTo>
                <a:cubicBezTo>
                  <a:pt x="3962" y="4740"/>
                  <a:pt x="4074" y="4653"/>
                  <a:pt x="3980" y="4703"/>
                </a:cubicBezTo>
                <a:cubicBezTo>
                  <a:pt x="3933" y="4728"/>
                  <a:pt x="3888" y="4774"/>
                  <a:pt x="3838" y="4791"/>
                </a:cubicBezTo>
                <a:cubicBezTo>
                  <a:pt x="3847" y="4750"/>
                  <a:pt x="3856" y="4764"/>
                  <a:pt x="3892" y="4750"/>
                </a:cubicBezTo>
                <a:cubicBezTo>
                  <a:pt x="3938" y="4732"/>
                  <a:pt x="3978" y="4706"/>
                  <a:pt x="4027" y="4696"/>
                </a:cubicBezTo>
                <a:cubicBezTo>
                  <a:pt x="4047" y="4686"/>
                  <a:pt x="4069" y="4680"/>
                  <a:pt x="4088" y="4669"/>
                </a:cubicBezTo>
                <a:cubicBezTo>
                  <a:pt x="4141" y="4638"/>
                  <a:pt x="4175" y="4602"/>
                  <a:pt x="4231" y="4587"/>
                </a:cubicBezTo>
                <a:cubicBezTo>
                  <a:pt x="4291" y="4552"/>
                  <a:pt x="4311" y="4552"/>
                  <a:pt x="4387" y="4547"/>
                </a:cubicBezTo>
                <a:cubicBezTo>
                  <a:pt x="4504" y="4549"/>
                  <a:pt x="4622" y="4546"/>
                  <a:pt x="4739" y="4553"/>
                </a:cubicBezTo>
                <a:cubicBezTo>
                  <a:pt x="4747" y="4553"/>
                  <a:pt x="4725" y="4561"/>
                  <a:pt x="4719" y="4567"/>
                </a:cubicBezTo>
                <a:cubicBezTo>
                  <a:pt x="4713" y="4573"/>
                  <a:pt x="4712" y="4582"/>
                  <a:pt x="4705" y="4587"/>
                </a:cubicBezTo>
                <a:cubicBezTo>
                  <a:pt x="4674" y="4609"/>
                  <a:pt x="4625" y="4611"/>
                  <a:pt x="4590" y="4614"/>
                </a:cubicBezTo>
                <a:cubicBezTo>
                  <a:pt x="4477" y="4637"/>
                  <a:pt x="4541" y="4647"/>
                  <a:pt x="4529" y="4574"/>
                </a:cubicBezTo>
                <a:cubicBezTo>
                  <a:pt x="4527" y="4563"/>
                  <a:pt x="4516" y="4556"/>
                  <a:pt x="4509" y="4547"/>
                </a:cubicBezTo>
                <a:cubicBezTo>
                  <a:pt x="4469" y="4614"/>
                  <a:pt x="4413" y="4666"/>
                  <a:pt x="4360" y="4723"/>
                </a:cubicBezTo>
                <a:cubicBezTo>
                  <a:pt x="4100" y="5001"/>
                  <a:pt x="3862" y="5121"/>
                  <a:pt x="3479" y="5177"/>
                </a:cubicBezTo>
                <a:cubicBezTo>
                  <a:pt x="3341" y="5172"/>
                  <a:pt x="3203" y="5169"/>
                  <a:pt x="3065" y="5163"/>
                </a:cubicBezTo>
                <a:cubicBezTo>
                  <a:pt x="3047" y="5162"/>
                  <a:pt x="3026" y="5167"/>
                  <a:pt x="3011" y="5157"/>
                </a:cubicBezTo>
                <a:cubicBezTo>
                  <a:pt x="3004" y="5152"/>
                  <a:pt x="3017" y="5139"/>
                  <a:pt x="3025" y="5136"/>
                </a:cubicBezTo>
                <a:cubicBezTo>
                  <a:pt x="3046" y="5127"/>
                  <a:pt x="3070" y="5127"/>
                  <a:pt x="3092" y="5123"/>
                </a:cubicBezTo>
                <a:cubicBezTo>
                  <a:pt x="3159" y="5128"/>
                  <a:pt x="3209" y="5148"/>
                  <a:pt x="3275" y="5157"/>
                </a:cubicBezTo>
                <a:cubicBezTo>
                  <a:pt x="3416" y="5147"/>
                  <a:pt x="3550" y="5127"/>
                  <a:pt x="3689" y="5109"/>
                </a:cubicBezTo>
                <a:cubicBezTo>
                  <a:pt x="3757" y="5089"/>
                  <a:pt x="3822" y="5080"/>
                  <a:pt x="3892" y="5069"/>
                </a:cubicBezTo>
                <a:cubicBezTo>
                  <a:pt x="4033" y="4997"/>
                  <a:pt x="4183" y="4957"/>
                  <a:pt x="4326" y="4892"/>
                </a:cubicBezTo>
                <a:cubicBezTo>
                  <a:pt x="4350" y="4881"/>
                  <a:pt x="4369" y="4863"/>
                  <a:pt x="4393" y="4852"/>
                </a:cubicBezTo>
                <a:cubicBezTo>
                  <a:pt x="4493" y="4805"/>
                  <a:pt x="4602" y="4777"/>
                  <a:pt x="4705" y="4736"/>
                </a:cubicBezTo>
                <a:cubicBezTo>
                  <a:pt x="4773" y="4709"/>
                  <a:pt x="4826" y="4666"/>
                  <a:pt x="4895" y="4648"/>
                </a:cubicBezTo>
                <a:cubicBezTo>
                  <a:pt x="4934" y="4625"/>
                  <a:pt x="4969" y="4620"/>
                  <a:pt x="5010" y="4601"/>
                </a:cubicBezTo>
                <a:cubicBezTo>
                  <a:pt x="5106" y="4556"/>
                  <a:pt x="5005" y="4587"/>
                  <a:pt x="5112" y="4560"/>
                </a:cubicBezTo>
                <a:cubicBezTo>
                  <a:pt x="5137" y="4544"/>
                  <a:pt x="5165" y="4533"/>
                  <a:pt x="5186" y="4513"/>
                </a:cubicBezTo>
                <a:cubicBezTo>
                  <a:pt x="5193" y="4506"/>
                  <a:pt x="5198" y="4497"/>
                  <a:pt x="5207" y="4493"/>
                </a:cubicBezTo>
                <a:cubicBezTo>
                  <a:pt x="5224" y="4485"/>
                  <a:pt x="5243" y="4484"/>
                  <a:pt x="5261" y="4479"/>
                </a:cubicBezTo>
                <a:cubicBezTo>
                  <a:pt x="5424" y="4483"/>
                  <a:pt x="5526" y="4461"/>
                  <a:pt x="5661" y="4506"/>
                </a:cubicBezTo>
                <a:cubicBezTo>
                  <a:pt x="5703" y="4535"/>
                  <a:pt x="5665" y="4559"/>
                  <a:pt x="5708" y="4587"/>
                </a:cubicBezTo>
                <a:cubicBezTo>
                  <a:pt x="5694" y="4594"/>
                  <a:pt x="5673" y="4615"/>
                  <a:pt x="5661" y="4587"/>
                </a:cubicBezTo>
                <a:cubicBezTo>
                  <a:pt x="5658" y="4581"/>
                  <a:pt x="5674" y="4569"/>
                  <a:pt x="5667" y="4567"/>
                </a:cubicBezTo>
                <a:cubicBezTo>
                  <a:pt x="5654" y="4562"/>
                  <a:pt x="5640" y="4572"/>
                  <a:pt x="5627" y="4574"/>
                </a:cubicBezTo>
                <a:cubicBezTo>
                  <a:pt x="5634" y="4532"/>
                  <a:pt x="5641" y="4510"/>
                  <a:pt x="5667" y="4479"/>
                </a:cubicBezTo>
                <a:cubicBezTo>
                  <a:pt x="5686" y="4456"/>
                  <a:pt x="5685" y="4441"/>
                  <a:pt x="5715" y="4432"/>
                </a:cubicBezTo>
                <a:cubicBezTo>
                  <a:pt x="5719" y="4425"/>
                  <a:pt x="5722" y="4417"/>
                  <a:pt x="5728" y="4411"/>
                </a:cubicBezTo>
                <a:cubicBezTo>
                  <a:pt x="5734" y="4405"/>
                  <a:pt x="5744" y="4404"/>
                  <a:pt x="5749" y="4398"/>
                </a:cubicBezTo>
                <a:cubicBezTo>
                  <a:pt x="5754" y="4392"/>
                  <a:pt x="5751" y="4383"/>
                  <a:pt x="5755" y="4377"/>
                </a:cubicBezTo>
                <a:cubicBezTo>
                  <a:pt x="5771" y="4353"/>
                  <a:pt x="5786" y="4345"/>
                  <a:pt x="5796" y="4316"/>
                </a:cubicBezTo>
                <a:cubicBezTo>
                  <a:pt x="5786" y="4216"/>
                  <a:pt x="5780" y="4223"/>
                  <a:pt x="5735" y="4133"/>
                </a:cubicBezTo>
                <a:cubicBezTo>
                  <a:pt x="5723" y="4110"/>
                  <a:pt x="5694" y="4066"/>
                  <a:pt x="5694" y="4066"/>
                </a:cubicBezTo>
                <a:cubicBezTo>
                  <a:pt x="5672" y="3991"/>
                  <a:pt x="5689" y="3923"/>
                  <a:pt x="5708" y="3849"/>
                </a:cubicBezTo>
                <a:cubicBezTo>
                  <a:pt x="5711" y="3839"/>
                  <a:pt x="5718" y="3831"/>
                  <a:pt x="5722" y="3822"/>
                </a:cubicBezTo>
                <a:cubicBezTo>
                  <a:pt x="5725" y="3815"/>
                  <a:pt x="5726" y="3808"/>
                  <a:pt x="5728" y="3801"/>
                </a:cubicBezTo>
                <a:cubicBezTo>
                  <a:pt x="5738" y="3756"/>
                  <a:pt x="5747" y="3711"/>
                  <a:pt x="5755" y="3666"/>
                </a:cubicBezTo>
                <a:cubicBezTo>
                  <a:pt x="5744" y="3559"/>
                  <a:pt x="5736" y="3416"/>
                  <a:pt x="5654" y="3334"/>
                </a:cubicBezTo>
                <a:cubicBezTo>
                  <a:pt x="5645" y="3308"/>
                  <a:pt x="5628" y="3295"/>
                  <a:pt x="5613" y="3273"/>
                </a:cubicBezTo>
                <a:cubicBezTo>
                  <a:pt x="5602" y="3239"/>
                  <a:pt x="5597" y="3212"/>
                  <a:pt x="5566" y="3191"/>
                </a:cubicBezTo>
                <a:cubicBezTo>
                  <a:pt x="5540" y="3141"/>
                  <a:pt x="5532" y="3083"/>
                  <a:pt x="5518" y="3029"/>
                </a:cubicBezTo>
                <a:cubicBezTo>
                  <a:pt x="5514" y="2975"/>
                  <a:pt x="5512" y="2920"/>
                  <a:pt x="5505" y="2866"/>
                </a:cubicBezTo>
                <a:cubicBezTo>
                  <a:pt x="5490" y="2740"/>
                  <a:pt x="5444" y="2618"/>
                  <a:pt x="5423" y="2493"/>
                </a:cubicBezTo>
                <a:cubicBezTo>
                  <a:pt x="5418" y="2281"/>
                  <a:pt x="5435" y="2218"/>
                  <a:pt x="5342" y="2060"/>
                </a:cubicBezTo>
                <a:cubicBezTo>
                  <a:pt x="5326" y="1995"/>
                  <a:pt x="5301" y="1928"/>
                  <a:pt x="5268" y="1870"/>
                </a:cubicBezTo>
                <a:cubicBezTo>
                  <a:pt x="5254" y="1791"/>
                  <a:pt x="5275" y="1866"/>
                  <a:pt x="5220" y="1782"/>
                </a:cubicBezTo>
                <a:cubicBezTo>
                  <a:pt x="5194" y="1743"/>
                  <a:pt x="5194" y="1683"/>
                  <a:pt x="5173" y="1640"/>
                </a:cubicBezTo>
                <a:cubicBezTo>
                  <a:pt x="5158" y="1566"/>
                  <a:pt x="5179" y="1644"/>
                  <a:pt x="5146" y="1579"/>
                </a:cubicBezTo>
                <a:cubicBezTo>
                  <a:pt x="5117" y="1522"/>
                  <a:pt x="5100" y="1459"/>
                  <a:pt x="5071" y="1402"/>
                </a:cubicBezTo>
                <a:cubicBezTo>
                  <a:pt x="5060" y="1349"/>
                  <a:pt x="5024" y="1297"/>
                  <a:pt x="5003" y="1247"/>
                </a:cubicBezTo>
                <a:cubicBezTo>
                  <a:pt x="4961" y="1149"/>
                  <a:pt x="4931" y="1032"/>
                  <a:pt x="4854" y="955"/>
                </a:cubicBezTo>
                <a:cubicBezTo>
                  <a:pt x="4844" y="917"/>
                  <a:pt x="4836" y="898"/>
                  <a:pt x="4800" y="881"/>
                </a:cubicBezTo>
                <a:cubicBezTo>
                  <a:pt x="4789" y="816"/>
                  <a:pt x="4769" y="815"/>
                  <a:pt x="4732" y="765"/>
                </a:cubicBezTo>
                <a:cubicBezTo>
                  <a:pt x="4700" y="722"/>
                  <a:pt x="4674" y="670"/>
                  <a:pt x="4631" y="637"/>
                </a:cubicBezTo>
                <a:cubicBezTo>
                  <a:pt x="4541" y="568"/>
                  <a:pt x="4442" y="520"/>
                  <a:pt x="4332" y="488"/>
                </a:cubicBezTo>
                <a:cubicBezTo>
                  <a:pt x="4269" y="448"/>
                  <a:pt x="4195" y="426"/>
                  <a:pt x="4129" y="393"/>
                </a:cubicBezTo>
                <a:cubicBezTo>
                  <a:pt x="4105" y="381"/>
                  <a:pt x="4103" y="391"/>
                  <a:pt x="4075" y="372"/>
                </a:cubicBezTo>
                <a:cubicBezTo>
                  <a:pt x="3991" y="316"/>
                  <a:pt x="3951" y="256"/>
                  <a:pt x="3851" y="230"/>
                </a:cubicBezTo>
                <a:cubicBezTo>
                  <a:pt x="3828" y="195"/>
                  <a:pt x="3802" y="192"/>
                  <a:pt x="3763" y="183"/>
                </a:cubicBezTo>
                <a:cubicBezTo>
                  <a:pt x="3629" y="100"/>
                  <a:pt x="3463" y="101"/>
                  <a:pt x="3316" y="54"/>
                </a:cubicBezTo>
                <a:cubicBezTo>
                  <a:pt x="3269" y="21"/>
                  <a:pt x="3214" y="17"/>
                  <a:pt x="3160" y="0"/>
                </a:cubicBezTo>
                <a:cubicBezTo>
                  <a:pt x="2918" y="6"/>
                  <a:pt x="2677" y="18"/>
                  <a:pt x="2435" y="27"/>
                </a:cubicBezTo>
                <a:cubicBezTo>
                  <a:pt x="2211" y="73"/>
                  <a:pt x="1965" y="58"/>
                  <a:pt x="1744" y="61"/>
                </a:cubicBezTo>
                <a:cubicBezTo>
                  <a:pt x="1652" y="81"/>
                  <a:pt x="1587" y="90"/>
                  <a:pt x="1486" y="95"/>
                </a:cubicBezTo>
                <a:cubicBezTo>
                  <a:pt x="1447" y="107"/>
                  <a:pt x="1446" y="125"/>
                  <a:pt x="1425" y="156"/>
                </a:cubicBezTo>
                <a:cubicBezTo>
                  <a:pt x="1419" y="176"/>
                  <a:pt x="1419" y="197"/>
                  <a:pt x="1412" y="217"/>
                </a:cubicBezTo>
                <a:cubicBezTo>
                  <a:pt x="1404" y="239"/>
                  <a:pt x="1377" y="258"/>
                  <a:pt x="1364" y="278"/>
                </a:cubicBezTo>
                <a:cubicBezTo>
                  <a:pt x="1357" y="301"/>
                  <a:pt x="1363" y="293"/>
                  <a:pt x="1351" y="305"/>
                </a:cubicBezTo>
                <a:close/>
              </a:path>
            </a:pathLst>
          </a:custGeom>
          <a:solidFill>
            <a:srgbClr val="b2b8e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1258920" y="-171360"/>
            <a:ext cx="6635880" cy="7677000"/>
            <a:chOff x="1258920" y="-171360"/>
            <a:chExt cx="6635880" cy="7677000"/>
          </a:xfrm>
        </p:grpSpPr>
        <p:grpSp>
          <p:nvGrpSpPr>
            <p:cNvPr id="199" name=""/>
            <p:cNvGrpSpPr/>
            <p:nvPr/>
          </p:nvGrpSpPr>
          <p:grpSpPr>
            <a:xfrm>
              <a:off x="1258920" y="-171360"/>
              <a:ext cx="6635880" cy="7677000"/>
              <a:chOff x="1258920" y="-171360"/>
              <a:chExt cx="6635880" cy="767700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1258920" y="-171360"/>
                <a:ext cx="6635880" cy="7677000"/>
                <a:chOff x="1258920" y="-171360"/>
                <a:chExt cx="6635880" cy="76770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1258920" y="-171360"/>
                  <a:ext cx="6635880" cy="7677000"/>
                </a:xfrm>
                <a:custGeom>
                  <a:avLst/>
                  <a:gdLst/>
                  <a:ahLst/>
                  <a:rect l="l" t="t" r="r" b="b"/>
                  <a:pathLst>
                    <a:path w="10372" h="13055">
                      <a:moveTo>
                        <a:pt x="412" y="755"/>
                      </a:moveTo>
                      <a:cubicBezTo>
                        <a:pt x="545" y="733"/>
                        <a:pt x="663" y="687"/>
                        <a:pt x="792" y="655"/>
                      </a:cubicBezTo>
                      <a:cubicBezTo>
                        <a:pt x="969" y="611"/>
                        <a:pt x="1112" y="595"/>
                        <a:pt x="1292" y="535"/>
                      </a:cubicBezTo>
                      <a:cubicBezTo>
                        <a:pt x="2171" y="242"/>
                        <a:pt x="3145" y="522"/>
                        <a:pt x="4072" y="515"/>
                      </a:cubicBezTo>
                      <a:cubicBezTo>
                        <a:pt x="4316" y="445"/>
                        <a:pt x="4561" y="371"/>
                        <a:pt x="4812" y="335"/>
                      </a:cubicBezTo>
                      <a:cubicBezTo>
                        <a:pt x="4997" y="243"/>
                        <a:pt x="4914" y="269"/>
                        <a:pt x="5052" y="235"/>
                      </a:cubicBezTo>
                      <a:cubicBezTo>
                        <a:pt x="5079" y="215"/>
                        <a:pt x="5102" y="190"/>
                        <a:pt x="5132" y="175"/>
                      </a:cubicBezTo>
                      <a:cubicBezTo>
                        <a:pt x="5157" y="163"/>
                        <a:pt x="5188" y="169"/>
                        <a:pt x="5212" y="155"/>
                      </a:cubicBezTo>
                      <a:cubicBezTo>
                        <a:pt x="5237" y="141"/>
                        <a:pt x="5247" y="109"/>
                        <a:pt x="5272" y="95"/>
                      </a:cubicBezTo>
                      <a:cubicBezTo>
                        <a:pt x="5309" y="75"/>
                        <a:pt x="5392" y="55"/>
                        <a:pt x="5392" y="55"/>
                      </a:cubicBezTo>
                      <a:cubicBezTo>
                        <a:pt x="5409" y="56"/>
                        <a:pt x="6032" y="0"/>
                        <a:pt x="6212" y="135"/>
                      </a:cubicBezTo>
                      <a:cubicBezTo>
                        <a:pt x="6320" y="216"/>
                        <a:pt x="6399" y="366"/>
                        <a:pt x="6472" y="475"/>
                      </a:cubicBezTo>
                      <a:cubicBezTo>
                        <a:pt x="6530" y="562"/>
                        <a:pt x="6588" y="653"/>
                        <a:pt x="6652" y="735"/>
                      </a:cubicBezTo>
                      <a:cubicBezTo>
                        <a:pt x="6669" y="757"/>
                        <a:pt x="6696" y="772"/>
                        <a:pt x="6712" y="795"/>
                      </a:cubicBezTo>
                      <a:cubicBezTo>
                        <a:pt x="6729" y="819"/>
                        <a:pt x="6736" y="850"/>
                        <a:pt x="6752" y="875"/>
                      </a:cubicBezTo>
                      <a:cubicBezTo>
                        <a:pt x="6811" y="969"/>
                        <a:pt x="6908" y="1083"/>
                        <a:pt x="7012" y="1135"/>
                      </a:cubicBezTo>
                      <a:cubicBezTo>
                        <a:pt x="7287" y="1273"/>
                        <a:pt x="7637" y="1275"/>
                        <a:pt x="7932" y="1295"/>
                      </a:cubicBezTo>
                      <a:cubicBezTo>
                        <a:pt x="8151" y="1368"/>
                        <a:pt x="7819" y="1252"/>
                        <a:pt x="8052" y="1355"/>
                      </a:cubicBezTo>
                      <a:cubicBezTo>
                        <a:pt x="8091" y="1372"/>
                        <a:pt x="8135" y="1375"/>
                        <a:pt x="8172" y="1395"/>
                      </a:cubicBezTo>
                      <a:cubicBezTo>
                        <a:pt x="8236" y="1429"/>
                        <a:pt x="8291" y="1476"/>
                        <a:pt x="8352" y="1515"/>
                      </a:cubicBezTo>
                      <a:cubicBezTo>
                        <a:pt x="8385" y="1536"/>
                        <a:pt x="8422" y="1551"/>
                        <a:pt x="8452" y="1575"/>
                      </a:cubicBezTo>
                      <a:cubicBezTo>
                        <a:pt x="8485" y="1602"/>
                        <a:pt x="8515" y="1634"/>
                        <a:pt x="8552" y="1655"/>
                      </a:cubicBezTo>
                      <a:cubicBezTo>
                        <a:pt x="8576" y="1668"/>
                        <a:pt x="8606" y="1665"/>
                        <a:pt x="8632" y="1675"/>
                      </a:cubicBezTo>
                      <a:cubicBezTo>
                        <a:pt x="8660" y="1685"/>
                        <a:pt x="8685" y="1702"/>
                        <a:pt x="8712" y="1715"/>
                      </a:cubicBezTo>
                      <a:cubicBezTo>
                        <a:pt x="8860" y="1937"/>
                        <a:pt x="8609" y="1575"/>
                        <a:pt x="8832" y="1835"/>
                      </a:cubicBezTo>
                      <a:cubicBezTo>
                        <a:pt x="8851" y="1858"/>
                        <a:pt x="8855" y="1890"/>
                        <a:pt x="8872" y="1915"/>
                      </a:cubicBezTo>
                      <a:cubicBezTo>
                        <a:pt x="8915" y="1977"/>
                        <a:pt x="8970" y="2032"/>
                        <a:pt x="9012" y="2095"/>
                      </a:cubicBezTo>
                      <a:cubicBezTo>
                        <a:pt x="9066" y="2176"/>
                        <a:pt x="9114" y="2257"/>
                        <a:pt x="9172" y="2335"/>
                      </a:cubicBezTo>
                      <a:cubicBezTo>
                        <a:pt x="9205" y="2502"/>
                        <a:pt x="9225" y="2670"/>
                        <a:pt x="9272" y="2835"/>
                      </a:cubicBezTo>
                      <a:cubicBezTo>
                        <a:pt x="9274" y="2841"/>
                        <a:pt x="9301" y="2961"/>
                        <a:pt x="9312" y="2975"/>
                      </a:cubicBezTo>
                      <a:cubicBezTo>
                        <a:pt x="9347" y="3020"/>
                        <a:pt x="9398" y="3050"/>
                        <a:pt x="9432" y="3095"/>
                      </a:cubicBezTo>
                      <a:cubicBezTo>
                        <a:pt x="9495" y="3179"/>
                        <a:pt x="9549" y="3271"/>
                        <a:pt x="9612" y="3355"/>
                      </a:cubicBezTo>
                      <a:cubicBezTo>
                        <a:pt x="9629" y="3378"/>
                        <a:pt x="9655" y="3393"/>
                        <a:pt x="9672" y="3415"/>
                      </a:cubicBezTo>
                      <a:cubicBezTo>
                        <a:pt x="9733" y="3494"/>
                        <a:pt x="9795" y="3573"/>
                        <a:pt x="9852" y="3655"/>
                      </a:cubicBezTo>
                      <a:cubicBezTo>
                        <a:pt x="9869" y="3679"/>
                        <a:pt x="9876" y="3710"/>
                        <a:pt x="9892" y="3735"/>
                      </a:cubicBezTo>
                      <a:cubicBezTo>
                        <a:pt x="9935" y="3803"/>
                        <a:pt x="9957" y="3820"/>
                        <a:pt x="10012" y="3875"/>
                      </a:cubicBezTo>
                      <a:cubicBezTo>
                        <a:pt x="10041" y="4021"/>
                        <a:pt x="10097" y="4157"/>
                        <a:pt x="10152" y="4295"/>
                      </a:cubicBezTo>
                      <a:cubicBezTo>
                        <a:pt x="10176" y="4438"/>
                        <a:pt x="10208" y="4570"/>
                        <a:pt x="10232" y="4715"/>
                      </a:cubicBezTo>
                      <a:cubicBezTo>
                        <a:pt x="10252" y="4834"/>
                        <a:pt x="10252" y="4956"/>
                        <a:pt x="10272" y="5075"/>
                      </a:cubicBezTo>
                      <a:cubicBezTo>
                        <a:pt x="10283" y="5142"/>
                        <a:pt x="10291" y="5211"/>
                        <a:pt x="10312" y="5275"/>
                      </a:cubicBezTo>
                      <a:cubicBezTo>
                        <a:pt x="10325" y="5315"/>
                        <a:pt x="10339" y="5355"/>
                        <a:pt x="10352" y="5395"/>
                      </a:cubicBezTo>
                      <a:cubicBezTo>
                        <a:pt x="10359" y="5415"/>
                        <a:pt x="10372" y="5455"/>
                        <a:pt x="10372" y="5455"/>
                      </a:cubicBezTo>
                      <a:cubicBezTo>
                        <a:pt x="10359" y="5608"/>
                        <a:pt x="10355" y="5763"/>
                        <a:pt x="10332" y="5915"/>
                      </a:cubicBezTo>
                      <a:cubicBezTo>
                        <a:pt x="10328" y="5939"/>
                        <a:pt x="10303" y="5954"/>
                        <a:pt x="10292" y="5975"/>
                      </a:cubicBezTo>
                      <a:cubicBezTo>
                        <a:pt x="10283" y="5994"/>
                        <a:pt x="10285" y="6019"/>
                        <a:pt x="10272" y="6035"/>
                      </a:cubicBezTo>
                      <a:cubicBezTo>
                        <a:pt x="10257" y="6054"/>
                        <a:pt x="10229" y="6058"/>
                        <a:pt x="10212" y="6075"/>
                      </a:cubicBezTo>
                      <a:cubicBezTo>
                        <a:pt x="10188" y="6099"/>
                        <a:pt x="10172" y="6128"/>
                        <a:pt x="10152" y="6155"/>
                      </a:cubicBezTo>
                      <a:cubicBezTo>
                        <a:pt x="10122" y="6244"/>
                        <a:pt x="10088" y="6264"/>
                        <a:pt x="10012" y="6315"/>
                      </a:cubicBezTo>
                      <a:cubicBezTo>
                        <a:pt x="9978" y="6417"/>
                        <a:pt x="9928" y="6513"/>
                        <a:pt x="9892" y="6615"/>
                      </a:cubicBezTo>
                      <a:cubicBezTo>
                        <a:pt x="9871" y="6675"/>
                        <a:pt x="9832" y="6795"/>
                        <a:pt x="9832" y="6795"/>
                      </a:cubicBezTo>
                      <a:cubicBezTo>
                        <a:pt x="9788" y="7103"/>
                        <a:pt x="9805" y="6927"/>
                        <a:pt x="9832" y="7475"/>
                      </a:cubicBezTo>
                      <a:cubicBezTo>
                        <a:pt x="9842" y="7675"/>
                        <a:pt x="9848" y="7943"/>
                        <a:pt x="9912" y="8135"/>
                      </a:cubicBezTo>
                      <a:cubicBezTo>
                        <a:pt x="9899" y="8262"/>
                        <a:pt x="9891" y="8389"/>
                        <a:pt x="9872" y="8515"/>
                      </a:cubicBezTo>
                      <a:cubicBezTo>
                        <a:pt x="9864" y="8569"/>
                        <a:pt x="9838" y="8620"/>
                        <a:pt x="9832" y="8675"/>
                      </a:cubicBezTo>
                      <a:cubicBezTo>
                        <a:pt x="9772" y="9201"/>
                        <a:pt x="9825" y="9095"/>
                        <a:pt x="9712" y="9435"/>
                      </a:cubicBezTo>
                      <a:cubicBezTo>
                        <a:pt x="9705" y="9488"/>
                        <a:pt x="9694" y="9541"/>
                        <a:pt x="9692" y="9595"/>
                      </a:cubicBezTo>
                      <a:cubicBezTo>
                        <a:pt x="9681" y="9882"/>
                        <a:pt x="9697" y="10169"/>
                        <a:pt x="9672" y="10455"/>
                      </a:cubicBezTo>
                      <a:cubicBezTo>
                        <a:pt x="9666" y="10519"/>
                        <a:pt x="9513" y="10558"/>
                        <a:pt x="9472" y="10595"/>
                      </a:cubicBezTo>
                      <a:cubicBezTo>
                        <a:pt x="9310" y="10739"/>
                        <a:pt x="9416" y="10694"/>
                        <a:pt x="9292" y="10735"/>
                      </a:cubicBezTo>
                      <a:cubicBezTo>
                        <a:pt x="9265" y="10762"/>
                        <a:pt x="9242" y="10792"/>
                        <a:pt x="9212" y="10815"/>
                      </a:cubicBezTo>
                      <a:cubicBezTo>
                        <a:pt x="9016" y="10962"/>
                        <a:pt x="9233" y="10761"/>
                        <a:pt x="9072" y="10895"/>
                      </a:cubicBezTo>
                      <a:cubicBezTo>
                        <a:pt x="8974" y="10977"/>
                        <a:pt x="9052" y="10940"/>
                        <a:pt x="8932" y="11015"/>
                      </a:cubicBezTo>
                      <a:cubicBezTo>
                        <a:pt x="8907" y="11031"/>
                        <a:pt x="8876" y="11037"/>
                        <a:pt x="8852" y="11055"/>
                      </a:cubicBezTo>
                      <a:cubicBezTo>
                        <a:pt x="8785" y="11105"/>
                        <a:pt x="8753" y="11205"/>
                        <a:pt x="8672" y="11235"/>
                      </a:cubicBezTo>
                      <a:cubicBezTo>
                        <a:pt x="8576" y="11271"/>
                        <a:pt x="8449" y="11285"/>
                        <a:pt x="8352" y="11315"/>
                      </a:cubicBezTo>
                      <a:cubicBezTo>
                        <a:pt x="8249" y="11347"/>
                        <a:pt x="8170" y="11413"/>
                        <a:pt x="8072" y="11455"/>
                      </a:cubicBezTo>
                      <a:cubicBezTo>
                        <a:pt x="7992" y="11489"/>
                        <a:pt x="7885" y="11487"/>
                        <a:pt x="7812" y="11535"/>
                      </a:cubicBezTo>
                      <a:cubicBezTo>
                        <a:pt x="7734" y="11587"/>
                        <a:pt x="7673" y="11580"/>
                        <a:pt x="7592" y="11615"/>
                      </a:cubicBezTo>
                      <a:cubicBezTo>
                        <a:pt x="7565" y="11627"/>
                        <a:pt x="7536" y="11638"/>
                        <a:pt x="7512" y="11655"/>
                      </a:cubicBezTo>
                      <a:cubicBezTo>
                        <a:pt x="7489" y="11671"/>
                        <a:pt x="7477" y="11702"/>
                        <a:pt x="7452" y="11715"/>
                      </a:cubicBezTo>
                      <a:cubicBezTo>
                        <a:pt x="7383" y="11749"/>
                        <a:pt x="7274" y="11775"/>
                        <a:pt x="7192" y="11795"/>
                      </a:cubicBezTo>
                      <a:cubicBezTo>
                        <a:pt x="7098" y="11858"/>
                        <a:pt x="6992" y="11865"/>
                        <a:pt x="6892" y="11915"/>
                      </a:cubicBezTo>
                      <a:cubicBezTo>
                        <a:pt x="6789" y="11967"/>
                        <a:pt x="6680" y="11979"/>
                        <a:pt x="6572" y="12015"/>
                      </a:cubicBezTo>
                      <a:cubicBezTo>
                        <a:pt x="6484" y="12044"/>
                        <a:pt x="6401" y="12073"/>
                        <a:pt x="6312" y="12095"/>
                      </a:cubicBezTo>
                      <a:cubicBezTo>
                        <a:pt x="6292" y="12115"/>
                        <a:pt x="6275" y="12139"/>
                        <a:pt x="6252" y="12155"/>
                      </a:cubicBezTo>
                      <a:cubicBezTo>
                        <a:pt x="6115" y="12253"/>
                        <a:pt x="6225" y="12141"/>
                        <a:pt x="6112" y="12235"/>
                      </a:cubicBezTo>
                      <a:cubicBezTo>
                        <a:pt x="6090" y="12253"/>
                        <a:pt x="6074" y="12277"/>
                        <a:pt x="6052" y="12295"/>
                      </a:cubicBezTo>
                      <a:cubicBezTo>
                        <a:pt x="6034" y="12310"/>
                        <a:pt x="6014" y="12325"/>
                        <a:pt x="5992" y="12335"/>
                      </a:cubicBezTo>
                      <a:cubicBezTo>
                        <a:pt x="5953" y="12352"/>
                        <a:pt x="5872" y="12375"/>
                        <a:pt x="5872" y="12375"/>
                      </a:cubicBezTo>
                      <a:cubicBezTo>
                        <a:pt x="5710" y="12591"/>
                        <a:pt x="5915" y="12353"/>
                        <a:pt x="5732" y="12475"/>
                      </a:cubicBezTo>
                      <a:cubicBezTo>
                        <a:pt x="5712" y="12488"/>
                        <a:pt x="5710" y="12519"/>
                        <a:pt x="5692" y="12535"/>
                      </a:cubicBezTo>
                      <a:cubicBezTo>
                        <a:pt x="5607" y="12609"/>
                        <a:pt x="5594" y="12608"/>
                        <a:pt x="5512" y="12635"/>
                      </a:cubicBezTo>
                      <a:cubicBezTo>
                        <a:pt x="5116" y="12615"/>
                        <a:pt x="4795" y="12626"/>
                        <a:pt x="4432" y="12535"/>
                      </a:cubicBezTo>
                      <a:cubicBezTo>
                        <a:pt x="4070" y="12545"/>
                        <a:pt x="3834" y="12474"/>
                        <a:pt x="3552" y="12615"/>
                      </a:cubicBezTo>
                      <a:cubicBezTo>
                        <a:pt x="3480" y="12723"/>
                        <a:pt x="3328" y="12739"/>
                        <a:pt x="3232" y="12835"/>
                      </a:cubicBezTo>
                      <a:cubicBezTo>
                        <a:pt x="3215" y="12852"/>
                        <a:pt x="3216" y="12893"/>
                        <a:pt x="3192" y="12895"/>
                      </a:cubicBezTo>
                      <a:cubicBezTo>
                        <a:pt x="2920" y="12920"/>
                        <a:pt x="2645" y="12908"/>
                        <a:pt x="2372" y="12915"/>
                      </a:cubicBezTo>
                      <a:cubicBezTo>
                        <a:pt x="2156" y="12951"/>
                        <a:pt x="1949" y="13024"/>
                        <a:pt x="1732" y="13055"/>
                      </a:cubicBezTo>
                      <a:cubicBezTo>
                        <a:pt x="1639" y="13042"/>
                        <a:pt x="1543" y="13041"/>
                        <a:pt x="1452" y="13015"/>
                      </a:cubicBezTo>
                      <a:cubicBezTo>
                        <a:pt x="1360" y="12988"/>
                        <a:pt x="1283" y="12925"/>
                        <a:pt x="1192" y="12895"/>
                      </a:cubicBezTo>
                      <a:cubicBezTo>
                        <a:pt x="1145" y="12848"/>
                        <a:pt x="1099" y="12802"/>
                        <a:pt x="1052" y="12755"/>
                      </a:cubicBezTo>
                      <a:cubicBezTo>
                        <a:pt x="1025" y="12728"/>
                        <a:pt x="972" y="12675"/>
                        <a:pt x="972" y="12675"/>
                      </a:cubicBezTo>
                      <a:cubicBezTo>
                        <a:pt x="941" y="12581"/>
                        <a:pt x="903" y="12489"/>
                        <a:pt x="872" y="12395"/>
                      </a:cubicBezTo>
                      <a:cubicBezTo>
                        <a:pt x="859" y="12355"/>
                        <a:pt x="832" y="12275"/>
                        <a:pt x="832" y="12275"/>
                      </a:cubicBezTo>
                      <a:cubicBezTo>
                        <a:pt x="840" y="12125"/>
                        <a:pt x="814" y="11842"/>
                        <a:pt x="912" y="11695"/>
                      </a:cubicBezTo>
                      <a:cubicBezTo>
                        <a:pt x="919" y="11655"/>
                        <a:pt x="919" y="11613"/>
                        <a:pt x="932" y="11575"/>
                      </a:cubicBezTo>
                      <a:cubicBezTo>
                        <a:pt x="940" y="11552"/>
                        <a:pt x="961" y="11536"/>
                        <a:pt x="972" y="11515"/>
                      </a:cubicBezTo>
                      <a:cubicBezTo>
                        <a:pt x="988" y="11483"/>
                        <a:pt x="1001" y="11449"/>
                        <a:pt x="1012" y="11415"/>
                      </a:cubicBezTo>
                      <a:cubicBezTo>
                        <a:pt x="1021" y="11389"/>
                        <a:pt x="1019" y="11359"/>
                        <a:pt x="1032" y="11335"/>
                      </a:cubicBezTo>
                      <a:cubicBezTo>
                        <a:pt x="1080" y="11249"/>
                        <a:pt x="1173" y="11154"/>
                        <a:pt x="1232" y="11075"/>
                      </a:cubicBezTo>
                      <a:cubicBezTo>
                        <a:pt x="1320" y="10957"/>
                        <a:pt x="1334" y="10884"/>
                        <a:pt x="1452" y="10795"/>
                      </a:cubicBezTo>
                      <a:cubicBezTo>
                        <a:pt x="1536" y="10598"/>
                        <a:pt x="1649" y="10428"/>
                        <a:pt x="1692" y="10215"/>
                      </a:cubicBezTo>
                      <a:cubicBezTo>
                        <a:pt x="1679" y="10095"/>
                        <a:pt x="1673" y="9974"/>
                        <a:pt x="1652" y="9855"/>
                      </a:cubicBezTo>
                      <a:cubicBezTo>
                        <a:pt x="1646" y="9820"/>
                        <a:pt x="1624" y="9789"/>
                        <a:pt x="1612" y="9755"/>
                      </a:cubicBezTo>
                      <a:cubicBezTo>
                        <a:pt x="1511" y="9472"/>
                        <a:pt x="1385" y="9202"/>
                        <a:pt x="1252" y="8935"/>
                      </a:cubicBezTo>
                      <a:cubicBezTo>
                        <a:pt x="1219" y="8868"/>
                        <a:pt x="1182" y="8803"/>
                        <a:pt x="1152" y="8735"/>
                      </a:cubicBezTo>
                      <a:cubicBezTo>
                        <a:pt x="1082" y="8577"/>
                        <a:pt x="1160" y="8647"/>
                        <a:pt x="1052" y="8575"/>
                      </a:cubicBezTo>
                      <a:cubicBezTo>
                        <a:pt x="1023" y="8516"/>
                        <a:pt x="1004" y="8452"/>
                        <a:pt x="972" y="8395"/>
                      </a:cubicBezTo>
                      <a:cubicBezTo>
                        <a:pt x="905" y="8275"/>
                        <a:pt x="925" y="8348"/>
                        <a:pt x="832" y="8255"/>
                      </a:cubicBezTo>
                      <a:cubicBezTo>
                        <a:pt x="795" y="8218"/>
                        <a:pt x="769" y="8172"/>
                        <a:pt x="732" y="8135"/>
                      </a:cubicBezTo>
                      <a:cubicBezTo>
                        <a:pt x="704" y="8050"/>
                        <a:pt x="626" y="7964"/>
                        <a:pt x="552" y="7915"/>
                      </a:cubicBezTo>
                      <a:cubicBezTo>
                        <a:pt x="479" y="7805"/>
                        <a:pt x="552" y="7898"/>
                        <a:pt x="452" y="7815"/>
                      </a:cubicBezTo>
                      <a:cubicBezTo>
                        <a:pt x="255" y="7651"/>
                        <a:pt x="509" y="7852"/>
                        <a:pt x="352" y="7695"/>
                      </a:cubicBezTo>
                      <a:cubicBezTo>
                        <a:pt x="327" y="7670"/>
                        <a:pt x="246" y="7618"/>
                        <a:pt x="212" y="7595"/>
                      </a:cubicBezTo>
                      <a:cubicBezTo>
                        <a:pt x="174" y="7480"/>
                        <a:pt x="91" y="7392"/>
                        <a:pt x="52" y="7275"/>
                      </a:cubicBezTo>
                      <a:cubicBezTo>
                        <a:pt x="65" y="7168"/>
                        <a:pt x="104" y="7062"/>
                        <a:pt x="92" y="6955"/>
                      </a:cubicBezTo>
                      <a:cubicBezTo>
                        <a:pt x="89" y="6925"/>
                        <a:pt x="15" y="6945"/>
                        <a:pt x="12" y="6915"/>
                      </a:cubicBezTo>
                      <a:cubicBezTo>
                        <a:pt x="0" y="6809"/>
                        <a:pt x="175" y="6645"/>
                        <a:pt x="232" y="6575"/>
                      </a:cubicBezTo>
                      <a:cubicBezTo>
                        <a:pt x="262" y="6538"/>
                        <a:pt x="280" y="6491"/>
                        <a:pt x="312" y="6455"/>
                      </a:cubicBezTo>
                      <a:cubicBezTo>
                        <a:pt x="359" y="6401"/>
                        <a:pt x="432" y="6368"/>
                        <a:pt x="492" y="6335"/>
                      </a:cubicBezTo>
                      <a:cubicBezTo>
                        <a:pt x="665" y="6239"/>
                        <a:pt x="800" y="6099"/>
                        <a:pt x="992" y="6035"/>
                      </a:cubicBezTo>
                      <a:cubicBezTo>
                        <a:pt x="1076" y="6007"/>
                        <a:pt x="1166" y="5999"/>
                        <a:pt x="1252" y="5975"/>
                      </a:cubicBezTo>
                      <a:cubicBezTo>
                        <a:pt x="1402" y="5862"/>
                        <a:pt x="1576" y="5814"/>
                        <a:pt x="1752" y="5755"/>
                      </a:cubicBezTo>
                      <a:cubicBezTo>
                        <a:pt x="1837" y="5727"/>
                        <a:pt x="1905" y="5657"/>
                        <a:pt x="1992" y="5635"/>
                      </a:cubicBezTo>
                      <a:cubicBezTo>
                        <a:pt x="2019" y="5628"/>
                        <a:pt x="2045" y="5622"/>
                        <a:pt x="2072" y="5615"/>
                      </a:cubicBezTo>
                      <a:cubicBezTo>
                        <a:pt x="2164" y="5554"/>
                        <a:pt x="2268" y="5530"/>
                        <a:pt x="2372" y="5495"/>
                      </a:cubicBezTo>
                      <a:cubicBezTo>
                        <a:pt x="2663" y="5398"/>
                        <a:pt x="2374" y="5474"/>
                        <a:pt x="2552" y="5395"/>
                      </a:cubicBezTo>
                      <a:cubicBezTo>
                        <a:pt x="2635" y="5358"/>
                        <a:pt x="2686" y="5352"/>
                        <a:pt x="2772" y="5335"/>
                      </a:cubicBezTo>
                      <a:cubicBezTo>
                        <a:pt x="3033" y="5161"/>
                        <a:pt x="2765" y="5317"/>
                        <a:pt x="2992" y="5235"/>
                      </a:cubicBezTo>
                      <a:cubicBezTo>
                        <a:pt x="3034" y="5220"/>
                        <a:pt x="3071" y="5192"/>
                        <a:pt x="3112" y="5175"/>
                      </a:cubicBezTo>
                      <a:cubicBezTo>
                        <a:pt x="3231" y="5125"/>
                        <a:pt x="3352" y="5083"/>
                        <a:pt x="3472" y="5035"/>
                      </a:cubicBezTo>
                      <a:cubicBezTo>
                        <a:pt x="3553" y="5003"/>
                        <a:pt x="3631" y="4956"/>
                        <a:pt x="3692" y="4895"/>
                      </a:cubicBezTo>
                      <a:cubicBezTo>
                        <a:pt x="3712" y="4875"/>
                        <a:pt x="3765" y="4860"/>
                        <a:pt x="3752" y="4835"/>
                      </a:cubicBezTo>
                      <a:cubicBezTo>
                        <a:pt x="3740" y="4810"/>
                        <a:pt x="3699" y="4848"/>
                        <a:pt x="3672" y="4855"/>
                      </a:cubicBezTo>
                      <a:cubicBezTo>
                        <a:pt x="3748" y="4805"/>
                        <a:pt x="3781" y="4730"/>
                        <a:pt x="3852" y="4675"/>
                      </a:cubicBezTo>
                      <a:cubicBezTo>
                        <a:pt x="3890" y="4645"/>
                        <a:pt x="3931" y="4620"/>
                        <a:pt x="3972" y="4595"/>
                      </a:cubicBezTo>
                      <a:cubicBezTo>
                        <a:pt x="3998" y="4580"/>
                        <a:pt x="4028" y="4573"/>
                        <a:pt x="4052" y="4555"/>
                      </a:cubicBezTo>
                      <a:cubicBezTo>
                        <a:pt x="4082" y="4532"/>
                        <a:pt x="4103" y="4500"/>
                        <a:pt x="4132" y="4475"/>
                      </a:cubicBezTo>
                      <a:cubicBezTo>
                        <a:pt x="4261" y="4364"/>
                        <a:pt x="4113" y="4534"/>
                        <a:pt x="4292" y="4355"/>
                      </a:cubicBezTo>
                      <a:cubicBezTo>
                        <a:pt x="4309" y="4338"/>
                        <a:pt x="4312" y="4309"/>
                        <a:pt x="4332" y="4295"/>
                      </a:cubicBezTo>
                      <a:cubicBezTo>
                        <a:pt x="4381" y="4260"/>
                        <a:pt x="4442" y="4248"/>
                        <a:pt x="4492" y="4215"/>
                      </a:cubicBezTo>
                      <a:cubicBezTo>
                        <a:pt x="4505" y="4182"/>
                        <a:pt x="4511" y="4144"/>
                        <a:pt x="4532" y="4115"/>
                      </a:cubicBezTo>
                      <a:cubicBezTo>
                        <a:pt x="4546" y="4095"/>
                        <a:pt x="4572" y="4089"/>
                        <a:pt x="4592" y="4075"/>
                      </a:cubicBezTo>
                      <a:cubicBezTo>
                        <a:pt x="4698" y="3999"/>
                        <a:pt x="4635" y="4027"/>
                        <a:pt x="4732" y="3995"/>
                      </a:cubicBezTo>
                      <a:cubicBezTo>
                        <a:pt x="4878" y="3752"/>
                        <a:pt x="4700" y="4030"/>
                        <a:pt x="4872" y="3815"/>
                      </a:cubicBezTo>
                      <a:cubicBezTo>
                        <a:pt x="4902" y="3777"/>
                        <a:pt x="4925" y="3735"/>
                        <a:pt x="4952" y="3695"/>
                      </a:cubicBezTo>
                      <a:cubicBezTo>
                        <a:pt x="4965" y="3675"/>
                        <a:pt x="4992" y="3635"/>
                        <a:pt x="4992" y="3635"/>
                      </a:cubicBezTo>
                      <a:cubicBezTo>
                        <a:pt x="4985" y="3582"/>
                        <a:pt x="4995" y="3524"/>
                        <a:pt x="4972" y="3475"/>
                      </a:cubicBezTo>
                      <a:cubicBezTo>
                        <a:pt x="4940" y="3406"/>
                        <a:pt x="4879" y="3355"/>
                        <a:pt x="4832" y="3295"/>
                      </a:cubicBezTo>
                      <a:cubicBezTo>
                        <a:pt x="4724" y="3156"/>
                        <a:pt x="4825" y="3228"/>
                        <a:pt x="4692" y="3095"/>
                      </a:cubicBezTo>
                      <a:cubicBezTo>
                        <a:pt x="4645" y="3048"/>
                        <a:pt x="4607" y="3054"/>
                        <a:pt x="4552" y="3015"/>
                      </a:cubicBezTo>
                      <a:cubicBezTo>
                        <a:pt x="4529" y="2999"/>
                        <a:pt x="4514" y="2973"/>
                        <a:pt x="4492" y="2955"/>
                      </a:cubicBezTo>
                      <a:cubicBezTo>
                        <a:pt x="4440" y="2913"/>
                        <a:pt x="4385" y="2875"/>
                        <a:pt x="4332" y="2835"/>
                      </a:cubicBezTo>
                      <a:cubicBezTo>
                        <a:pt x="4315" y="2823"/>
                        <a:pt x="4202" y="2799"/>
                        <a:pt x="4192" y="2795"/>
                      </a:cubicBezTo>
                      <a:cubicBezTo>
                        <a:pt x="4080" y="2750"/>
                        <a:pt x="4029" y="2718"/>
                        <a:pt x="3912" y="2695"/>
                      </a:cubicBezTo>
                      <a:cubicBezTo>
                        <a:pt x="3892" y="2675"/>
                        <a:pt x="3877" y="2649"/>
                        <a:pt x="3852" y="2635"/>
                      </a:cubicBezTo>
                      <a:cubicBezTo>
                        <a:pt x="3828" y="2621"/>
                        <a:pt x="3798" y="2623"/>
                        <a:pt x="3772" y="2615"/>
                      </a:cubicBezTo>
                      <a:cubicBezTo>
                        <a:pt x="3645" y="2579"/>
                        <a:pt x="3518" y="2557"/>
                        <a:pt x="3392" y="2515"/>
                      </a:cubicBezTo>
                      <a:cubicBezTo>
                        <a:pt x="2664" y="2526"/>
                        <a:pt x="2174" y="2527"/>
                        <a:pt x="1512" y="2615"/>
                      </a:cubicBezTo>
                      <a:cubicBezTo>
                        <a:pt x="1345" y="2602"/>
                        <a:pt x="1177" y="2602"/>
                        <a:pt x="1012" y="2575"/>
                      </a:cubicBezTo>
                      <a:cubicBezTo>
                        <a:pt x="974" y="2569"/>
                        <a:pt x="946" y="2534"/>
                        <a:pt x="912" y="2515"/>
                      </a:cubicBezTo>
                      <a:cubicBezTo>
                        <a:pt x="825" y="2467"/>
                        <a:pt x="734" y="2450"/>
                        <a:pt x="652" y="2395"/>
                      </a:cubicBezTo>
                      <a:cubicBezTo>
                        <a:pt x="579" y="2285"/>
                        <a:pt x="652" y="2378"/>
                        <a:pt x="552" y="2295"/>
                      </a:cubicBezTo>
                      <a:cubicBezTo>
                        <a:pt x="502" y="2253"/>
                        <a:pt x="435" y="2167"/>
                        <a:pt x="392" y="2115"/>
                      </a:cubicBezTo>
                      <a:cubicBezTo>
                        <a:pt x="377" y="2097"/>
                        <a:pt x="364" y="2076"/>
                        <a:pt x="352" y="2055"/>
                      </a:cubicBezTo>
                      <a:cubicBezTo>
                        <a:pt x="323" y="2003"/>
                        <a:pt x="272" y="1895"/>
                        <a:pt x="272" y="1895"/>
                      </a:cubicBezTo>
                      <a:cubicBezTo>
                        <a:pt x="279" y="1595"/>
                        <a:pt x="274" y="1295"/>
                        <a:pt x="292" y="995"/>
                      </a:cubicBezTo>
                      <a:cubicBezTo>
                        <a:pt x="294" y="953"/>
                        <a:pt x="292" y="888"/>
                        <a:pt x="332" y="875"/>
                      </a:cubicBezTo>
                      <a:cubicBezTo>
                        <a:pt x="438" y="840"/>
                        <a:pt x="374" y="867"/>
                        <a:pt x="512" y="775"/>
                      </a:cubicBezTo>
                      <a:cubicBezTo>
                        <a:pt x="540" y="756"/>
                        <a:pt x="445" y="762"/>
                        <a:pt x="412" y="755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3888000" y="14400"/>
                  <a:ext cx="1415520" cy="1470240"/>
                </a:xfrm>
                <a:custGeom>
                  <a:avLst/>
                  <a:gdLst/>
                  <a:ahLst/>
                  <a:rect l="l" t="t" r="r" b="b"/>
                  <a:pathLst>
                    <a:path w="2116" h="2500">
                      <a:moveTo>
                        <a:pt x="2116" y="0"/>
                      </a:moveTo>
                      <a:cubicBezTo>
                        <a:pt x="2101" y="75"/>
                        <a:pt x="2071" y="145"/>
                        <a:pt x="2056" y="220"/>
                      </a:cubicBezTo>
                      <a:cubicBezTo>
                        <a:pt x="2055" y="223"/>
                        <a:pt x="2032" y="361"/>
                        <a:pt x="2016" y="380"/>
                      </a:cubicBezTo>
                      <a:cubicBezTo>
                        <a:pt x="1995" y="406"/>
                        <a:pt x="1961" y="418"/>
                        <a:pt x="1936" y="440"/>
                      </a:cubicBezTo>
                      <a:cubicBezTo>
                        <a:pt x="1894" y="478"/>
                        <a:pt x="1856" y="520"/>
                        <a:pt x="1816" y="560"/>
                      </a:cubicBezTo>
                      <a:cubicBezTo>
                        <a:pt x="1770" y="606"/>
                        <a:pt x="1687" y="657"/>
                        <a:pt x="1636" y="700"/>
                      </a:cubicBezTo>
                      <a:cubicBezTo>
                        <a:pt x="1536" y="783"/>
                        <a:pt x="1621" y="745"/>
                        <a:pt x="1516" y="780"/>
                      </a:cubicBezTo>
                      <a:cubicBezTo>
                        <a:pt x="1450" y="846"/>
                        <a:pt x="1320" y="958"/>
                        <a:pt x="1236" y="1000"/>
                      </a:cubicBezTo>
                      <a:cubicBezTo>
                        <a:pt x="1217" y="1009"/>
                        <a:pt x="1067" y="1038"/>
                        <a:pt x="1056" y="1040"/>
                      </a:cubicBezTo>
                      <a:cubicBezTo>
                        <a:pt x="973" y="1095"/>
                        <a:pt x="908" y="1149"/>
                        <a:pt x="816" y="1180"/>
                      </a:cubicBezTo>
                      <a:cubicBezTo>
                        <a:pt x="759" y="1265"/>
                        <a:pt x="694" y="1334"/>
                        <a:pt x="636" y="1420"/>
                      </a:cubicBezTo>
                      <a:cubicBezTo>
                        <a:pt x="623" y="1440"/>
                        <a:pt x="609" y="1460"/>
                        <a:pt x="596" y="1480"/>
                      </a:cubicBezTo>
                      <a:cubicBezTo>
                        <a:pt x="583" y="1500"/>
                        <a:pt x="556" y="1540"/>
                        <a:pt x="556" y="1540"/>
                      </a:cubicBezTo>
                      <a:cubicBezTo>
                        <a:pt x="549" y="1760"/>
                        <a:pt x="579" y="1984"/>
                        <a:pt x="536" y="2200"/>
                      </a:cubicBezTo>
                      <a:cubicBezTo>
                        <a:pt x="528" y="2241"/>
                        <a:pt x="458" y="2236"/>
                        <a:pt x="416" y="2240"/>
                      </a:cubicBezTo>
                      <a:cubicBezTo>
                        <a:pt x="336" y="2247"/>
                        <a:pt x="256" y="2253"/>
                        <a:pt x="176" y="2260"/>
                      </a:cubicBezTo>
                      <a:cubicBezTo>
                        <a:pt x="156" y="2280"/>
                        <a:pt x="140" y="2304"/>
                        <a:pt x="116" y="2320"/>
                      </a:cubicBezTo>
                      <a:cubicBezTo>
                        <a:pt x="0" y="2397"/>
                        <a:pt x="105" y="2266"/>
                        <a:pt x="16" y="2400"/>
                      </a:cubicBezTo>
                      <a:cubicBezTo>
                        <a:pt x="38" y="2486"/>
                        <a:pt x="36" y="2453"/>
                        <a:pt x="36" y="250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191480" y="2247120"/>
                  <a:ext cx="3337200" cy="1953360"/>
                </a:xfrm>
                <a:custGeom>
                  <a:avLst/>
                  <a:gdLst/>
                  <a:ahLst/>
                  <a:rect l="l" t="t" r="r" b="b"/>
                  <a:pathLst>
                    <a:path w="5420" h="3474">
                      <a:moveTo>
                        <a:pt x="0" y="0"/>
                      </a:moveTo>
                      <a:cubicBezTo>
                        <a:pt x="47" y="7"/>
                        <a:pt x="97" y="0"/>
                        <a:pt x="140" y="20"/>
                      </a:cubicBezTo>
                      <a:cubicBezTo>
                        <a:pt x="174" y="36"/>
                        <a:pt x="189" y="78"/>
                        <a:pt x="220" y="100"/>
                      </a:cubicBezTo>
                      <a:cubicBezTo>
                        <a:pt x="237" y="112"/>
                        <a:pt x="260" y="113"/>
                        <a:pt x="280" y="120"/>
                      </a:cubicBezTo>
                      <a:cubicBezTo>
                        <a:pt x="374" y="214"/>
                        <a:pt x="324" y="156"/>
                        <a:pt x="420" y="300"/>
                      </a:cubicBezTo>
                      <a:cubicBezTo>
                        <a:pt x="433" y="320"/>
                        <a:pt x="460" y="360"/>
                        <a:pt x="460" y="360"/>
                      </a:cubicBezTo>
                      <a:cubicBezTo>
                        <a:pt x="477" y="463"/>
                        <a:pt x="503" y="557"/>
                        <a:pt x="520" y="660"/>
                      </a:cubicBezTo>
                      <a:cubicBezTo>
                        <a:pt x="527" y="840"/>
                        <a:pt x="515" y="1022"/>
                        <a:pt x="540" y="1200"/>
                      </a:cubicBezTo>
                      <a:cubicBezTo>
                        <a:pt x="543" y="1224"/>
                        <a:pt x="583" y="1223"/>
                        <a:pt x="600" y="1240"/>
                      </a:cubicBezTo>
                      <a:cubicBezTo>
                        <a:pt x="717" y="1357"/>
                        <a:pt x="592" y="1296"/>
                        <a:pt x="760" y="1380"/>
                      </a:cubicBezTo>
                      <a:cubicBezTo>
                        <a:pt x="1046" y="1523"/>
                        <a:pt x="1368" y="1561"/>
                        <a:pt x="1680" y="1600"/>
                      </a:cubicBezTo>
                      <a:cubicBezTo>
                        <a:pt x="2000" y="1593"/>
                        <a:pt x="2320" y="1599"/>
                        <a:pt x="2640" y="1580"/>
                      </a:cubicBezTo>
                      <a:cubicBezTo>
                        <a:pt x="2700" y="1576"/>
                        <a:pt x="2742" y="1513"/>
                        <a:pt x="2800" y="1500"/>
                      </a:cubicBezTo>
                      <a:cubicBezTo>
                        <a:pt x="2852" y="1488"/>
                        <a:pt x="2907" y="1487"/>
                        <a:pt x="2960" y="1480"/>
                      </a:cubicBezTo>
                      <a:cubicBezTo>
                        <a:pt x="3040" y="1487"/>
                        <a:pt x="3123" y="1479"/>
                        <a:pt x="3200" y="1500"/>
                      </a:cubicBezTo>
                      <a:cubicBezTo>
                        <a:pt x="3292" y="1525"/>
                        <a:pt x="3450" y="1613"/>
                        <a:pt x="3540" y="1680"/>
                      </a:cubicBezTo>
                      <a:cubicBezTo>
                        <a:pt x="3574" y="1706"/>
                        <a:pt x="3609" y="1731"/>
                        <a:pt x="3640" y="1760"/>
                      </a:cubicBezTo>
                      <a:cubicBezTo>
                        <a:pt x="3689" y="1805"/>
                        <a:pt x="3780" y="1900"/>
                        <a:pt x="3780" y="1900"/>
                      </a:cubicBezTo>
                      <a:cubicBezTo>
                        <a:pt x="3767" y="2176"/>
                        <a:pt x="3754" y="2319"/>
                        <a:pt x="3720" y="2560"/>
                      </a:cubicBezTo>
                      <a:cubicBezTo>
                        <a:pt x="3727" y="2647"/>
                        <a:pt x="3729" y="2734"/>
                        <a:pt x="3740" y="2820"/>
                      </a:cubicBezTo>
                      <a:cubicBezTo>
                        <a:pt x="3743" y="2841"/>
                        <a:pt x="3744" y="2866"/>
                        <a:pt x="3760" y="2880"/>
                      </a:cubicBezTo>
                      <a:cubicBezTo>
                        <a:pt x="3837" y="2947"/>
                        <a:pt x="3935" y="2984"/>
                        <a:pt x="4020" y="3040"/>
                      </a:cubicBezTo>
                      <a:cubicBezTo>
                        <a:pt x="4048" y="3058"/>
                        <a:pt x="4050" y="3105"/>
                        <a:pt x="4080" y="3120"/>
                      </a:cubicBezTo>
                      <a:cubicBezTo>
                        <a:pt x="4122" y="3141"/>
                        <a:pt x="4173" y="3133"/>
                        <a:pt x="4220" y="3140"/>
                      </a:cubicBezTo>
                      <a:cubicBezTo>
                        <a:pt x="4287" y="3162"/>
                        <a:pt x="4358" y="3189"/>
                        <a:pt x="4420" y="3220"/>
                      </a:cubicBezTo>
                      <a:cubicBezTo>
                        <a:pt x="4497" y="3259"/>
                        <a:pt x="4515" y="3296"/>
                        <a:pt x="4600" y="3300"/>
                      </a:cubicBezTo>
                      <a:cubicBezTo>
                        <a:pt x="4840" y="3312"/>
                        <a:pt x="5080" y="3313"/>
                        <a:pt x="5320" y="3320"/>
                      </a:cubicBezTo>
                      <a:cubicBezTo>
                        <a:pt x="5327" y="3340"/>
                        <a:pt x="5334" y="3360"/>
                        <a:pt x="5340" y="3380"/>
                      </a:cubicBezTo>
                      <a:cubicBezTo>
                        <a:pt x="5348" y="3406"/>
                        <a:pt x="5341" y="3441"/>
                        <a:pt x="5360" y="3460"/>
                      </a:cubicBezTo>
                      <a:cubicBezTo>
                        <a:pt x="5374" y="3474"/>
                        <a:pt x="5400" y="3460"/>
                        <a:pt x="5420" y="346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663200" y="75852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888000" y="66564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21000000">
                  <a:off x="3080160" y="2999520"/>
                  <a:ext cx="707760" cy="4278960"/>
                </a:xfrm>
                <a:custGeom>
                  <a:avLst/>
                  <a:gdLst/>
                  <a:ahLst/>
                  <a:rect l="l" t="t" r="r" b="b"/>
                  <a:pathLst>
                    <a:path w="1453" h="8264">
                      <a:moveTo>
                        <a:pt x="211" y="0"/>
                      </a:moveTo>
                      <a:cubicBezTo>
                        <a:pt x="220" y="420"/>
                        <a:pt x="251" y="840"/>
                        <a:pt x="251" y="1260"/>
                      </a:cubicBezTo>
                      <a:cubicBezTo>
                        <a:pt x="251" y="1496"/>
                        <a:pt x="318" y="1651"/>
                        <a:pt x="111" y="1720"/>
                      </a:cubicBezTo>
                      <a:cubicBezTo>
                        <a:pt x="96" y="1735"/>
                        <a:pt x="14" y="1809"/>
                        <a:pt x="11" y="1840"/>
                      </a:cubicBezTo>
                      <a:cubicBezTo>
                        <a:pt x="0" y="1948"/>
                        <a:pt x="52" y="2028"/>
                        <a:pt x="91" y="2120"/>
                      </a:cubicBezTo>
                      <a:cubicBezTo>
                        <a:pt x="144" y="2243"/>
                        <a:pt x="204" y="2356"/>
                        <a:pt x="291" y="2460"/>
                      </a:cubicBezTo>
                      <a:cubicBezTo>
                        <a:pt x="420" y="2615"/>
                        <a:pt x="280" y="2413"/>
                        <a:pt x="411" y="2600"/>
                      </a:cubicBezTo>
                      <a:cubicBezTo>
                        <a:pt x="439" y="2639"/>
                        <a:pt x="491" y="2720"/>
                        <a:pt x="491" y="2720"/>
                      </a:cubicBezTo>
                      <a:cubicBezTo>
                        <a:pt x="484" y="2853"/>
                        <a:pt x="471" y="2987"/>
                        <a:pt x="471" y="3120"/>
                      </a:cubicBezTo>
                      <a:cubicBezTo>
                        <a:pt x="471" y="3217"/>
                        <a:pt x="483" y="3373"/>
                        <a:pt x="551" y="3460"/>
                      </a:cubicBezTo>
                      <a:cubicBezTo>
                        <a:pt x="580" y="3497"/>
                        <a:pt x="622" y="3523"/>
                        <a:pt x="651" y="3560"/>
                      </a:cubicBezTo>
                      <a:cubicBezTo>
                        <a:pt x="690" y="3610"/>
                        <a:pt x="713" y="3670"/>
                        <a:pt x="751" y="3720"/>
                      </a:cubicBezTo>
                      <a:cubicBezTo>
                        <a:pt x="791" y="3879"/>
                        <a:pt x="816" y="3995"/>
                        <a:pt x="691" y="4120"/>
                      </a:cubicBezTo>
                      <a:cubicBezTo>
                        <a:pt x="649" y="4308"/>
                        <a:pt x="596" y="4444"/>
                        <a:pt x="671" y="4640"/>
                      </a:cubicBezTo>
                      <a:cubicBezTo>
                        <a:pt x="720" y="4770"/>
                        <a:pt x="843" y="4861"/>
                        <a:pt x="911" y="4980"/>
                      </a:cubicBezTo>
                      <a:cubicBezTo>
                        <a:pt x="938" y="5027"/>
                        <a:pt x="969" y="5071"/>
                        <a:pt x="991" y="5120"/>
                      </a:cubicBezTo>
                      <a:cubicBezTo>
                        <a:pt x="1050" y="5252"/>
                        <a:pt x="1003" y="5268"/>
                        <a:pt x="1111" y="5340"/>
                      </a:cubicBezTo>
                      <a:cubicBezTo>
                        <a:pt x="1124" y="5360"/>
                        <a:pt x="1132" y="5385"/>
                        <a:pt x="1151" y="5400"/>
                      </a:cubicBezTo>
                      <a:cubicBezTo>
                        <a:pt x="1167" y="5413"/>
                        <a:pt x="1196" y="5405"/>
                        <a:pt x="1211" y="5420"/>
                      </a:cubicBezTo>
                      <a:cubicBezTo>
                        <a:pt x="1245" y="5454"/>
                        <a:pt x="1291" y="5540"/>
                        <a:pt x="1291" y="5540"/>
                      </a:cubicBezTo>
                      <a:cubicBezTo>
                        <a:pt x="1279" y="5756"/>
                        <a:pt x="1290" y="5863"/>
                        <a:pt x="1231" y="6040"/>
                      </a:cubicBezTo>
                      <a:cubicBezTo>
                        <a:pt x="1244" y="6120"/>
                        <a:pt x="1249" y="6218"/>
                        <a:pt x="1311" y="6280"/>
                      </a:cubicBezTo>
                      <a:cubicBezTo>
                        <a:pt x="1348" y="6317"/>
                        <a:pt x="1394" y="6343"/>
                        <a:pt x="1431" y="6380"/>
                      </a:cubicBezTo>
                      <a:cubicBezTo>
                        <a:pt x="1438" y="6400"/>
                        <a:pt x="1453" y="6419"/>
                        <a:pt x="1451" y="6440"/>
                      </a:cubicBezTo>
                      <a:cubicBezTo>
                        <a:pt x="1441" y="6528"/>
                        <a:pt x="1372" y="6629"/>
                        <a:pt x="1331" y="6700"/>
                      </a:cubicBezTo>
                      <a:cubicBezTo>
                        <a:pt x="1324" y="6740"/>
                        <a:pt x="1326" y="6782"/>
                        <a:pt x="1311" y="6820"/>
                      </a:cubicBezTo>
                      <a:cubicBezTo>
                        <a:pt x="1299" y="6851"/>
                        <a:pt x="1256" y="6867"/>
                        <a:pt x="1251" y="6900"/>
                      </a:cubicBezTo>
                      <a:cubicBezTo>
                        <a:pt x="1204" y="7180"/>
                        <a:pt x="1310" y="7261"/>
                        <a:pt x="1151" y="7420"/>
                      </a:cubicBezTo>
                      <a:cubicBezTo>
                        <a:pt x="1129" y="7486"/>
                        <a:pt x="1118" y="7556"/>
                        <a:pt x="1091" y="7620"/>
                      </a:cubicBezTo>
                      <a:cubicBezTo>
                        <a:pt x="1082" y="7642"/>
                        <a:pt x="1063" y="7659"/>
                        <a:pt x="1051" y="7680"/>
                      </a:cubicBezTo>
                      <a:cubicBezTo>
                        <a:pt x="1011" y="7749"/>
                        <a:pt x="1013" y="7753"/>
                        <a:pt x="991" y="7820"/>
                      </a:cubicBezTo>
                      <a:cubicBezTo>
                        <a:pt x="1011" y="8059"/>
                        <a:pt x="951" y="8060"/>
                        <a:pt x="1131" y="8120"/>
                      </a:cubicBezTo>
                      <a:cubicBezTo>
                        <a:pt x="1138" y="8140"/>
                        <a:pt x="1154" y="8159"/>
                        <a:pt x="1151" y="8180"/>
                      </a:cubicBezTo>
                      <a:cubicBezTo>
                        <a:pt x="1147" y="8204"/>
                        <a:pt x="1089" y="8231"/>
                        <a:pt x="1111" y="8240"/>
                      </a:cubicBezTo>
                      <a:cubicBezTo>
                        <a:pt x="1166" y="8264"/>
                        <a:pt x="1231" y="8240"/>
                        <a:pt x="1291" y="824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 txBox="1"/>
                <p:nvPr/>
              </p:nvSpPr>
              <p:spPr>
                <a:xfrm>
                  <a:off x="4798080" y="851760"/>
                  <a:ext cx="1786320" cy="454680"/>
                </a:xfrm>
                <a:prstGeom prst="rect">
                  <a:avLst/>
                </a:prstGeom>
              </p:spPr>
              <p:txBody>
                <a:bodyPr wrap="none" fromWordArt="1" lIns="90000" rIns="90000" tIns="46800" bIns="46800" anchor="t" anchorCtr="1">
                  <a:prstTxWarp prst="textArchUp">
                    <a:avLst>
                      <a:gd name="adj" fmla="val 1080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Bookman Old Style"/>
                    </a:rPr>
                    <a:t>Оксидия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Bookman Old Style"/>
                    <a:ea typeface="Bookman Old Style"/>
                  </a:endParaRPr>
                </a:p>
              </p:txBody>
            </p:sp>
            <p:sp>
              <p:nvSpPr>
                <p:cNvPr id="208" name=""/>
                <p:cNvSpPr txBox="1"/>
                <p:nvPr/>
              </p:nvSpPr>
              <p:spPr>
                <a:xfrm>
                  <a:off x="2168640" y="200520"/>
                  <a:ext cx="1491480" cy="371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Bookman Old Style"/>
                    </a:rPr>
                    <a:t>Простое</a:t>
                  </a:r>
                  <a:endPara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Bookman Old Style"/>
                    <a:ea typeface="Bookman Old Style"/>
                  </a:endParaRPr>
                </a:p>
              </p:txBody>
            </p:sp>
            <p:sp>
              <p:nvSpPr>
                <p:cNvPr id="209" name=""/>
                <p:cNvSpPr txBox="1"/>
                <p:nvPr/>
              </p:nvSpPr>
              <p:spPr>
                <a:xfrm>
                  <a:off x="4393800" y="5875200"/>
                  <a:ext cx="2415600" cy="3718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2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Bookman Old Style"/>
                    </a:rPr>
                    <a:t>Гидроксидан</a:t>
                  </a:r>
                  <a:endPara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Bookman Old Style"/>
                    <a:ea typeface="Bookman Old Style"/>
                  </a:endParaRPr>
                </a:p>
              </p:txBody>
            </p:sp>
            <p:sp>
              <p:nvSpPr>
                <p:cNvPr id="210" name=""/>
                <p:cNvSpPr txBox="1"/>
                <p:nvPr/>
              </p:nvSpPr>
              <p:spPr>
                <a:xfrm>
                  <a:off x="1562040" y="4200840"/>
                  <a:ext cx="971280" cy="25668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000000"/>
                        </a:solidFill>
                        <a:miter/>
                      </a:ln>
                      <a:solidFill>
                        <a:srgbClr val="000000"/>
                      </a:solidFill>
                      <a:latin typeface="Bookman Old Style"/>
                    </a:rPr>
                    <a:t>Соления</a:t>
                  </a:r>
                  <a:endPara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latin typeface="Bookman Old Style"/>
                    <a:ea typeface="Bookman Old Style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708160" y="234000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7022880" y="215388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000400" y="150300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191480" y="475884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416280" y="457272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3786840" y="2991240"/>
                  <a:ext cx="201960" cy="185760"/>
                </a:xfrm>
                <a:prstGeom prst="flowChartConnector">
                  <a:avLst/>
                </a:prstGeom>
                <a:solidFill>
                  <a:srgbClr val="ff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7" name=""/>
              <p:cNvSpPr/>
              <p:nvPr/>
            </p:nvSpPr>
            <p:spPr>
              <a:xfrm>
                <a:off x="1546200" y="881280"/>
                <a:ext cx="1295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Металл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2914560" y="73656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Неметаллы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18200" y="1170000"/>
                <a:ext cx="1728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г. Кислотный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075280" y="261000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Bookman Old Style"/>
                  </a:rPr>
                  <a:t>Амфо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442200" y="2320920"/>
                <a:ext cx="1081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Bookman Old Style"/>
                  </a:rPr>
                  <a:t>Основ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562560" y="4986360"/>
                <a:ext cx="1512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Bookman Old Style"/>
                  </a:rPr>
                  <a:t>Амфобур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649840" y="419436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Bookman Old Style"/>
                  </a:rPr>
                  <a:t>Основинс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130560" y="3257640"/>
                <a:ext cx="151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Bookman Old Style"/>
                  </a:rPr>
                  <a:t>Кислотс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482920" y="5418360"/>
                <a:ext cx="228600" cy="228600"/>
              </a:xfrm>
              <a:prstGeom prst="flowChartConnector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266920" y="5705640"/>
                <a:ext cx="122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600" spc="-1" strike="noStrike">
                    <a:solidFill>
                      <a:srgbClr val="000000"/>
                    </a:solidFill>
                    <a:latin typeface="Bookman Old Style"/>
                  </a:rPr>
                  <a:t>Нормов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4500720" y="32130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99"/>
                  </a:solidFill>
                  <a:latin typeface="Bookman Old Style"/>
                </a:rPr>
                <a:t>HCl</a:t>
              </a:r>
              <a:r>
                <a:rPr b="1" lang="ru-RU" sz="1800" spc="-1" strike="noStrike">
                  <a:solidFill>
                    <a:srgbClr val="333399"/>
                  </a:solidFill>
                  <a:latin typeface="Bookman Old Style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427640" y="5373720"/>
              <a:ext cx="115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Be(OH)</a:t>
              </a:r>
              <a:r>
                <a:rPr b="1" lang="en-US" sz="900" spc="-1" strike="noStrike">
                  <a:solidFill>
                    <a:srgbClr val="333399"/>
                  </a:solidFill>
                  <a:latin typeface="Bookman Old Style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72360" y="4869000"/>
              <a:ext cx="100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NaO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364000" y="1557360"/>
              <a:ext cx="100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CO</a:t>
              </a:r>
              <a:r>
                <a:rPr b="1" lang="en-US" sz="1000" spc="-1" strike="noStrike">
                  <a:solidFill>
                    <a:srgbClr val="333399"/>
                  </a:solidFill>
                  <a:latin typeface="Bookman Old Style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732720" y="2708280"/>
              <a:ext cx="1008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Ca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32360" y="2349360"/>
              <a:ext cx="71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Z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80000" y="33336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O</a:t>
              </a:r>
              <a:r>
                <a:rPr b="1" lang="en-US" sz="1000" spc="-1" strike="noStrike">
                  <a:solidFill>
                    <a:srgbClr val="333399"/>
                  </a:solidFill>
                  <a:latin typeface="Bookman Old Style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050920" y="620640"/>
              <a:ext cx="7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C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68360" y="4869000"/>
              <a:ext cx="107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Bookman Old Style"/>
                </a:rPr>
                <a:t>MgCl</a:t>
              </a:r>
              <a:r>
                <a:rPr b="1" lang="en-US" sz="1000" spc="-1" strike="noStrike">
                  <a:solidFill>
                    <a:srgbClr val="333399"/>
                  </a:solidFill>
                  <a:latin typeface="Bookman Old Style"/>
                </a:rPr>
                <a:t>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900000" y="2133720"/>
            <a:ext cx="13050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</a:rPr>
              <a:t>Водное море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Bookman Old Style"/>
              <a:ea typeface="Bookman Old Style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2195640" y="3357720"/>
            <a:ext cx="5305320" cy="83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14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3366ff"/>
                </a:solidFill>
                <a:latin typeface="Bookman Old Style"/>
              </a:rPr>
              <a:t>Материк неорганических веществ</a:t>
            </a:r>
            <a:endParaRPr b="0" lang="en-US" sz="2400" spc="1" strike="noStrike">
              <a:ln w="9360">
                <a:solidFill>
                  <a:srgbClr val="333399"/>
                </a:solidFill>
                <a:miter/>
              </a:ln>
              <a:solidFill>
                <a:srgbClr val="3366ff"/>
              </a:solidFill>
              <a:latin typeface="Bookman Old Style"/>
              <a:ea typeface="Bookman Old Style"/>
            </a:endParaRPr>
          </a:p>
        </p:txBody>
      </p:sp>
      <p:sp>
        <p:nvSpPr>
          <p:cNvPr id="238" name=""/>
          <p:cNvSpPr/>
          <p:nvPr/>
        </p:nvSpPr>
        <p:spPr>
          <a:xfrm>
            <a:off x="6084720" y="-171360"/>
            <a:ext cx="3183120" cy="7119720"/>
          </a:xfrm>
          <a:custGeom>
            <a:avLst/>
            <a:gdLst/>
            <a:ahLst/>
            <a:rect l="l" t="t" r="r" b="b"/>
            <a:pathLst>
              <a:path w="2005" h="4485">
                <a:moveTo>
                  <a:pt x="413" y="152"/>
                </a:moveTo>
                <a:cubicBezTo>
                  <a:pt x="331" y="179"/>
                  <a:pt x="116" y="177"/>
                  <a:pt x="40" y="179"/>
                </a:cubicBezTo>
                <a:cubicBezTo>
                  <a:pt x="34" y="196"/>
                  <a:pt x="0" y="237"/>
                  <a:pt x="26" y="254"/>
                </a:cubicBezTo>
                <a:cubicBezTo>
                  <a:pt x="41" y="264"/>
                  <a:pt x="62" y="259"/>
                  <a:pt x="80" y="261"/>
                </a:cubicBezTo>
                <a:cubicBezTo>
                  <a:pt x="82" y="277"/>
                  <a:pt x="77" y="295"/>
                  <a:pt x="87" y="308"/>
                </a:cubicBezTo>
                <a:cubicBezTo>
                  <a:pt x="87" y="308"/>
                  <a:pt x="148" y="324"/>
                  <a:pt x="162" y="328"/>
                </a:cubicBezTo>
                <a:cubicBezTo>
                  <a:pt x="170" y="336"/>
                  <a:pt x="189" y="359"/>
                  <a:pt x="202" y="362"/>
                </a:cubicBezTo>
                <a:cubicBezTo>
                  <a:pt x="238" y="370"/>
                  <a:pt x="311" y="376"/>
                  <a:pt x="311" y="376"/>
                </a:cubicBezTo>
                <a:cubicBezTo>
                  <a:pt x="328" y="403"/>
                  <a:pt x="341" y="402"/>
                  <a:pt x="372" y="410"/>
                </a:cubicBezTo>
                <a:cubicBezTo>
                  <a:pt x="410" y="469"/>
                  <a:pt x="473" y="467"/>
                  <a:pt x="534" y="484"/>
                </a:cubicBezTo>
                <a:cubicBezTo>
                  <a:pt x="548" y="488"/>
                  <a:pt x="561" y="493"/>
                  <a:pt x="575" y="498"/>
                </a:cubicBezTo>
                <a:cubicBezTo>
                  <a:pt x="582" y="500"/>
                  <a:pt x="595" y="505"/>
                  <a:pt x="595" y="505"/>
                </a:cubicBezTo>
                <a:cubicBezTo>
                  <a:pt x="603" y="561"/>
                  <a:pt x="603" y="562"/>
                  <a:pt x="656" y="572"/>
                </a:cubicBezTo>
                <a:cubicBezTo>
                  <a:pt x="694" y="630"/>
                  <a:pt x="644" y="560"/>
                  <a:pt x="690" y="606"/>
                </a:cubicBezTo>
                <a:cubicBezTo>
                  <a:pt x="721" y="637"/>
                  <a:pt x="688" y="641"/>
                  <a:pt x="738" y="654"/>
                </a:cubicBezTo>
                <a:cubicBezTo>
                  <a:pt x="745" y="673"/>
                  <a:pt x="746" y="710"/>
                  <a:pt x="765" y="721"/>
                </a:cubicBezTo>
                <a:cubicBezTo>
                  <a:pt x="775" y="727"/>
                  <a:pt x="788" y="725"/>
                  <a:pt x="799" y="728"/>
                </a:cubicBezTo>
                <a:cubicBezTo>
                  <a:pt x="822" y="734"/>
                  <a:pt x="837" y="748"/>
                  <a:pt x="860" y="755"/>
                </a:cubicBezTo>
                <a:cubicBezTo>
                  <a:pt x="877" y="783"/>
                  <a:pt x="901" y="782"/>
                  <a:pt x="928" y="803"/>
                </a:cubicBezTo>
                <a:cubicBezTo>
                  <a:pt x="934" y="823"/>
                  <a:pt x="948" y="864"/>
                  <a:pt x="948" y="864"/>
                </a:cubicBezTo>
                <a:cubicBezTo>
                  <a:pt x="950" y="909"/>
                  <a:pt x="951" y="954"/>
                  <a:pt x="955" y="999"/>
                </a:cubicBezTo>
                <a:cubicBezTo>
                  <a:pt x="957" y="1025"/>
                  <a:pt x="1002" y="1060"/>
                  <a:pt x="1002" y="1060"/>
                </a:cubicBezTo>
                <a:cubicBezTo>
                  <a:pt x="1019" y="1110"/>
                  <a:pt x="1039" y="1159"/>
                  <a:pt x="1056" y="1209"/>
                </a:cubicBezTo>
                <a:cubicBezTo>
                  <a:pt x="1063" y="1258"/>
                  <a:pt x="1075" y="1316"/>
                  <a:pt x="1104" y="1358"/>
                </a:cubicBezTo>
                <a:cubicBezTo>
                  <a:pt x="1116" y="1415"/>
                  <a:pt x="1157" y="1461"/>
                  <a:pt x="1199" y="1501"/>
                </a:cubicBezTo>
                <a:cubicBezTo>
                  <a:pt x="1210" y="1537"/>
                  <a:pt x="1226" y="1573"/>
                  <a:pt x="1239" y="1609"/>
                </a:cubicBezTo>
                <a:cubicBezTo>
                  <a:pt x="1248" y="1722"/>
                  <a:pt x="1229" y="1679"/>
                  <a:pt x="1287" y="1718"/>
                </a:cubicBezTo>
                <a:cubicBezTo>
                  <a:pt x="1301" y="1740"/>
                  <a:pt x="1313" y="1763"/>
                  <a:pt x="1327" y="1785"/>
                </a:cubicBezTo>
                <a:cubicBezTo>
                  <a:pt x="1347" y="1863"/>
                  <a:pt x="1325" y="1770"/>
                  <a:pt x="1341" y="1948"/>
                </a:cubicBezTo>
                <a:cubicBezTo>
                  <a:pt x="1344" y="1976"/>
                  <a:pt x="1358" y="2003"/>
                  <a:pt x="1368" y="2029"/>
                </a:cubicBezTo>
                <a:cubicBezTo>
                  <a:pt x="1371" y="2038"/>
                  <a:pt x="1370" y="2048"/>
                  <a:pt x="1375" y="2056"/>
                </a:cubicBezTo>
                <a:cubicBezTo>
                  <a:pt x="1387" y="2075"/>
                  <a:pt x="1419" y="2074"/>
                  <a:pt x="1436" y="2077"/>
                </a:cubicBezTo>
                <a:cubicBezTo>
                  <a:pt x="1558" y="2265"/>
                  <a:pt x="1410" y="2535"/>
                  <a:pt x="1476" y="2754"/>
                </a:cubicBezTo>
                <a:cubicBezTo>
                  <a:pt x="1484" y="2811"/>
                  <a:pt x="1497" y="2863"/>
                  <a:pt x="1517" y="2917"/>
                </a:cubicBezTo>
                <a:cubicBezTo>
                  <a:pt x="1524" y="2935"/>
                  <a:pt x="1526" y="2961"/>
                  <a:pt x="1531" y="2978"/>
                </a:cubicBezTo>
                <a:cubicBezTo>
                  <a:pt x="1535" y="2992"/>
                  <a:pt x="1544" y="3019"/>
                  <a:pt x="1544" y="3019"/>
                </a:cubicBezTo>
                <a:cubicBezTo>
                  <a:pt x="1547" y="3185"/>
                  <a:pt x="1532" y="3454"/>
                  <a:pt x="1619" y="3622"/>
                </a:cubicBezTo>
                <a:cubicBezTo>
                  <a:pt x="1625" y="3679"/>
                  <a:pt x="1623" y="3748"/>
                  <a:pt x="1666" y="3791"/>
                </a:cubicBezTo>
                <a:cubicBezTo>
                  <a:pt x="1680" y="3846"/>
                  <a:pt x="1708" y="3886"/>
                  <a:pt x="1747" y="3927"/>
                </a:cubicBezTo>
                <a:cubicBezTo>
                  <a:pt x="1762" y="3971"/>
                  <a:pt x="1751" y="4017"/>
                  <a:pt x="1741" y="4062"/>
                </a:cubicBezTo>
                <a:cubicBezTo>
                  <a:pt x="1735" y="4171"/>
                  <a:pt x="1726" y="4266"/>
                  <a:pt x="1734" y="4374"/>
                </a:cubicBezTo>
                <a:cubicBezTo>
                  <a:pt x="1736" y="4399"/>
                  <a:pt x="1734" y="4425"/>
                  <a:pt x="1741" y="4449"/>
                </a:cubicBezTo>
                <a:cubicBezTo>
                  <a:pt x="1748" y="4470"/>
                  <a:pt x="1802" y="4476"/>
                  <a:pt x="1802" y="4476"/>
                </a:cubicBezTo>
                <a:cubicBezTo>
                  <a:pt x="1860" y="4471"/>
                  <a:pt x="1894" y="4485"/>
                  <a:pt x="1924" y="4442"/>
                </a:cubicBezTo>
                <a:cubicBezTo>
                  <a:pt x="1937" y="4396"/>
                  <a:pt x="1919" y="4447"/>
                  <a:pt x="1951" y="4401"/>
                </a:cubicBezTo>
                <a:cubicBezTo>
                  <a:pt x="1965" y="4381"/>
                  <a:pt x="1967" y="4349"/>
                  <a:pt x="1978" y="4327"/>
                </a:cubicBezTo>
                <a:cubicBezTo>
                  <a:pt x="1961" y="4259"/>
                  <a:pt x="1965" y="4186"/>
                  <a:pt x="1958" y="4116"/>
                </a:cubicBezTo>
                <a:cubicBezTo>
                  <a:pt x="1956" y="4044"/>
                  <a:pt x="1957" y="3972"/>
                  <a:pt x="1951" y="3900"/>
                </a:cubicBezTo>
                <a:cubicBezTo>
                  <a:pt x="1950" y="3890"/>
                  <a:pt x="1940" y="3883"/>
                  <a:pt x="1937" y="3873"/>
                </a:cubicBezTo>
                <a:cubicBezTo>
                  <a:pt x="1922" y="3826"/>
                  <a:pt x="1907" y="3778"/>
                  <a:pt x="1897" y="3730"/>
                </a:cubicBezTo>
                <a:cubicBezTo>
                  <a:pt x="1875" y="3621"/>
                  <a:pt x="1844" y="3514"/>
                  <a:pt x="1822" y="3405"/>
                </a:cubicBezTo>
                <a:cubicBezTo>
                  <a:pt x="1825" y="3247"/>
                  <a:pt x="1811" y="3009"/>
                  <a:pt x="1883" y="2849"/>
                </a:cubicBezTo>
                <a:cubicBezTo>
                  <a:pt x="1892" y="2830"/>
                  <a:pt x="1907" y="2814"/>
                  <a:pt x="1917" y="2795"/>
                </a:cubicBezTo>
                <a:cubicBezTo>
                  <a:pt x="1940" y="2748"/>
                  <a:pt x="1944" y="2698"/>
                  <a:pt x="1971" y="2653"/>
                </a:cubicBezTo>
                <a:cubicBezTo>
                  <a:pt x="1979" y="2613"/>
                  <a:pt x="1995" y="2577"/>
                  <a:pt x="2005" y="2538"/>
                </a:cubicBezTo>
                <a:cubicBezTo>
                  <a:pt x="2001" y="2472"/>
                  <a:pt x="1996" y="2423"/>
                  <a:pt x="1985" y="2361"/>
                </a:cubicBezTo>
                <a:cubicBezTo>
                  <a:pt x="1974" y="1956"/>
                  <a:pt x="1983" y="1951"/>
                  <a:pt x="1958" y="1663"/>
                </a:cubicBezTo>
                <a:cubicBezTo>
                  <a:pt x="1951" y="1581"/>
                  <a:pt x="1949" y="1488"/>
                  <a:pt x="1910" y="1413"/>
                </a:cubicBezTo>
                <a:cubicBezTo>
                  <a:pt x="1883" y="1198"/>
                  <a:pt x="1891" y="1255"/>
                  <a:pt x="1903" y="925"/>
                </a:cubicBezTo>
                <a:cubicBezTo>
                  <a:pt x="1904" y="899"/>
                  <a:pt x="1924" y="850"/>
                  <a:pt x="1924" y="850"/>
                </a:cubicBezTo>
                <a:cubicBezTo>
                  <a:pt x="1931" y="774"/>
                  <a:pt x="1940" y="705"/>
                  <a:pt x="1944" y="627"/>
                </a:cubicBezTo>
                <a:cubicBezTo>
                  <a:pt x="1939" y="455"/>
                  <a:pt x="1974" y="343"/>
                  <a:pt x="1836" y="247"/>
                </a:cubicBezTo>
                <a:cubicBezTo>
                  <a:pt x="1802" y="182"/>
                  <a:pt x="1716" y="146"/>
                  <a:pt x="1646" y="132"/>
                </a:cubicBezTo>
                <a:cubicBezTo>
                  <a:pt x="1599" y="101"/>
                  <a:pt x="1531" y="100"/>
                  <a:pt x="1476" y="91"/>
                </a:cubicBezTo>
                <a:cubicBezTo>
                  <a:pt x="1307" y="63"/>
                  <a:pt x="1159" y="52"/>
                  <a:pt x="982" y="44"/>
                </a:cubicBezTo>
                <a:cubicBezTo>
                  <a:pt x="725" y="0"/>
                  <a:pt x="864" y="19"/>
                  <a:pt x="338" y="37"/>
                </a:cubicBezTo>
                <a:cubicBezTo>
                  <a:pt x="293" y="39"/>
                  <a:pt x="270" y="81"/>
                  <a:pt x="230" y="91"/>
                </a:cubicBezTo>
                <a:cubicBezTo>
                  <a:pt x="189" y="119"/>
                  <a:pt x="151" y="149"/>
                  <a:pt x="101" y="159"/>
                </a:cubicBezTo>
                <a:cubicBezTo>
                  <a:pt x="89" y="161"/>
                  <a:pt x="49" y="169"/>
                  <a:pt x="47" y="173"/>
                </a:cubicBezTo>
                <a:cubicBezTo>
                  <a:pt x="42" y="188"/>
                  <a:pt x="47" y="204"/>
                  <a:pt x="47" y="220"/>
                </a:cubicBezTo>
              </a:path>
            </a:pathLst>
          </a:custGeom>
          <a:solidFill>
            <a:srgbClr val="b2ecb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 rot="3314400">
            <a:off x="6800760" y="1415520"/>
            <a:ext cx="2943360" cy="200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Bookman Old Style"/>
              </a:rPr>
              <a:t>Материк органических веществ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i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904760" cy="2417760"/>
          </a:xfrm>
          <a:prstGeom prst="rect">
            <a:avLst/>
          </a:prstGeom>
          <a:ln w="0">
            <a:noFill/>
          </a:ln>
        </p:spPr>
      </p:pic>
      <p:pic>
        <p:nvPicPr>
          <p:cNvPr id="241" name="1252851343_1252683917_121321" descr=""/>
          <p:cNvPicPr/>
          <p:nvPr/>
        </p:nvPicPr>
        <p:blipFill>
          <a:blip r:embed="rId2"/>
          <a:stretch/>
        </p:blipFill>
        <p:spPr>
          <a:xfrm>
            <a:off x="5580000" y="2421000"/>
            <a:ext cx="3429000" cy="42926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755640" y="2781360"/>
            <a:ext cx="47530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Игр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«Юный химик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Эрудит – лото</a:t>
            </a:r>
            <a:r>
              <a:rPr b="1" lang="en-US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3100" spc="-1" strike="noStrike">
                <a:solidFill>
                  <a:srgbClr val="000000"/>
                </a:solidFill>
                <a:latin typeface="Bookman Old Style"/>
              </a:rPr>
              <a:t>(10 </a:t>
            </a:r>
            <a:r>
              <a:rPr b="1" lang="ru-RU" sz="3100" spc="-1" strike="noStrike">
                <a:solidFill>
                  <a:srgbClr val="000000"/>
                </a:solidFill>
                <a:latin typeface="Bookman Old Style"/>
              </a:rPr>
              <a:t>баллов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Лаборатория </a:t>
            </a:r>
            <a:r>
              <a:rPr b="1" lang="ru-RU" sz="3100" spc="-1" strike="noStrike">
                <a:solidFill>
                  <a:srgbClr val="000000"/>
                </a:solidFill>
                <a:latin typeface="Bookman Old Style"/>
              </a:rPr>
              <a:t>(5 баллов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Лабиринт (6 баллов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74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Путешествие по материку неорганических веществ </a:t>
            </a:r>
            <a:r>
              <a:rPr b="1" lang="ru-RU" sz="3100" spc="-1" strike="noStrike">
                <a:solidFill>
                  <a:srgbClr val="000000"/>
                </a:solidFill>
                <a:latin typeface="Bookman Old Style"/>
              </a:rPr>
              <a:t>(10 баллов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man Old Style"/>
              </a:rPr>
              <a:t>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i" descr=""/>
          <p:cNvPicPr/>
          <p:nvPr/>
        </p:nvPicPr>
        <p:blipFill>
          <a:blip r:embed="rId1"/>
          <a:stretch/>
        </p:blipFill>
        <p:spPr>
          <a:xfrm>
            <a:off x="5340240" y="2565360"/>
            <a:ext cx="3152880" cy="40021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700360" y="1989000"/>
            <a:ext cx="63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Спасибо за игру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241128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i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904760" cy="2417760"/>
          </a:xfrm>
          <a:prstGeom prst="rect">
            <a:avLst/>
          </a:prstGeom>
          <a:ln w="0">
            <a:noFill/>
          </a:ln>
        </p:spPr>
      </p:pic>
      <p:pic>
        <p:nvPicPr>
          <p:cNvPr id="46" name="1252851343_1252683917_121321" descr=""/>
          <p:cNvPicPr/>
          <p:nvPr/>
        </p:nvPicPr>
        <p:blipFill>
          <a:blip r:embed="rId2"/>
          <a:stretch/>
        </p:blipFill>
        <p:spPr>
          <a:xfrm>
            <a:off x="5580000" y="2421000"/>
            <a:ext cx="3429000" cy="4292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278136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ЭРУДИТ - ЛО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904760" cy="2417760"/>
          </a:xfrm>
          <a:prstGeom prst="rect">
            <a:avLst/>
          </a:prstGeom>
          <a:ln w="0">
            <a:noFill/>
          </a:ln>
        </p:spPr>
      </p:pic>
      <p:pic>
        <p:nvPicPr>
          <p:cNvPr id="49" name="1252851343_1252683917_121321" descr=""/>
          <p:cNvPicPr/>
          <p:nvPr/>
        </p:nvPicPr>
        <p:blipFill>
          <a:blip r:embed="rId2"/>
          <a:stretch/>
        </p:blipFill>
        <p:spPr>
          <a:xfrm>
            <a:off x="5580000" y="2421000"/>
            <a:ext cx="3429000" cy="4292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278136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ЛАБОРАТОРИ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971640" y="1052640"/>
            <a:ext cx="7345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53" name="1251400054_cf017" descr="Химическая посуда и лабораторные принадлежности (часть-1)"/>
            <p:cNvPicPr/>
            <p:nvPr/>
          </p:nvPicPr>
          <p:blipFill>
            <a:blip r:embed="rId1"/>
            <a:srcRect l="0" t="0" r="0" b="7880"/>
            <a:stretch/>
          </p:blipFill>
          <p:spPr>
            <a:xfrm>
              <a:off x="395280" y="3857760"/>
              <a:ext cx="4176720" cy="271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i" descr=""/>
            <p:cNvPicPr/>
            <p:nvPr/>
          </p:nvPicPr>
          <p:blipFill>
            <a:blip r:embed="rId2"/>
            <a:stretch/>
          </p:blipFill>
          <p:spPr>
            <a:xfrm>
              <a:off x="6122880" y="0"/>
              <a:ext cx="2686320" cy="3594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3"/>
            <a:stretch/>
          </p:blipFill>
          <p:spPr>
            <a:xfrm>
              <a:off x="5076720" y="3500280"/>
              <a:ext cx="197496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3564000" y="404640"/>
              <a:ext cx="2185920" cy="273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5"/>
            <a:stretch/>
          </p:blipFill>
          <p:spPr>
            <a:xfrm>
              <a:off x="1042920" y="0"/>
              <a:ext cx="2024280" cy="36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 txBox="1"/>
            <p:nvPr/>
          </p:nvSpPr>
          <p:spPr>
            <a:xfrm>
              <a:off x="468360" y="404640"/>
              <a:ext cx="30492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1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3419640" y="404640"/>
              <a:ext cx="30456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2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60" name=""/>
            <p:cNvSpPr txBox="1"/>
            <p:nvPr/>
          </p:nvSpPr>
          <p:spPr>
            <a:xfrm>
              <a:off x="8028000" y="476280"/>
              <a:ext cx="30492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3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61" name=""/>
            <p:cNvSpPr txBox="1"/>
            <p:nvPr/>
          </p:nvSpPr>
          <p:spPr>
            <a:xfrm>
              <a:off x="3419640" y="3789360"/>
              <a:ext cx="30456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4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62" name=""/>
            <p:cNvSpPr txBox="1"/>
            <p:nvPr/>
          </p:nvSpPr>
          <p:spPr>
            <a:xfrm>
              <a:off x="5364000" y="6093000"/>
              <a:ext cx="304920" cy="55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5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0" y="3429000"/>
              <a:ext cx="442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Колба коническая плоскодонная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6491160"/>
              <a:ext cx="395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Ступка, пести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995640" y="189000"/>
              <a:ext cx="244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Мерный цилинд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128000" y="3573360"/>
              <a:ext cx="201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Штати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948360" y="5661000"/>
              <a:ext cx="201636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Химически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стакан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250920" y="115920"/>
            <a:ext cx="8785080" cy="6743520"/>
            <a:chOff x="250920" y="115920"/>
            <a:chExt cx="8785080" cy="674352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6156360" y="404640"/>
              <a:ext cx="2476440" cy="200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Зажим-держатель для пробирок"/>
            <p:cNvPicPr/>
            <p:nvPr/>
          </p:nvPicPr>
          <p:blipFill>
            <a:blip r:embed="rId2"/>
            <a:stretch/>
          </p:blipFill>
          <p:spPr>
            <a:xfrm>
              <a:off x="3348000" y="189000"/>
              <a:ext cx="2664000" cy="266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250920" y="3645000"/>
              <a:ext cx="4248000" cy="3068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1251400027_cf013" descr="Химическая посуда и лабораторные принадлежности (часть-1)"/>
            <p:cNvPicPr/>
            <p:nvPr/>
          </p:nvPicPr>
          <p:blipFill>
            <a:blip r:embed="rId4"/>
            <a:srcRect l="0" t="0" r="0" b="6818"/>
            <a:stretch/>
          </p:blipFill>
          <p:spPr>
            <a:xfrm>
              <a:off x="395280" y="260280"/>
              <a:ext cx="2579760" cy="338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" descr=""/>
            <p:cNvPicPr/>
            <p:nvPr/>
          </p:nvPicPr>
          <p:blipFill>
            <a:blip r:embed="rId5"/>
            <a:stretch/>
          </p:blipFill>
          <p:spPr>
            <a:xfrm>
              <a:off x="4643280" y="3643200"/>
              <a:ext cx="4105440" cy="308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 txBox="1"/>
            <p:nvPr/>
          </p:nvSpPr>
          <p:spPr>
            <a:xfrm>
              <a:off x="468360" y="189000"/>
              <a:ext cx="304920" cy="5522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6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75" name=""/>
            <p:cNvSpPr txBox="1"/>
            <p:nvPr/>
          </p:nvSpPr>
          <p:spPr>
            <a:xfrm>
              <a:off x="3851280" y="404640"/>
              <a:ext cx="30492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7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8459640" y="260280"/>
              <a:ext cx="30492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8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250920" y="3429000"/>
              <a:ext cx="30456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9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7812000" y="3573360"/>
              <a:ext cx="505080" cy="552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man Old Style"/>
                </a:rPr>
                <a:t>10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man Old Style"/>
                <a:ea typeface="Bookman Old Style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87280" y="115920"/>
              <a:ext cx="216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Спиртов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987640" y="2349360"/>
              <a:ext cx="324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Держатель для пробир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940360" y="2565360"/>
              <a:ext cx="30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Штатив для пробиро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116000" y="3645000"/>
              <a:ext cx="338472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Кристаллизато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6491160"/>
              <a:ext cx="2879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Bookman Old Style"/>
                </a:rPr>
                <a:t>Пробирк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1904760" cy="2417760"/>
          </a:xfrm>
          <a:prstGeom prst="rect">
            <a:avLst/>
          </a:prstGeom>
          <a:ln w="0">
            <a:noFill/>
          </a:ln>
        </p:spPr>
      </p:pic>
      <p:pic>
        <p:nvPicPr>
          <p:cNvPr id="85" name="1252851343_1252683917_121321" descr=""/>
          <p:cNvPicPr/>
          <p:nvPr/>
        </p:nvPicPr>
        <p:blipFill>
          <a:blip r:embed="rId2"/>
          <a:stretch/>
        </p:blipFill>
        <p:spPr>
          <a:xfrm>
            <a:off x="5580000" y="2421000"/>
            <a:ext cx="3429000" cy="42926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2781360"/>
            <a:ext cx="511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ЛАБИРИН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332000" y="-243000"/>
            <a:ext cx="5844960" cy="72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-243000"/>
            <a:ext cx="5844960" cy="7201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424240" y="1136520"/>
            <a:ext cx="3328920" cy="5543640"/>
          </a:xfrm>
          <a:custGeom>
            <a:avLst/>
            <a:gdLst/>
            <a:ahLst/>
            <a:rect l="l" t="t" r="r" b="b"/>
            <a:pathLst>
              <a:path w="2097" h="3492">
                <a:moveTo>
                  <a:pt x="0" y="5"/>
                </a:moveTo>
                <a:cubicBezTo>
                  <a:pt x="52" y="183"/>
                  <a:pt x="1" y="4"/>
                  <a:pt x="11" y="525"/>
                </a:cubicBezTo>
                <a:cubicBezTo>
                  <a:pt x="13" y="611"/>
                  <a:pt x="1" y="587"/>
                  <a:pt x="28" y="626"/>
                </a:cubicBezTo>
                <a:cubicBezTo>
                  <a:pt x="36" y="688"/>
                  <a:pt x="25" y="684"/>
                  <a:pt x="95" y="676"/>
                </a:cubicBezTo>
                <a:cubicBezTo>
                  <a:pt x="119" y="669"/>
                  <a:pt x="138" y="656"/>
                  <a:pt x="162" y="649"/>
                </a:cubicBezTo>
                <a:cubicBezTo>
                  <a:pt x="180" y="630"/>
                  <a:pt x="231" y="612"/>
                  <a:pt x="257" y="604"/>
                </a:cubicBezTo>
                <a:cubicBezTo>
                  <a:pt x="267" y="597"/>
                  <a:pt x="275" y="587"/>
                  <a:pt x="285" y="581"/>
                </a:cubicBezTo>
                <a:cubicBezTo>
                  <a:pt x="308" y="567"/>
                  <a:pt x="344" y="557"/>
                  <a:pt x="369" y="553"/>
                </a:cubicBezTo>
                <a:cubicBezTo>
                  <a:pt x="379" y="546"/>
                  <a:pt x="392" y="544"/>
                  <a:pt x="402" y="537"/>
                </a:cubicBezTo>
                <a:cubicBezTo>
                  <a:pt x="413" y="529"/>
                  <a:pt x="418" y="513"/>
                  <a:pt x="430" y="509"/>
                </a:cubicBezTo>
                <a:cubicBezTo>
                  <a:pt x="473" y="494"/>
                  <a:pt x="514" y="469"/>
                  <a:pt x="553" y="447"/>
                </a:cubicBezTo>
                <a:cubicBezTo>
                  <a:pt x="577" y="434"/>
                  <a:pt x="595" y="417"/>
                  <a:pt x="620" y="408"/>
                </a:cubicBezTo>
                <a:cubicBezTo>
                  <a:pt x="628" y="401"/>
                  <a:pt x="642" y="400"/>
                  <a:pt x="648" y="391"/>
                </a:cubicBezTo>
                <a:cubicBezTo>
                  <a:pt x="681" y="340"/>
                  <a:pt x="628" y="380"/>
                  <a:pt x="671" y="352"/>
                </a:cubicBezTo>
                <a:cubicBezTo>
                  <a:pt x="706" y="299"/>
                  <a:pt x="725" y="279"/>
                  <a:pt x="788" y="257"/>
                </a:cubicBezTo>
                <a:cubicBezTo>
                  <a:pt x="804" y="241"/>
                  <a:pt x="818" y="239"/>
                  <a:pt x="833" y="223"/>
                </a:cubicBezTo>
                <a:cubicBezTo>
                  <a:pt x="842" y="200"/>
                  <a:pt x="872" y="184"/>
                  <a:pt x="894" y="173"/>
                </a:cubicBezTo>
                <a:cubicBezTo>
                  <a:pt x="908" y="133"/>
                  <a:pt x="956" y="119"/>
                  <a:pt x="990" y="100"/>
                </a:cubicBezTo>
                <a:cubicBezTo>
                  <a:pt x="1019" y="84"/>
                  <a:pt x="1032" y="69"/>
                  <a:pt x="1062" y="61"/>
                </a:cubicBezTo>
                <a:cubicBezTo>
                  <a:pt x="1079" y="50"/>
                  <a:pt x="1096" y="49"/>
                  <a:pt x="1113" y="39"/>
                </a:cubicBezTo>
                <a:cubicBezTo>
                  <a:pt x="1125" y="33"/>
                  <a:pt x="1133" y="19"/>
                  <a:pt x="1146" y="17"/>
                </a:cubicBezTo>
                <a:cubicBezTo>
                  <a:pt x="1173" y="12"/>
                  <a:pt x="1198" y="6"/>
                  <a:pt x="1224" y="0"/>
                </a:cubicBezTo>
                <a:cubicBezTo>
                  <a:pt x="1397" y="3"/>
                  <a:pt x="1543" y="11"/>
                  <a:pt x="1711" y="5"/>
                </a:cubicBezTo>
                <a:cubicBezTo>
                  <a:pt x="1823" y="7"/>
                  <a:pt x="1934" y="6"/>
                  <a:pt x="2046" y="11"/>
                </a:cubicBezTo>
                <a:cubicBezTo>
                  <a:pt x="2097" y="14"/>
                  <a:pt x="2056" y="386"/>
                  <a:pt x="2024" y="503"/>
                </a:cubicBezTo>
                <a:cubicBezTo>
                  <a:pt x="2022" y="581"/>
                  <a:pt x="2041" y="756"/>
                  <a:pt x="1979" y="844"/>
                </a:cubicBezTo>
                <a:cubicBezTo>
                  <a:pt x="1970" y="876"/>
                  <a:pt x="1947" y="895"/>
                  <a:pt x="1923" y="917"/>
                </a:cubicBezTo>
                <a:cubicBezTo>
                  <a:pt x="1913" y="951"/>
                  <a:pt x="1905" y="995"/>
                  <a:pt x="1867" y="1006"/>
                </a:cubicBezTo>
                <a:cubicBezTo>
                  <a:pt x="1844" y="1031"/>
                  <a:pt x="1870" y="1008"/>
                  <a:pt x="1823" y="1023"/>
                </a:cubicBezTo>
                <a:cubicBezTo>
                  <a:pt x="1800" y="1030"/>
                  <a:pt x="1789" y="1054"/>
                  <a:pt x="1761" y="1062"/>
                </a:cubicBezTo>
                <a:cubicBezTo>
                  <a:pt x="1730" y="1084"/>
                  <a:pt x="1715" y="1080"/>
                  <a:pt x="1672" y="1085"/>
                </a:cubicBezTo>
                <a:cubicBezTo>
                  <a:pt x="1653" y="1102"/>
                  <a:pt x="1605" y="1135"/>
                  <a:pt x="1582" y="1146"/>
                </a:cubicBezTo>
                <a:cubicBezTo>
                  <a:pt x="1567" y="1162"/>
                  <a:pt x="1556" y="1178"/>
                  <a:pt x="1538" y="1191"/>
                </a:cubicBezTo>
                <a:cubicBezTo>
                  <a:pt x="1519" y="1217"/>
                  <a:pt x="1489" y="1220"/>
                  <a:pt x="1459" y="1230"/>
                </a:cubicBezTo>
                <a:cubicBezTo>
                  <a:pt x="1435" y="1238"/>
                  <a:pt x="1414" y="1249"/>
                  <a:pt x="1392" y="1258"/>
                </a:cubicBezTo>
                <a:cubicBezTo>
                  <a:pt x="1353" y="1273"/>
                  <a:pt x="1310" y="1274"/>
                  <a:pt x="1269" y="1280"/>
                </a:cubicBezTo>
                <a:cubicBezTo>
                  <a:pt x="1240" y="1301"/>
                  <a:pt x="1225" y="1298"/>
                  <a:pt x="1185" y="1303"/>
                </a:cubicBezTo>
                <a:cubicBezTo>
                  <a:pt x="1150" y="1325"/>
                  <a:pt x="1111" y="1357"/>
                  <a:pt x="1073" y="1375"/>
                </a:cubicBezTo>
                <a:cubicBezTo>
                  <a:pt x="1032" y="1434"/>
                  <a:pt x="1084" y="1371"/>
                  <a:pt x="1034" y="1403"/>
                </a:cubicBezTo>
                <a:cubicBezTo>
                  <a:pt x="1028" y="1407"/>
                  <a:pt x="1028" y="1415"/>
                  <a:pt x="1023" y="1420"/>
                </a:cubicBezTo>
                <a:cubicBezTo>
                  <a:pt x="1017" y="1427"/>
                  <a:pt x="1008" y="1431"/>
                  <a:pt x="1001" y="1437"/>
                </a:cubicBezTo>
                <a:cubicBezTo>
                  <a:pt x="952" y="1435"/>
                  <a:pt x="899" y="1452"/>
                  <a:pt x="855" y="1431"/>
                </a:cubicBezTo>
                <a:cubicBezTo>
                  <a:pt x="837" y="1422"/>
                  <a:pt x="858" y="1390"/>
                  <a:pt x="861" y="1370"/>
                </a:cubicBezTo>
                <a:cubicBezTo>
                  <a:pt x="870" y="1317"/>
                  <a:pt x="896" y="1265"/>
                  <a:pt x="911" y="1213"/>
                </a:cubicBezTo>
                <a:cubicBezTo>
                  <a:pt x="915" y="1172"/>
                  <a:pt x="916" y="1152"/>
                  <a:pt x="928" y="1118"/>
                </a:cubicBezTo>
                <a:cubicBezTo>
                  <a:pt x="939" y="1035"/>
                  <a:pt x="925" y="947"/>
                  <a:pt x="950" y="867"/>
                </a:cubicBezTo>
                <a:cubicBezTo>
                  <a:pt x="942" y="822"/>
                  <a:pt x="938" y="830"/>
                  <a:pt x="900" y="816"/>
                </a:cubicBezTo>
                <a:cubicBezTo>
                  <a:pt x="837" y="824"/>
                  <a:pt x="841" y="833"/>
                  <a:pt x="799" y="872"/>
                </a:cubicBezTo>
                <a:cubicBezTo>
                  <a:pt x="787" y="929"/>
                  <a:pt x="774" y="972"/>
                  <a:pt x="738" y="1018"/>
                </a:cubicBezTo>
                <a:cubicBezTo>
                  <a:pt x="723" y="1037"/>
                  <a:pt x="712" y="1059"/>
                  <a:pt x="688" y="1068"/>
                </a:cubicBezTo>
                <a:cubicBezTo>
                  <a:pt x="655" y="1115"/>
                  <a:pt x="698" y="1058"/>
                  <a:pt x="660" y="1096"/>
                </a:cubicBezTo>
                <a:cubicBezTo>
                  <a:pt x="632" y="1124"/>
                  <a:pt x="609" y="1157"/>
                  <a:pt x="576" y="1180"/>
                </a:cubicBezTo>
                <a:cubicBezTo>
                  <a:pt x="567" y="1206"/>
                  <a:pt x="544" y="1213"/>
                  <a:pt x="525" y="1230"/>
                </a:cubicBezTo>
                <a:cubicBezTo>
                  <a:pt x="518" y="1254"/>
                  <a:pt x="509" y="1278"/>
                  <a:pt x="486" y="1286"/>
                </a:cubicBezTo>
                <a:cubicBezTo>
                  <a:pt x="463" y="1309"/>
                  <a:pt x="457" y="1343"/>
                  <a:pt x="425" y="1353"/>
                </a:cubicBezTo>
                <a:cubicBezTo>
                  <a:pt x="421" y="1364"/>
                  <a:pt x="420" y="1377"/>
                  <a:pt x="414" y="1387"/>
                </a:cubicBezTo>
                <a:cubicBezTo>
                  <a:pt x="408" y="1397"/>
                  <a:pt x="398" y="1405"/>
                  <a:pt x="391" y="1415"/>
                </a:cubicBezTo>
                <a:cubicBezTo>
                  <a:pt x="371" y="1479"/>
                  <a:pt x="343" y="1617"/>
                  <a:pt x="414" y="1638"/>
                </a:cubicBezTo>
                <a:cubicBezTo>
                  <a:pt x="416" y="1649"/>
                  <a:pt x="413" y="1662"/>
                  <a:pt x="419" y="1672"/>
                </a:cubicBezTo>
                <a:cubicBezTo>
                  <a:pt x="427" y="1686"/>
                  <a:pt x="453" y="1705"/>
                  <a:pt x="453" y="1705"/>
                </a:cubicBezTo>
                <a:cubicBezTo>
                  <a:pt x="462" y="1725"/>
                  <a:pt x="465" y="1742"/>
                  <a:pt x="481" y="1756"/>
                </a:cubicBezTo>
                <a:cubicBezTo>
                  <a:pt x="489" y="1785"/>
                  <a:pt x="509" y="1820"/>
                  <a:pt x="531" y="1840"/>
                </a:cubicBezTo>
                <a:cubicBezTo>
                  <a:pt x="541" y="1849"/>
                  <a:pt x="564" y="1862"/>
                  <a:pt x="564" y="1862"/>
                </a:cubicBezTo>
                <a:cubicBezTo>
                  <a:pt x="576" y="1895"/>
                  <a:pt x="601" y="1912"/>
                  <a:pt x="620" y="1940"/>
                </a:cubicBezTo>
                <a:cubicBezTo>
                  <a:pt x="639" y="1967"/>
                  <a:pt x="655" y="1998"/>
                  <a:pt x="682" y="2019"/>
                </a:cubicBezTo>
                <a:cubicBezTo>
                  <a:pt x="692" y="2027"/>
                  <a:pt x="728" y="2056"/>
                  <a:pt x="743" y="2063"/>
                </a:cubicBezTo>
                <a:cubicBezTo>
                  <a:pt x="754" y="2068"/>
                  <a:pt x="777" y="2075"/>
                  <a:pt x="777" y="2075"/>
                </a:cubicBezTo>
                <a:cubicBezTo>
                  <a:pt x="783" y="2080"/>
                  <a:pt x="787" y="2087"/>
                  <a:pt x="794" y="2091"/>
                </a:cubicBezTo>
                <a:cubicBezTo>
                  <a:pt x="801" y="2095"/>
                  <a:pt x="810" y="2093"/>
                  <a:pt x="816" y="2097"/>
                </a:cubicBezTo>
                <a:cubicBezTo>
                  <a:pt x="858" y="2126"/>
                  <a:pt x="789" y="2106"/>
                  <a:pt x="850" y="2119"/>
                </a:cubicBezTo>
                <a:cubicBezTo>
                  <a:pt x="874" y="2136"/>
                  <a:pt x="900" y="2139"/>
                  <a:pt x="928" y="2147"/>
                </a:cubicBezTo>
                <a:cubicBezTo>
                  <a:pt x="966" y="2172"/>
                  <a:pt x="961" y="2173"/>
                  <a:pt x="1012" y="2181"/>
                </a:cubicBezTo>
                <a:cubicBezTo>
                  <a:pt x="1045" y="2202"/>
                  <a:pt x="1051" y="2240"/>
                  <a:pt x="1062" y="2276"/>
                </a:cubicBezTo>
                <a:cubicBezTo>
                  <a:pt x="1073" y="2356"/>
                  <a:pt x="1059" y="2450"/>
                  <a:pt x="1085" y="2522"/>
                </a:cubicBezTo>
                <a:cubicBezTo>
                  <a:pt x="1078" y="2738"/>
                  <a:pt x="1131" y="2703"/>
                  <a:pt x="1001" y="2723"/>
                </a:cubicBezTo>
                <a:cubicBezTo>
                  <a:pt x="812" y="2846"/>
                  <a:pt x="403" y="2767"/>
                  <a:pt x="302" y="2768"/>
                </a:cubicBezTo>
                <a:cubicBezTo>
                  <a:pt x="248" y="2787"/>
                  <a:pt x="270" y="2885"/>
                  <a:pt x="290" y="2930"/>
                </a:cubicBezTo>
                <a:cubicBezTo>
                  <a:pt x="298" y="2948"/>
                  <a:pt x="346" y="2953"/>
                  <a:pt x="346" y="2953"/>
                </a:cubicBezTo>
                <a:cubicBezTo>
                  <a:pt x="360" y="2972"/>
                  <a:pt x="369" y="2973"/>
                  <a:pt x="391" y="2980"/>
                </a:cubicBezTo>
                <a:cubicBezTo>
                  <a:pt x="401" y="3008"/>
                  <a:pt x="431" y="3022"/>
                  <a:pt x="453" y="3042"/>
                </a:cubicBezTo>
                <a:cubicBezTo>
                  <a:pt x="461" y="3071"/>
                  <a:pt x="487" y="3080"/>
                  <a:pt x="497" y="3109"/>
                </a:cubicBezTo>
                <a:cubicBezTo>
                  <a:pt x="501" y="3119"/>
                  <a:pt x="505" y="3136"/>
                  <a:pt x="514" y="3143"/>
                </a:cubicBezTo>
                <a:cubicBezTo>
                  <a:pt x="523" y="3150"/>
                  <a:pt x="537" y="3149"/>
                  <a:pt x="548" y="3154"/>
                </a:cubicBezTo>
                <a:cubicBezTo>
                  <a:pt x="575" y="3168"/>
                  <a:pt x="586" y="3193"/>
                  <a:pt x="604" y="3215"/>
                </a:cubicBezTo>
                <a:cubicBezTo>
                  <a:pt x="618" y="3232"/>
                  <a:pt x="627" y="3247"/>
                  <a:pt x="648" y="3254"/>
                </a:cubicBezTo>
                <a:cubicBezTo>
                  <a:pt x="659" y="3258"/>
                  <a:pt x="682" y="3266"/>
                  <a:pt x="682" y="3266"/>
                </a:cubicBezTo>
                <a:cubicBezTo>
                  <a:pt x="702" y="3295"/>
                  <a:pt x="707" y="3308"/>
                  <a:pt x="743" y="3316"/>
                </a:cubicBezTo>
                <a:cubicBezTo>
                  <a:pt x="768" y="3339"/>
                  <a:pt x="782" y="3350"/>
                  <a:pt x="816" y="3355"/>
                </a:cubicBezTo>
                <a:cubicBezTo>
                  <a:pt x="841" y="3371"/>
                  <a:pt x="843" y="3397"/>
                  <a:pt x="872" y="3405"/>
                </a:cubicBezTo>
                <a:cubicBezTo>
                  <a:pt x="895" y="3430"/>
                  <a:pt x="941" y="3434"/>
                  <a:pt x="973" y="3439"/>
                </a:cubicBezTo>
                <a:cubicBezTo>
                  <a:pt x="992" y="3452"/>
                  <a:pt x="1006" y="3456"/>
                  <a:pt x="1029" y="3461"/>
                </a:cubicBezTo>
                <a:cubicBezTo>
                  <a:pt x="1049" y="3492"/>
                  <a:pt x="1063" y="3484"/>
                  <a:pt x="1101" y="3484"/>
                </a:cubicBezTo>
              </a:path>
            </a:pathLst>
          </a:custGeom>
          <a:noFill/>
          <a:ln w="572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0T15:42:48Z</dcterms:created>
  <dc:creator>Бартновская В.В.</dc:creator>
  <dc:description/>
  <dc:language>en-US</dc:language>
  <cp:lastModifiedBy>Бартновская В.В.</cp:lastModifiedBy>
  <dcterms:modified xsi:type="dcterms:W3CDTF">2011-06-22T14:33:42Z</dcterms:modified>
  <cp:revision>31</cp:revision>
  <dc:subject/>
  <dc:title>Слайд 1</dc:title>
</cp:coreProperties>
</file>