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EAD-7F37-44B2-81A7-00EBEE9D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3AE-C9A2-4654-ACD0-CEEDCE97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E391-4EF5-46F2-9E9D-99C3E00C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C330-820E-490A-A03B-BCC71FF1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594C-D35F-4A27-9627-FB693D96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9445-4882-495E-8878-4025746D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E7AA-5501-45FF-8B01-78540666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C7C8-DC84-4DCB-8BFB-226BAA94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2962-D93A-4A55-A0B9-4C868D78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498B-5164-410E-A86D-4095DECB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399A-3265-4C54-ADAE-89A82248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275F-D353-4AA0-8976-FD47E60F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54F8-3E13-4A54-A040-7DFC87A8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C6A8-CC96-4F3A-B187-FD9B27B5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C4E4-2366-4F21-9116-BAED235F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F821-E698-49E8-9CA9-F9F3C604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E9FF-B4F3-49B3-A36F-F17FBF73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600E-560B-48DC-9D74-96A5D14C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CBD-F9C0-470B-B5A5-912E2122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A80-83B9-46D5-98D4-CB038094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0429-8442-4CB8-9093-CA62B7B1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5A6-A067-41EF-B1CB-2BEC696B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5F42-DE63-4864-969B-214297BD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BDD-EEC7-4176-AE96-6F898B71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34A2-9435-4051-B30A-23A64DB1F8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D077-7759-47BB-A993-66F3C0F9C3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68000" y="5300640"/>
            <a:ext cx="6551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Bookman Old Style"/>
              </a:rPr>
              <a:t>Интеллектуальная игра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Bookman Old Style"/>
              </a:rPr>
              <a:t>для 10 классов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-360" y="333360"/>
            <a:ext cx="72010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«Знатоки химии»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Bookman Old Style"/>
              </a:rPr>
              <a:t>«Детский» вопрос</a:t>
            </a: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Маленькому мальчику Пете купили конструктор «Лего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етя взял 4 красных и 8 синих деталек и собрал паровозик. Когда паровозик ему надоел, он его разобрал и из этих 12 деталек собрал машинку. Действуя методом мальчика Пети, проделайте на бумаге то же самое, если в вашем распоряжении 4 атома углерода и 8 атомов водор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50920" y="549360"/>
            <a:ext cx="3529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C=CH –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–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бутен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557360"/>
            <a:ext cx="24480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C=C –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198900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2133720"/>
            <a:ext cx="12952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256536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2565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2 -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метилпроп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2997360"/>
            <a:ext cx="29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3141720"/>
            <a:ext cx="36003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C – CH=CH –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бутен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47242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C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332000" y="458136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68360" y="515772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5157720"/>
            <a:ext cx="1443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4581360"/>
            <a:ext cx="14472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4149720"/>
            <a:ext cx="93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4149720"/>
            <a:ext cx="79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5300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68640" y="530208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цис – бутен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20000" y="189000"/>
            <a:ext cx="18730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2000" y="620640"/>
            <a:ext cx="374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–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00720" y="1052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35640" y="1052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1341360"/>
            <a:ext cx="316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–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1773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циклобу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1640" y="2708280"/>
            <a:ext cx="201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11640" y="2924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C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51640" y="3357720"/>
            <a:ext cx="1443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59280" y="2781360"/>
            <a:ext cx="1443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724360" y="270828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59280" y="3357360"/>
            <a:ext cx="1429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234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61000" y="357336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43560" y="3573360"/>
            <a:ext cx="70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80000" y="2349360"/>
            <a:ext cx="115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00720" y="4076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транс – бутен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5013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716360" y="544500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51640" y="5445000"/>
            <a:ext cx="50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364000" y="486900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27640" y="573408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5734080"/>
            <a:ext cx="13687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35640" y="436572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92720" y="443700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6165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метилциклопро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5950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Bookman Old Style"/>
              </a:rPr>
              <a:t>Криминальное агентство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5097" t="16125" r="33717" b="3275"/>
          <a:stretch/>
        </p:blipFill>
        <p:spPr>
          <a:xfrm>
            <a:off x="1187280" y="0"/>
            <a:ext cx="6769440" cy="3933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292720" y="2133720"/>
            <a:ext cx="57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76720" y="213372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1413000"/>
            <a:ext cx="720720" cy="52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ррр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0920" y="1413000"/>
            <a:ext cx="720720" cy="52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ррр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716280"/>
            <a:ext cx="842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 тюрьму города С-Петербурга привезли двух преступников по фамилиям: Этанович и Этиленович. Преступники по внешнему виду были так похожи друг на друга, что их, чтобы не перепутать, поместили в разные камеры. Привезли преступников ночью и надзиратель, спросонья, не запомнил какой преступник в какой камере. Поэтому, утром, пришлось вызывать группу экспертов – криминалистов для установления личности каждого. Выполните работу экспер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5097" t="16125" r="33717" b="3275"/>
          <a:stretch/>
        </p:blipFill>
        <p:spPr>
          <a:xfrm>
            <a:off x="971640" y="0"/>
            <a:ext cx="7778520" cy="5229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116000" y="1989000"/>
            <a:ext cx="13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03280" y="1844640"/>
            <a:ext cx="187164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1844640"/>
            <a:ext cx="216036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373720"/>
            <a:ext cx="8136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предельные углеводороды обесцвечивают раствор бромной воды, а предельные -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=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+ B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=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Br -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B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Bookman Old Style"/>
              </a:rPr>
              <a:t>Страна превращений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5564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Отправился как-то раз метан на рыбалку, прихватив по дороге в магазине шоколадку в красивой блестящей обертке под названием «Катализатор». Название больно понравилось!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На берегу речки разбил палатку, развел костерок, разомлел на солнышке, достал шоколадку, откусил и ….. Вдруг кажется метану, что стал он совсем другим человеком: нет прежней легкости в движении, появились два странных </a:t>
            </a: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П</a:t>
            </a: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 – ореола. Но дело к вечеру, горемыка уснул, и скатился в костер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Не пугайтесь! Костер к тому времени совсем затух, одни раскаленные угли осталис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На утро, идущие мимо прохожие заметили лишь небольшую лужицу со странным запахом недалеко от палатки метан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>
            <a:lum contrast="60000"/>
          </a:blip>
          <a:stretch/>
        </p:blipFill>
        <p:spPr>
          <a:xfrm>
            <a:off x="7020000" y="3789360"/>
            <a:ext cx="1728720" cy="1800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9640" y="4149720"/>
            <a:ext cx="35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C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≡ C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1989000"/>
            <a:ext cx="749016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5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C ≡ 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56000" y="4653000"/>
            <a:ext cx="2160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86064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, 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43280" y="2492280"/>
            <a:ext cx="1944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32000" y="177336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,k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59280" y="2492280"/>
            <a:ext cx="1511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3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" y="299736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19640" y="2997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цети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3640" y="580536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нзо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2268000" y="5300640"/>
            <a:ext cx="6551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Bookman Old Style"/>
              </a:rPr>
              <a:t>Интеллектуальная игра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Bookman Old Style"/>
              </a:rPr>
              <a:t>для 10 классов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-360" y="333360"/>
            <a:ext cx="72010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«Знатоки химии»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Bookman Old Style"/>
              </a:rPr>
              <a:t>Эрудит – лото</a:t>
            </a:r>
            <a:r>
              <a:rPr b="1" lang="en-US" sz="3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(10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баллов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Bookman Old Style"/>
              </a:rPr>
              <a:t>Лабиринт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(5 баллов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Bookman Old Style"/>
              </a:rPr>
              <a:t>Лаборатория моделирования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(4 балла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Bookman Old Style"/>
              </a:rPr>
              <a:t>«Детский» вопрос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(6 баллов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Bookman Old Style"/>
              </a:rPr>
              <a:t>Криминальное агентство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(2 балла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Bookman Old Style"/>
              </a:rPr>
              <a:t>Страна превращений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(3 балла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920" y="2276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Bookman Old Style"/>
              </a:rPr>
              <a:t>СПАСИБО ЗА ИГРУ!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Bookman Old Style"/>
              </a:rPr>
              <a:t>Эрудит - лото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Bookman Old Style"/>
              </a:rPr>
              <a:t>Лабиринт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0" r="0" b="7642"/>
          <a:stretch/>
        </p:blipFill>
        <p:spPr>
          <a:xfrm>
            <a:off x="1042920" y="162000"/>
            <a:ext cx="671184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0" t="0" r="0" b="7642"/>
          <a:stretch/>
        </p:blipFill>
        <p:spPr>
          <a:xfrm>
            <a:off x="1116000" y="0"/>
            <a:ext cx="6711840" cy="6696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>
            <a:off x="2123640" y="1125360"/>
            <a:ext cx="71640" cy="165420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2781360"/>
            <a:ext cx="792360" cy="107928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916360" y="3357360"/>
            <a:ext cx="1439640" cy="50292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56000" y="1916280"/>
            <a:ext cx="0" cy="144144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356000" y="981000"/>
            <a:ext cx="503280" cy="93528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59280" y="981000"/>
            <a:ext cx="1584360" cy="1443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43640" y="1125360"/>
            <a:ext cx="0" cy="179892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2852640"/>
            <a:ext cx="289080" cy="129708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156000" y="4149720"/>
            <a:ext cx="576360" cy="79200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211640" y="4941720"/>
            <a:ext cx="1944720" cy="50328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1640" y="5445000"/>
            <a:ext cx="0" cy="86364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060640"/>
            <a:ext cx="81565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Bookman Old Style"/>
              </a:rPr>
              <a:t>Лаборатория моделирования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468360" y="333360"/>
            <a:ext cx="3527280" cy="259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643280" y="260280"/>
            <a:ext cx="3818160" cy="2737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>
            <a:lum contrast="16000"/>
          </a:blip>
          <a:stretch/>
        </p:blipFill>
        <p:spPr>
          <a:xfrm>
            <a:off x="4716360" y="3141720"/>
            <a:ext cx="3745080" cy="3240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539640" y="3141720"/>
            <a:ext cx="352764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419640" y="260280"/>
            <a:ext cx="863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01080" y="189000"/>
            <a:ext cx="863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2997360"/>
            <a:ext cx="863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01080" y="2997360"/>
            <a:ext cx="863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24000" y="189000"/>
            <a:ext cx="3024000" cy="2233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003640" y="189000"/>
            <a:ext cx="3095640" cy="2305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>
            <a:lum contrast="16000"/>
          </a:blip>
          <a:stretch/>
        </p:blipFill>
        <p:spPr>
          <a:xfrm>
            <a:off x="5076720" y="3141720"/>
            <a:ext cx="3167280" cy="2808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50920" y="3141720"/>
            <a:ext cx="3241440" cy="2808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4000" y="249228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н,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ru-RU" sz="4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76720" y="249228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ен,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ru-RU" sz="4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602136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нзол,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ru-RU" sz="4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3640" y="602136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ин,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26028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80360" y="18900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292428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80360" y="299736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2:24:01Z</dcterms:created>
  <dc:creator>Julia</dc:creator>
  <dc:description/>
  <dc:language>en-US</dc:language>
  <cp:lastModifiedBy>Julia</cp:lastModifiedBy>
  <dcterms:modified xsi:type="dcterms:W3CDTF">2008-02-07T14:31:06Z</dcterms:modified>
  <cp:revision>49</cp:revision>
  <dc:subject/>
  <dc:title>Слайд 1</dc:title>
</cp:coreProperties>
</file>